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36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10.png" ContentType="image/png"/>
  <Override PartName="/ppt/media/image47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8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51D6-D8D4-436C-B444-EED4158C7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C1B6-8803-41CE-8ED6-8B0B9B87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70F3D-A52A-42C5-94DD-F5AD8FD10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560-4CF0-4D5D-9BD1-04B5C7EF7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2966A-74C6-4A58-8992-A83AE5B8A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C666-B4C8-491D-84EF-C7C37E92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31116-1D8E-4FFF-AF2E-FDBB2D645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480A9-FE34-4EC4-B008-5172E029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CBFC-B2BF-432F-B1A7-47C58755D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405F-1C9D-4286-98E2-A8447404E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BBC70-484C-4DBC-AFB1-F94F0B25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67B-61B8-4882-98BB-5C299D947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BB8F-F572-4BD3-8CB4-43F2B7C7E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458DF-AB57-491A-9BC1-F3D933E8D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4564-7002-4C52-9746-249E39DF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795B1-3531-4E2B-BEEC-EC1182EA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6906-6637-44C4-975D-8296038EC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9A6531-F870-4978-BCA6-43A179BA3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16B555-FB10-450E-97EE-27E45DF8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D16C9-896A-4766-A6A1-5571C97E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BFF7D-3DB6-457D-B90B-7ED2C83DB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FC54B-F64E-4087-B2DB-80FEDA5C9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C6CD-FDA0-4DFB-8E4E-875C33AE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09326-9BF9-4E37-8F8E-8B27189B1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CFA3-7F06-42D3-B242-5F112BE7B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D54B52-2562-40CD-B356-0B5172EF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61C747-F8F7-4310-865F-764A940A5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AEED6-FAFF-48C2-B4FD-89C867EF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8DD43-7FD6-485D-89A6-442D8CE46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4F68B-CB61-4BC8-AD12-441EA91EF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D0FA9-6F24-4899-9634-971F830FF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A2832E-CEF6-41B7-9908-4684A2A09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00C35-F410-4436-9F89-F5FEB0E9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46B5-081E-480A-8A6E-051D0D16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EF0BF-15E1-4800-8701-7F303876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A18B3-30C2-4CFA-BFC7-73E746FC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30F53E-28EE-4F17-B8A9-B97765E39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952F5-3A0F-4BBF-829C-A3276087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EB077C-202A-49DC-A96F-951BFC53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D9F9EB-B241-4A34-8533-2819F7C8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9FDCF-785C-4C8E-B015-9F837924E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76CA9-B100-4428-94DF-B4DE41F8B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83274-0A1A-49B9-8EE8-5E7A5822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427CB-F4C6-4E57-B0EE-17F5F05D2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591C-D00D-4D10-A38D-8B1773EE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E6207-CDC1-43F0-9DF7-8D9BBAE8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73EC0C-25BF-47DA-B9C5-ABAC2003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10689-43D6-4D62-949C-0DB667187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3A7697-D368-45A4-9E13-D08F28CFC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4CE49-89EB-44FA-90BD-E4D724E38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AE34A-961A-40FF-80FF-5B2976F00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037279-A3D3-4233-8822-E0E6ACC09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5397D-0A2A-430E-AC0C-A59721FA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DB3DF-F1B3-4979-8FEE-8CCF9B63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2A248-FDEA-4957-A714-1489D019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D654-774B-412D-B874-0B73DE572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0CCDE-257F-4562-82D0-2C0BB736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4A7BD-E6CD-4B5B-9688-E03A5331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4ED1-845A-474E-B189-E4A02C736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891E-437C-45CE-8BA1-84956E9FC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Zaoblený obdélník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Zaoblený obdélník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Zaoblený obdélník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7F54-B6B7-4D9E-93EA-25C689A7F1C3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0D122-E5FB-44E2-99DD-AE18777C380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Zaoblený obdélník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8D116-CDCE-40E3-B66E-1D356E311757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94228-3706-4496-8BA6-35590AA88DA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Zaoblený obdélník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Zaoblený obdélník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3834-355E-4FF9-B54C-9881C79F7523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9F47A-ADCC-4D28-B15A-1FD87626395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6641-3A9E-48D6-984A-610322BB3157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53A0-E733-48F6-93FB-3B761AFCA2B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Zaoblený obdélník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bdélník s jedním zakulaceným rohem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4FC9C-3410-4B8C-92A9-058520740FEF}" type="datetime">
              <a:rPr b="0" lang="cs-CZ" sz="1000" spc="-1" strike="noStrike">
                <a:solidFill>
                  <a:srgbClr val="a7a399"/>
                </a:solidFill>
                <a:latin typeface="Verdana"/>
              </a:rPr>
              <a:t>28.07.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FA5B-18A0-4165-93E2-A3DA9CBC98F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thenxtstep.blogspot.com/2006/05/how-robocenter-works.html" TargetMode="External"/><Relationship Id="rId2" Type="http://schemas.openxmlformats.org/officeDocument/2006/relationships/hyperlink" Target="http://mindstorms.lego.com/en-us/whatisnxt/default.aspx" TargetMode="External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www.ortop.org/NXT_Tutorial/html/essentials.html" TargetMode="External"/><Relationship Id="rId2" Type="http://schemas.openxmlformats.org/officeDocument/2006/relationships/hyperlink" Target="http://www.ni.com/academic/mindstorms/works.htm" TargetMode="External"/><Relationship Id="rId3" Type="http://schemas.openxmlformats.org/officeDocument/2006/relationships/hyperlink" Target="http://www.botmag.com/articles/10-31-07_NXT.shtml" TargetMode="External"/><Relationship Id="rId4" Type="http://schemas.openxmlformats.org/officeDocument/2006/relationships/hyperlink" Target="http://www.teamhassenplug.org/NXT/NXTSoftware.html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85880" y="135684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100" spc="-1" strike="noStrike">
                <a:solidFill>
                  <a:srgbClr val="ff8d3e"/>
                </a:solidFill>
                <a:latin typeface="Verdana"/>
              </a:rPr>
              <a:t>Návod na programování  v NXT- G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500040" y="1642680"/>
            <a:ext cx="8072640" cy="178596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79766f"/>
                </a:solidFill>
                <a:latin typeface="Verdana"/>
              </a:rPr>
              <a:t>JAROSLAV MAR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Obrázek 3" descr="UvodniSLide_robot.jpg"/>
          <p:cNvPicPr/>
          <p:nvPr/>
        </p:nvPicPr>
        <p:blipFill>
          <a:blip r:embed="rId1"/>
          <a:stretch/>
        </p:blipFill>
        <p:spPr>
          <a:xfrm>
            <a:off x="500040" y="3857760"/>
            <a:ext cx="2428920" cy="2428920"/>
          </a:xfrm>
          <a:prstGeom prst="rect">
            <a:avLst/>
          </a:prstGeom>
          <a:ln w="0">
            <a:noFill/>
          </a:ln>
        </p:spPr>
      </p:pic>
      <p:pic>
        <p:nvPicPr>
          <p:cNvPr id="223" name="Obrázek 4" descr="UvodniObrazek_stir.jpg"/>
          <p:cNvPicPr/>
          <p:nvPr/>
        </p:nvPicPr>
        <p:blipFill>
          <a:blip r:embed="rId2"/>
          <a:stretch/>
        </p:blipFill>
        <p:spPr>
          <a:xfrm>
            <a:off x="3071880" y="3857760"/>
            <a:ext cx="2714400" cy="2579400"/>
          </a:xfrm>
          <a:prstGeom prst="rect">
            <a:avLst/>
          </a:prstGeom>
          <a:ln w="0">
            <a:noFill/>
          </a:ln>
        </p:spPr>
      </p:pic>
      <p:pic>
        <p:nvPicPr>
          <p:cNvPr id="224" name="Obrázek 5" descr="UvodniObrazek_ruka.jpg"/>
          <p:cNvPicPr/>
          <p:nvPr/>
        </p:nvPicPr>
        <p:blipFill>
          <a:blip r:embed="rId3"/>
          <a:stretch/>
        </p:blipFill>
        <p:spPr>
          <a:xfrm>
            <a:off x="5786280" y="3857760"/>
            <a:ext cx="3008520" cy="2214360"/>
          </a:xfrm>
          <a:prstGeom prst="rect">
            <a:avLst/>
          </a:prstGeom>
          <a:ln w="0">
            <a:noFill/>
          </a:ln>
        </p:spPr>
      </p:pic>
      <p:sp>
        <p:nvSpPr>
          <p:cNvPr id="225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80F7-65D8-456F-9691-9E16BA385CB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Vytvoření nového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4000"/>
          </a:bodyPr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Způsob – klávesová zkratka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trl + 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aždému vytvořenému programu přísluší záložka s programovací ploch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i vytvoření více programů lze mezi nimi přepínat právě pomocí zálož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48760" indent="-2487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gram můžete uzavřít „křížkem“, z roletové nabídky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ile -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 Clos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ebo klávesovou zkratkou Ctrl + W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8" name="Obrázek 6" descr="PrepinaniMeziProgrami.png"/>
          <p:cNvPicPr/>
          <p:nvPr/>
        </p:nvPicPr>
        <p:blipFill>
          <a:blip r:embed="rId1"/>
          <a:stretch/>
        </p:blipFill>
        <p:spPr>
          <a:xfrm>
            <a:off x="1428840" y="3929040"/>
            <a:ext cx="6431040" cy="1082520"/>
          </a:xfrm>
          <a:prstGeom prst="rect">
            <a:avLst/>
          </a:prstGeom>
          <a:ln w="0">
            <a:noFill/>
          </a:ln>
        </p:spPr>
      </p:pic>
      <p:sp>
        <p:nvSpPr>
          <p:cNvPr id="259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22F1-ED68-4961-9722-19B983E58DD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Ulož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Způsob – z roletové nabídky  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Krok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3. 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2" name="Obrázek 4" descr="UlozeniProgramu_roletovaNabidka.png"/>
          <p:cNvPicPr/>
          <p:nvPr/>
        </p:nvPicPr>
        <p:blipFill>
          <a:blip r:embed="rId1"/>
          <a:stretch/>
        </p:blipFill>
        <p:spPr>
          <a:xfrm>
            <a:off x="642960" y="2143080"/>
            <a:ext cx="1500120" cy="2260800"/>
          </a:xfrm>
          <a:prstGeom prst="rect">
            <a:avLst/>
          </a:prstGeom>
          <a:ln w="0">
            <a:noFill/>
          </a:ln>
        </p:spPr>
      </p:pic>
      <p:sp>
        <p:nvSpPr>
          <p:cNvPr id="263" name="Šipka doprava 6"/>
          <p:cNvSpPr/>
          <p:nvPr/>
        </p:nvSpPr>
        <p:spPr>
          <a:xfrm>
            <a:off x="2357280" y="2214720"/>
            <a:ext cx="3357720" cy="214200"/>
          </a:xfrm>
          <a:prstGeom prst="rightArrow">
            <a:avLst>
              <a:gd name="adj1" fmla="val 50000"/>
              <a:gd name="adj2" fmla="val 50002"/>
            </a:avLst>
          </a:prstGeom>
          <a:solidFill>
            <a:srgbClr val="ffffff"/>
          </a:solidFill>
          <a:ln w="424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Obrázek 7" descr="UlozeniProgramu_roletovaNabidka_Okno1.png"/>
          <p:cNvPicPr/>
          <p:nvPr/>
        </p:nvPicPr>
        <p:blipFill>
          <a:blip r:embed="rId2"/>
          <a:stretch/>
        </p:blipFill>
        <p:spPr>
          <a:xfrm>
            <a:off x="5786280" y="1714680"/>
            <a:ext cx="2800440" cy="1776240"/>
          </a:xfrm>
          <a:prstGeom prst="rect">
            <a:avLst/>
          </a:prstGeom>
          <a:ln w="0">
            <a:noFill/>
          </a:ln>
        </p:spPr>
      </p:pic>
      <p:pic>
        <p:nvPicPr>
          <p:cNvPr id="265" name="Obrázek 9" descr="UlozeniProgramu_roletovaNabidka_Okno2.png"/>
          <p:cNvPicPr/>
          <p:nvPr/>
        </p:nvPicPr>
        <p:blipFill>
          <a:blip r:embed="rId3"/>
          <a:stretch/>
        </p:blipFill>
        <p:spPr>
          <a:xfrm>
            <a:off x="2428920" y="3571920"/>
            <a:ext cx="3878280" cy="2873160"/>
          </a:xfrm>
          <a:prstGeom prst="rect">
            <a:avLst/>
          </a:prstGeom>
          <a:ln w="0">
            <a:noFill/>
          </a:ln>
        </p:spPr>
      </p:pic>
      <p:sp>
        <p:nvSpPr>
          <p:cNvPr id="266" name="Šipka ohnutá nahoru 10"/>
          <p:cNvSpPr/>
          <p:nvPr/>
        </p:nvSpPr>
        <p:spPr>
          <a:xfrm flipH="1" rot="16200000">
            <a:off x="6071040" y="4214520"/>
            <a:ext cx="1643040" cy="500040"/>
          </a:xfrm>
          <a:custGeom>
            <a:avLst/>
            <a:gdLst>
              <a:gd name="textAreaLeft" fmla="*/ 360 w 1643040"/>
              <a:gd name="textAreaRight" fmla="*/ 1581120 w 1643040"/>
              <a:gd name="textAreaTop" fmla="*/ 375120 h 500040"/>
              <a:gd name="textAreaBottom" fmla="*/ 500400 h 500040"/>
            </a:gdLst>
            <a:ahLst/>
            <a:rect l="textAreaLeft" t="textAreaTop" r="textAreaRight" b="textAreaBottom"/>
            <a:pathLst>
              <a:path w="1643062" h="500062">
                <a:moveTo>
                  <a:pt x="0" y="375047"/>
                </a:moveTo>
                <a:lnTo>
                  <a:pt x="1455539" y="375047"/>
                </a:lnTo>
                <a:lnTo>
                  <a:pt x="1455539" y="125016"/>
                </a:lnTo>
                <a:lnTo>
                  <a:pt x="1393031" y="125016"/>
                </a:lnTo>
                <a:lnTo>
                  <a:pt x="1518047" y="0"/>
                </a:lnTo>
                <a:lnTo>
                  <a:pt x="1643062" y="125016"/>
                </a:lnTo>
                <a:lnTo>
                  <a:pt x="1580554" y="125016"/>
                </a:lnTo>
                <a:lnTo>
                  <a:pt x="1580554" y="500062"/>
                </a:lnTo>
                <a:lnTo>
                  <a:pt x="0" y="500062"/>
                </a:lnTo>
                <a:close/>
              </a:path>
            </a:pathLst>
          </a:custGeom>
          <a:solidFill>
            <a:srgbClr val="ffffff"/>
          </a:solidFill>
          <a:ln w="42480">
            <a:solidFill>
              <a:srgbClr val="1b58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Zástupný symbol pro číslo snímku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DC5C-FFF2-455E-9839-D524F7CA43EA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Ulož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Způsob – tlačítkem z liš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 a 3. Krok -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stejný jako na předchozím slid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Způsob – klávesová zkrat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trl + 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 a 3. Krok -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stejný jako na předchozím slid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zn. Pomocí kroku 1 v 2. a 3. způsobu ukládání lze program i průběžně ukládat!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0" name="Obrázek 4" descr="UlozeniProgramu_tlacitkemZlisty.png"/>
          <p:cNvPicPr/>
          <p:nvPr/>
        </p:nvPicPr>
        <p:blipFill>
          <a:blip r:embed="rId1"/>
          <a:stretch/>
        </p:blipFill>
        <p:spPr>
          <a:xfrm>
            <a:off x="642960" y="2143080"/>
            <a:ext cx="4552920" cy="1085760"/>
          </a:xfrm>
          <a:prstGeom prst="rect">
            <a:avLst/>
          </a:prstGeom>
          <a:ln w="0">
            <a:noFill/>
          </a:ln>
        </p:spPr>
      </p:pic>
      <p:sp>
        <p:nvSpPr>
          <p:cNvPr id="27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E0480-DBF8-447C-82D0-1C7A54F1DEE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tevř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Způsob – z úvodního ok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Obrázek 6" descr="OtevreniProgramuCast11.png"/>
          <p:cNvPicPr/>
          <p:nvPr/>
        </p:nvPicPr>
        <p:blipFill>
          <a:blip r:embed="rId1"/>
          <a:stretch/>
        </p:blipFill>
        <p:spPr>
          <a:xfrm>
            <a:off x="4643280" y="1928880"/>
            <a:ext cx="3305160" cy="1209600"/>
          </a:xfrm>
          <a:prstGeom prst="rect">
            <a:avLst/>
          </a:prstGeom>
          <a:ln w="0">
            <a:noFill/>
          </a:ln>
        </p:spPr>
      </p:pic>
      <p:pic>
        <p:nvPicPr>
          <p:cNvPr id="275" name="Obrázek 7" descr="OtevreniProgramuCast12.png"/>
          <p:cNvPicPr/>
          <p:nvPr/>
        </p:nvPicPr>
        <p:blipFill>
          <a:blip r:embed="rId2"/>
          <a:stretch/>
        </p:blipFill>
        <p:spPr>
          <a:xfrm>
            <a:off x="3000240" y="3214800"/>
            <a:ext cx="3305160" cy="1276200"/>
          </a:xfrm>
          <a:prstGeom prst="rect">
            <a:avLst/>
          </a:prstGeom>
          <a:ln w="0">
            <a:noFill/>
          </a:ln>
        </p:spPr>
      </p:pic>
      <p:pic>
        <p:nvPicPr>
          <p:cNvPr id="276" name="Obrázek 8" descr="OtevreniProgramuCast13.png"/>
          <p:cNvPicPr/>
          <p:nvPr/>
        </p:nvPicPr>
        <p:blipFill>
          <a:blip r:embed="rId3"/>
          <a:stretch/>
        </p:blipFill>
        <p:spPr>
          <a:xfrm>
            <a:off x="714240" y="4572000"/>
            <a:ext cx="3295800" cy="1247760"/>
          </a:xfrm>
          <a:prstGeom prst="rect">
            <a:avLst/>
          </a:prstGeom>
          <a:ln w="0">
            <a:noFill/>
          </a:ln>
        </p:spPr>
      </p:pic>
      <p:sp>
        <p:nvSpPr>
          <p:cNvPr id="277" name="Ohnutá šipka 10"/>
          <p:cNvSpPr/>
          <p:nvPr/>
        </p:nvSpPr>
        <p:spPr>
          <a:xfrm flipV="1" rot="5400000">
            <a:off x="3643200" y="2213280"/>
            <a:ext cx="500040" cy="107136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65120"/>
                </a:lnTo>
                <a:lnTo>
                  <a:pt x="0" y="265120"/>
                </a:lnTo>
                <a:arcTo wR="154124" hR="154124" stAng="10800000" swAng="5400000"/>
                <a:lnTo>
                  <a:pt x="375047" y="110996"/>
                </a:lnTo>
                <a:lnTo>
                  <a:pt x="375047" y="0"/>
                </a:lnTo>
                <a:lnTo>
                  <a:pt x="500062" y="157339"/>
                </a:lnTo>
                <a:lnTo>
                  <a:pt x="375047" y="314679"/>
                </a:lnTo>
                <a:lnTo>
                  <a:pt x="375047" y="203683"/>
                </a:lnTo>
                <a:lnTo>
                  <a:pt x="154124" y="203683"/>
                </a:lnTo>
                <a:lnTo>
                  <a:pt x="154124" y="203683"/>
                </a:lnTo>
                <a:arcTo wR="61438" hR="61438" stAng="-5400000" swAng="-5400000"/>
                <a:lnTo>
                  <a:pt x="92687" y="1071562"/>
                </a:lnTo>
                <a:close/>
              </a:path>
            </a:pathLst>
          </a:custGeom>
          <a:solidFill>
            <a:srgbClr val="ffffff"/>
          </a:solidFill>
          <a:ln w="42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hnutá šipka 11"/>
          <p:cNvSpPr/>
          <p:nvPr/>
        </p:nvSpPr>
        <p:spPr>
          <a:xfrm flipV="1" rot="5400000">
            <a:off x="2071800" y="3642120"/>
            <a:ext cx="500040" cy="1071720"/>
          </a:xfrm>
          <a:custGeom>
            <a:avLst/>
            <a:gdLst/>
            <a:ahLst/>
            <a:rect l="l" t="t" r="r" b="b"/>
            <a:pathLst>
              <a:path w="500062" h="1071562">
                <a:moveTo>
                  <a:pt x="0" y="1071562"/>
                </a:moveTo>
                <a:lnTo>
                  <a:pt x="0" y="265120"/>
                </a:lnTo>
                <a:lnTo>
                  <a:pt x="0" y="265120"/>
                </a:lnTo>
                <a:arcTo wR="154124" hR="154124" stAng="10800000" swAng="5400000"/>
                <a:lnTo>
                  <a:pt x="375047" y="110996"/>
                </a:lnTo>
                <a:lnTo>
                  <a:pt x="375047" y="0"/>
                </a:lnTo>
                <a:lnTo>
                  <a:pt x="500062" y="157339"/>
                </a:lnTo>
                <a:lnTo>
                  <a:pt x="375047" y="314679"/>
                </a:lnTo>
                <a:lnTo>
                  <a:pt x="375047" y="203683"/>
                </a:lnTo>
                <a:lnTo>
                  <a:pt x="154124" y="203683"/>
                </a:lnTo>
                <a:lnTo>
                  <a:pt x="154124" y="203683"/>
                </a:lnTo>
                <a:arcTo wR="61438" hR="61438" stAng="-5400000" swAng="-5400000"/>
                <a:lnTo>
                  <a:pt x="92687" y="1071562"/>
                </a:lnTo>
                <a:close/>
              </a:path>
            </a:pathLst>
          </a:custGeom>
          <a:solidFill>
            <a:srgbClr val="ffffff"/>
          </a:solidFill>
          <a:ln w="42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Zástupný symbol pro číslo snímku 8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867CF-AF23-48AC-B393-221565C348C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tevř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500040" y="1213920"/>
            <a:ext cx="8183520" cy="4714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Způsob – z roletové nabíd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Obrázek 5" descr="OtevreniProgramu2.png"/>
          <p:cNvPicPr/>
          <p:nvPr/>
        </p:nvPicPr>
        <p:blipFill>
          <a:blip r:embed="rId1"/>
          <a:stretch/>
        </p:blipFill>
        <p:spPr>
          <a:xfrm>
            <a:off x="642960" y="2428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283" name="Obrázek 8" descr="OtevreniProgramu_AdresarOkno.png"/>
          <p:cNvPicPr/>
          <p:nvPr/>
        </p:nvPicPr>
        <p:blipFill>
          <a:blip r:embed="rId2"/>
          <a:stretch/>
        </p:blipFill>
        <p:spPr>
          <a:xfrm>
            <a:off x="3571920" y="1928880"/>
            <a:ext cx="5010120" cy="3738600"/>
          </a:xfrm>
          <a:prstGeom prst="rect">
            <a:avLst/>
          </a:prstGeom>
          <a:ln w="0">
            <a:noFill/>
          </a:ln>
        </p:spPr>
      </p:pic>
      <p:sp>
        <p:nvSpPr>
          <p:cNvPr id="284" name="Šipka doprava 9"/>
          <p:cNvSpPr/>
          <p:nvPr/>
        </p:nvSpPr>
        <p:spPr>
          <a:xfrm>
            <a:off x="2500200" y="3286080"/>
            <a:ext cx="928800" cy="214200"/>
          </a:xfrm>
          <a:prstGeom prst="rightArrow">
            <a:avLst>
              <a:gd name="adj1" fmla="val 50000"/>
              <a:gd name="adj2" fmla="val 50026"/>
            </a:avLst>
          </a:prstGeom>
          <a:solidFill>
            <a:srgbClr val="ffffff"/>
          </a:solidFill>
          <a:ln w="4248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AE43-4C39-4A44-84AE-2223FA0ECFA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Otevření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Způsob – tlačítkem z liš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krok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krok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– stejný jako na předchozím slid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4. Způsob – klávesová zkratk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1. krok</a:t>
            </a: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Ctrl + 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2. krok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– stejný jako na předchozím slidu</a:t>
            </a:r>
            <a:r>
              <a:rPr b="1" lang="cs-CZ" sz="1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Obrázek 6" descr="OtevreniProgramu3.png"/>
          <p:cNvPicPr/>
          <p:nvPr/>
        </p:nvPicPr>
        <p:blipFill>
          <a:blip r:embed="rId1"/>
          <a:stretch/>
        </p:blipFill>
        <p:spPr>
          <a:xfrm>
            <a:off x="642960" y="2143080"/>
            <a:ext cx="4686120" cy="1085760"/>
          </a:xfrm>
          <a:prstGeom prst="rect">
            <a:avLst/>
          </a:prstGeom>
          <a:ln w="0">
            <a:noFill/>
          </a:ln>
        </p:spPr>
      </p:pic>
      <p:sp>
        <p:nvSpPr>
          <p:cNvPr id="289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A27E-9963-4431-85EE-B0F9964372B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imple Text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extová pole, která jsou takto označena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dporují tzv. Simple Tex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Mohou zde být napsána pouze velká a malá písmena A-Z, číslice 0-9, interpunkce a symbol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" name="Obrázek 4" descr="TextovePole_SimpleText.png"/>
          <p:cNvPicPr/>
          <p:nvPr/>
        </p:nvPicPr>
        <p:blipFill>
          <a:blip r:embed="rId1"/>
          <a:stretch/>
        </p:blipFill>
        <p:spPr>
          <a:xfrm>
            <a:off x="2000160" y="1785960"/>
            <a:ext cx="2335320" cy="357120"/>
          </a:xfrm>
          <a:prstGeom prst="rect">
            <a:avLst/>
          </a:prstGeom>
          <a:ln w="0">
            <a:noFill/>
          </a:ln>
        </p:spPr>
      </p:pic>
      <p:pic>
        <p:nvPicPr>
          <p:cNvPr id="293" name="Obrázek 4" descr="SimpleText.png"/>
          <p:cNvPicPr/>
          <p:nvPr/>
        </p:nvPicPr>
        <p:blipFill>
          <a:blip r:embed="rId2"/>
          <a:srcRect l="21518" t="43081" r="35035" b="43859"/>
          <a:stretch/>
        </p:blipFill>
        <p:spPr>
          <a:xfrm>
            <a:off x="1428840" y="3929040"/>
            <a:ext cx="6514920" cy="1357200"/>
          </a:xfrm>
          <a:prstGeom prst="rect">
            <a:avLst/>
          </a:prstGeom>
          <a:ln w="0">
            <a:noFill/>
          </a:ln>
        </p:spPr>
      </p:pic>
      <p:sp>
        <p:nvSpPr>
          <p:cNvPr id="294" name="Šipka ohnutá nahoru 6"/>
          <p:cNvSpPr/>
          <p:nvPr/>
        </p:nvSpPr>
        <p:spPr>
          <a:xfrm flipH="1" rot="16200000">
            <a:off x="4713840" y="1643040"/>
            <a:ext cx="214200" cy="500040"/>
          </a:xfrm>
          <a:custGeom>
            <a:avLst/>
            <a:gdLst>
              <a:gd name="textAreaLeft" fmla="*/ 0 w 214200"/>
              <a:gd name="textAreaRight" fmla="*/ 187560 w 214200"/>
              <a:gd name="textAreaTop" fmla="*/ 446760 h 500040"/>
              <a:gd name="textAreaBottom" fmla="*/ 500400 h 500040"/>
            </a:gdLst>
            <a:ahLst/>
            <a:rect l="textAreaLeft" t="textAreaTop" r="textAreaRight" b="textAreaBottom"/>
            <a:pathLst>
              <a:path w="214312" h="500063">
                <a:moveTo>
                  <a:pt x="0" y="446485"/>
                </a:moveTo>
                <a:lnTo>
                  <a:pt x="133945" y="446485"/>
                </a:lnTo>
                <a:lnTo>
                  <a:pt x="133945" y="53578"/>
                </a:lnTo>
                <a:lnTo>
                  <a:pt x="107156" y="53578"/>
                </a:lnTo>
                <a:lnTo>
                  <a:pt x="160734" y="0"/>
                </a:lnTo>
                <a:lnTo>
                  <a:pt x="214312" y="53578"/>
                </a:lnTo>
                <a:lnTo>
                  <a:pt x="187523" y="53578"/>
                </a:lnTo>
                <a:lnTo>
                  <a:pt x="187523" y="500063"/>
                </a:lnTo>
                <a:lnTo>
                  <a:pt x="0" y="500063"/>
                </a:lnTo>
                <a:close/>
              </a:path>
            </a:pathLst>
          </a:custGeom>
          <a:solidFill>
            <a:srgbClr val="000000"/>
          </a:solidFill>
          <a:ln w="42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Zástupný symbol pro číslo snímku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1716-C72C-417C-985D-FF59E52EA206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Výčet programovacích bloků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gramovací paleta je rozdělena na tři části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Verdana"/>
              </a:rPr>
              <a:t>Common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Verdana"/>
              </a:rPr>
              <a:t>Complete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24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000000"/>
                </a:solidFill>
                <a:latin typeface="Verdana"/>
              </a:rPr>
              <a:t>Custom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Common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sahuje nejpoužívanější 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stavena jako výchozí bo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Complete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sahuje kompletně všechny programovací 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Custom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pale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sou zde vlastně vytvořené bloky a stažené z web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0650D-0C89-4B8F-A7FF-5AB1A1D32E2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Move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vádí motory do pohyb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apíná svítidl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vypadá blok na programovací ploš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Obrázek 22" descr="CommnonBlocksPalette.png"/>
          <p:cNvPicPr/>
          <p:nvPr/>
        </p:nvPicPr>
        <p:blipFill>
          <a:blip r:embed="rId1"/>
          <a:srcRect l="7005" t="17774" r="87905" b="73324"/>
          <a:stretch/>
        </p:blipFill>
        <p:spPr>
          <a:xfrm>
            <a:off x="4572000" y="1571760"/>
            <a:ext cx="781200" cy="771480"/>
          </a:xfrm>
          <a:prstGeom prst="rect">
            <a:avLst/>
          </a:prstGeom>
          <a:ln w="0">
            <a:noFill/>
          </a:ln>
        </p:spPr>
      </p:pic>
      <p:pic>
        <p:nvPicPr>
          <p:cNvPr id="302" name="Obrázek 8" descr="MoveBlockPopis.png"/>
          <p:cNvPicPr/>
          <p:nvPr/>
        </p:nvPicPr>
        <p:blipFill>
          <a:blip r:embed="rId2"/>
          <a:stretch/>
        </p:blipFill>
        <p:spPr>
          <a:xfrm>
            <a:off x="3429000" y="3214800"/>
            <a:ext cx="2095560" cy="2047680"/>
          </a:xfrm>
          <a:prstGeom prst="rect">
            <a:avLst/>
          </a:prstGeom>
          <a:ln w="0">
            <a:noFill/>
          </a:ln>
        </p:spPr>
      </p:pic>
      <p:sp>
        <p:nvSpPr>
          <p:cNvPr id="30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DCB09-F291-42B3-AD61-253D93DD195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500040" y="1143000"/>
            <a:ext cx="8183520" cy="5286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0000"/>
          </a:bodyPr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Move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Výběr portů do kterých budou připojeny motory. Pokud vyberete dva porty, jako je na obrázku, tak motory zapojené do těchto portů budou synchronizované. Pokud vyberete tři porty, tak budou synchronizované v portech B a C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Výběr směru otáčení motoru – dopředu, dozadu, zastavení s resetováním moto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. Vyberte příslušné porty motorů a posuvníkem nastavíte zakřivení dráhy při otáčení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. Nastavení výkonu motoru pomocí posuvníku nebo přímo napsáním hodnoty do textového p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5. Nastavení trvání otáčeni motoru – neomezené, čas v sekundách, počet celých otáček nebo úhel natočení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6. Výběr, zda budou motory zabržděny nebo poběží dál po dokončení jejich ak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7. Zde se zobrazuje o kolik stupňů nebo otáček se motor otočil. Stiskutím resetovacího tlačítka dojde k vynulování hodno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1680" indent="-211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6" name="Obrázek 5" descr="MoveBlockConfigPanel.png"/>
          <p:cNvPicPr/>
          <p:nvPr/>
        </p:nvPicPr>
        <p:blipFill>
          <a:blip r:embed="rId1"/>
          <a:stretch/>
        </p:blipFill>
        <p:spPr>
          <a:xfrm>
            <a:off x="1428840" y="1928880"/>
            <a:ext cx="6192720" cy="1181160"/>
          </a:xfrm>
          <a:prstGeom prst="rect">
            <a:avLst/>
          </a:prstGeom>
          <a:ln w="0">
            <a:noFill/>
          </a:ln>
        </p:spPr>
      </p:pic>
      <p:sp>
        <p:nvSpPr>
          <p:cNvPr id="30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37D0C-99B1-454B-A8F0-EBCC8687C3C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Teoretický úvod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0040" y="14997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 programu LEGO MINDSTORMS NXT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tvořen podle vzoru programu LabVIEW od společnosti National Instrumen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rogramování založeno na principu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drag–and-drop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(„táhni a pusť“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užívá programovací jazyk NXT – 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G –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Graphical =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gt; grafick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ý programovací jazy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rogram není psán slovně pomocí instrukcí, ale pomocí programovacích bloků, které se skládají za seb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031B-EBD4-4C7B-9535-EAEF4FF82DC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Record/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e robota naprogramovat fyzickým pohybem a pak nahraný pohyb zopakov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vypadá blok na programovací ploš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0" name="Obrázek 22" descr="CommnonBlocksPalette.png"/>
          <p:cNvPicPr/>
          <p:nvPr/>
        </p:nvPicPr>
        <p:blipFill>
          <a:blip r:embed="rId1"/>
          <a:srcRect l="6828" t="6540" r="88265" b="84534"/>
          <a:stretch/>
        </p:blipFill>
        <p:spPr>
          <a:xfrm>
            <a:off x="4929120" y="928800"/>
            <a:ext cx="781200" cy="798480"/>
          </a:xfrm>
          <a:prstGeom prst="rect">
            <a:avLst/>
          </a:prstGeom>
          <a:ln w="0">
            <a:noFill/>
          </a:ln>
        </p:spPr>
      </p:pic>
      <p:pic>
        <p:nvPicPr>
          <p:cNvPr id="311" name="Obrázek 7" descr="Record_PlayBlock.png"/>
          <p:cNvPicPr/>
          <p:nvPr/>
        </p:nvPicPr>
        <p:blipFill>
          <a:blip r:embed="rId2"/>
          <a:stretch/>
        </p:blipFill>
        <p:spPr>
          <a:xfrm>
            <a:off x="2643120" y="3286080"/>
            <a:ext cx="3908520" cy="857160"/>
          </a:xfrm>
          <a:prstGeom prst="rect">
            <a:avLst/>
          </a:prstGeom>
          <a:ln w="0">
            <a:noFill/>
          </a:ln>
        </p:spPr>
      </p:pic>
      <p:sp>
        <p:nvSpPr>
          <p:cNvPr id="31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A29A-668B-4955-B3B2-32BA2F92042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00040" y="1285560"/>
            <a:ext cx="8183520" cy="535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Record/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 v režimu nahrá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Textové pole pro pojmenování nahraného pohyb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Výběr portů s připojenými motory u kterých má být zaznamenán jejich pohyb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. Nastavení doby zaznamenávání pohybu v sekundách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 v režimu přehrá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Napište název nahrané akce a soubory, které byly uloženy v NXT kostce, se objeví v sekci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File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v abecedním seznamu a vy si vyberete tu, kterou chcete zopakovat.  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Obrázek 7" descr="Record_PlayBlockConFig.png"/>
          <p:cNvPicPr/>
          <p:nvPr/>
        </p:nvPicPr>
        <p:blipFill>
          <a:blip r:embed="rId1"/>
          <a:stretch/>
        </p:blipFill>
        <p:spPr>
          <a:xfrm>
            <a:off x="2786040" y="2143080"/>
            <a:ext cx="3314880" cy="1071720"/>
          </a:xfrm>
          <a:prstGeom prst="rect">
            <a:avLst/>
          </a:prstGeom>
          <a:ln w="0">
            <a:noFill/>
          </a:ln>
        </p:spPr>
      </p:pic>
      <p:pic>
        <p:nvPicPr>
          <p:cNvPr id="316" name="Obrázek 8" descr="Record_PlayBlockConFig2.png"/>
          <p:cNvPicPr/>
          <p:nvPr/>
        </p:nvPicPr>
        <p:blipFill>
          <a:blip r:embed="rId2"/>
          <a:stretch/>
        </p:blipFill>
        <p:spPr>
          <a:xfrm>
            <a:off x="2928960" y="4643280"/>
            <a:ext cx="3305160" cy="1190880"/>
          </a:xfrm>
          <a:prstGeom prst="rect">
            <a:avLst/>
          </a:prstGeom>
          <a:ln w="0">
            <a:noFill/>
          </a:ln>
        </p:spPr>
      </p:pic>
      <p:sp>
        <p:nvSpPr>
          <p:cNvPr id="317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DEF-1B59-49D0-AE87-F300A560E18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nd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e přehrát zvuky z NXT kost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vypadá blok na programovací ploš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0" name="Obrázek 22" descr="CommnonBlocksPalette.png"/>
          <p:cNvPicPr/>
          <p:nvPr/>
        </p:nvPicPr>
        <p:blipFill>
          <a:blip r:embed="rId1"/>
          <a:srcRect l="13199" t="6756" r="81821" b="84445"/>
          <a:stretch/>
        </p:blipFill>
        <p:spPr>
          <a:xfrm>
            <a:off x="6357960" y="1285920"/>
            <a:ext cx="781200" cy="771480"/>
          </a:xfrm>
          <a:prstGeom prst="rect">
            <a:avLst/>
          </a:prstGeom>
          <a:ln w="0">
            <a:noFill/>
          </a:ln>
        </p:spPr>
      </p:pic>
      <p:pic>
        <p:nvPicPr>
          <p:cNvPr id="321" name="Obrázek 6" descr="SoundBlock.png"/>
          <p:cNvPicPr/>
          <p:nvPr/>
        </p:nvPicPr>
        <p:blipFill>
          <a:blip r:embed="rId2"/>
          <a:stretch/>
        </p:blipFill>
        <p:spPr>
          <a:xfrm>
            <a:off x="3071880" y="2857680"/>
            <a:ext cx="2600280" cy="2133360"/>
          </a:xfrm>
          <a:prstGeom prst="rect">
            <a:avLst/>
          </a:prstGeom>
          <a:ln w="0">
            <a:noFill/>
          </a:ln>
        </p:spPr>
      </p:pic>
      <p:sp>
        <p:nvSpPr>
          <p:cNvPr id="32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F41A2-01FB-40DD-8E42-AB40EF2A184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500040" y="1142640"/>
            <a:ext cx="8183520" cy="542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5000"/>
          </a:bodyPr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ound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Výběr mezi přehráním zvukového souboru nebo tón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Výběr mezi přehráváním nebo zastavení přehrávání zvukového souboru nebo tón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. Nastavení hlasitosti pomocí posuvníku nebo napsáním přesné hodnoty do textového p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. Umožní přehrávání zvukového souboru pořád dokola znovu a znovu. Funkce „Wait for completion“ bude zašedlá a nedostupná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5a. Abecední seznam zvukových souborů, které jsou uloženy na pevném disku v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ložce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Sound File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programu LEGO MINDSTORMS NXT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5b. Je zde malá klávesnice představující tři oktávy na hudební stupnici. Textové pol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ad klávesnicí zobrazuje notu, kterou jste stiskli na klávesnici pomocí myši nebo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apsali z klávesnice. Dále je zde textové pole pro nastavení doby přehrávání tón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6. Při zaškrtnutí bude následující blok vykonán až po přehrání celého zvukového souboru. Při nezaškrtnutí bude zvukový soubor hrát, zatímco pokračuje další blok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19840" indent="-18972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1640" indent="-2516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5" name="Obrázek 7" descr="SoundBlockConfigPanel.png"/>
          <p:cNvPicPr/>
          <p:nvPr/>
        </p:nvPicPr>
        <p:blipFill>
          <a:blip r:embed="rId1"/>
          <a:stretch/>
        </p:blipFill>
        <p:spPr>
          <a:xfrm>
            <a:off x="571680" y="2071800"/>
            <a:ext cx="5876640" cy="1181160"/>
          </a:xfrm>
          <a:prstGeom prst="rect">
            <a:avLst/>
          </a:prstGeom>
          <a:ln w="0">
            <a:noFill/>
          </a:ln>
        </p:spPr>
      </p:pic>
      <p:pic>
        <p:nvPicPr>
          <p:cNvPr id="326" name="Obrázek 8" descr="SoundBlockConfigPanelb.png"/>
          <p:cNvPicPr/>
          <p:nvPr/>
        </p:nvPicPr>
        <p:blipFill>
          <a:blip r:embed="rId2"/>
          <a:stretch/>
        </p:blipFill>
        <p:spPr>
          <a:xfrm>
            <a:off x="3857760" y="1214280"/>
            <a:ext cx="2571480" cy="847800"/>
          </a:xfrm>
          <a:prstGeom prst="rect">
            <a:avLst/>
          </a:prstGeom>
          <a:ln w="0">
            <a:noFill/>
          </a:ln>
        </p:spPr>
      </p:pic>
      <p:cxnSp>
        <p:nvCxnSpPr>
          <p:cNvPr id="327" name="Přímá spojovací šipka 10"/>
          <p:cNvCxnSpPr/>
          <p:nvPr/>
        </p:nvCxnSpPr>
        <p:spPr>
          <a:xfrm flipV="1">
            <a:off x="3142800" y="1638000"/>
            <a:ext cx="715320" cy="50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28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11E9-D7DF-470D-A2D9-C81EAB71A47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is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ouží k zobrazení textu, ikon nebo vašich vytvořených obrázků na displeji NXT kost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vypadá blok na programovací ploš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Obrázek 26" descr="CommnonBlocksPalette.png"/>
          <p:cNvPicPr/>
          <p:nvPr/>
        </p:nvPicPr>
        <p:blipFill>
          <a:blip r:embed="rId1"/>
          <a:srcRect l="19595" t="7115" r="75542" b="84780"/>
          <a:stretch/>
        </p:blipFill>
        <p:spPr>
          <a:xfrm>
            <a:off x="5214960" y="2071800"/>
            <a:ext cx="781200" cy="734760"/>
          </a:xfrm>
          <a:prstGeom prst="rect">
            <a:avLst/>
          </a:prstGeom>
          <a:ln w="0">
            <a:noFill/>
          </a:ln>
        </p:spPr>
      </p:pic>
      <p:pic>
        <p:nvPicPr>
          <p:cNvPr id="332" name="Obrázek 6" descr="DisplayBlock.png"/>
          <p:cNvPicPr/>
          <p:nvPr/>
        </p:nvPicPr>
        <p:blipFill>
          <a:blip r:embed="rId2"/>
          <a:stretch/>
        </p:blipFill>
        <p:spPr>
          <a:xfrm>
            <a:off x="3000240" y="3571920"/>
            <a:ext cx="3029040" cy="1600200"/>
          </a:xfrm>
          <a:prstGeom prst="rect">
            <a:avLst/>
          </a:prstGeom>
          <a:ln w="0">
            <a:noFill/>
          </a:ln>
        </p:spPr>
      </p:pic>
      <p:sp>
        <p:nvSpPr>
          <p:cNvPr id="33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CDD50-A505-47D1-A3C1-54F21E4C764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500040" y="1285920"/>
            <a:ext cx="8183520" cy="49291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is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Image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Rozbalovací menu pro výběr obrázku, textu, vlastní kresby nebo resetování disple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Při zatržení volby „Clear“ bude smazán obsah displeje NXT kost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a. Seznam obrázků, které mohou být zobrazeny na displeji. Při kliknutí na název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obrázku bude v sekci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Position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kázán náhled. Obrázky jsou uloženy na pevné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isku ve složce </a:t>
            </a: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Image Files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programu LEGO MINDSTORM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a. Náhled na obrázek, jak bude umístěn na displeji NXT kostky. Pomocí myši můžet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pravit umístění obrázku. Přesné nastavení pozice umožňují textová pole „X“ a „Y“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kud napíšete souřadnice (x,y) = (0,0), tak obrázek bude umístěn na levé 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podní hraně obrazovky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6" name="Obrázek 5" descr="DisplayBlockConfigPanelA.png"/>
          <p:cNvPicPr/>
          <p:nvPr/>
        </p:nvPicPr>
        <p:blipFill>
          <a:blip r:embed="rId1"/>
          <a:stretch/>
        </p:blipFill>
        <p:spPr>
          <a:xfrm>
            <a:off x="928800" y="2143080"/>
            <a:ext cx="5887800" cy="1209600"/>
          </a:xfrm>
          <a:prstGeom prst="rect">
            <a:avLst/>
          </a:prstGeom>
          <a:ln w="0">
            <a:noFill/>
          </a:ln>
        </p:spPr>
      </p:pic>
      <p:sp>
        <p:nvSpPr>
          <p:cNvPr id="33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C733-EE93-45D5-B5D2-25418B34718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500040" y="1285560"/>
            <a:ext cx="8183520" cy="4786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is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ex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b. Textové pole pro vložení textu, který bude zobrazen na displej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b. Rozbalovací menu umožňuje zvolit číslo řádku, kde bude umístěn text. Přesno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startovní pozici textu lze nastavit textovými poli „X“ a „Y“. Pro souřadnice (x,y) =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(0,0) bude text začínat v levém dolním rohu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0" name="Obrázek 4" descr="DisplayBlockConfigPanelB.png"/>
          <p:cNvPicPr/>
          <p:nvPr/>
        </p:nvPicPr>
        <p:blipFill>
          <a:blip r:embed="rId1"/>
          <a:stretch/>
        </p:blipFill>
        <p:spPr>
          <a:xfrm>
            <a:off x="1000080" y="2143080"/>
            <a:ext cx="5857920" cy="1162080"/>
          </a:xfrm>
          <a:prstGeom prst="rect">
            <a:avLst/>
          </a:prstGeom>
          <a:ln w="0">
            <a:noFill/>
          </a:ln>
        </p:spPr>
      </p:pic>
      <p:sp>
        <p:nvSpPr>
          <p:cNvPr id="34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75F63-7A75-4079-8B10-861256962F9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isplay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ugurační panel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Draw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c. Rozbalovací menu pro výběr typu tvaru, který budete chtít nakreslit. Na výběr j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tečka, čára nebo kružni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4c. Pokud si vyberete kreslení tečky, tak vstupní textová pole „X“ a „Y“ určují pozici tečky na obrazovce. Napsáním souřadnic (x,y) = (0,0) bude tečka umístěna v levém dolním rohu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kud vyberete kreslení čáry, tak se objeví další dvě vstupní textová pole, kde můžete nastavit umístění koncového bodu čáry. Startovní bod čáry by měl být definován v horních „X“ a „Y“ souřadnicích a koncový bod ve spodních „X“ a „Y“ souřadnicíc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okud vyberete kreslení kružnice, tak se objeví doplňkové vstupní textové pole pro definování poloměru kružnice. Souřadnice „X“ a „Y“ definují umístěni středu kružnice na obrazovce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4" name="Obrázek 6" descr="DisplayBlockConfigPanelC.png"/>
          <p:cNvPicPr/>
          <p:nvPr/>
        </p:nvPicPr>
        <p:blipFill>
          <a:blip r:embed="rId1"/>
          <a:stretch/>
        </p:blipFill>
        <p:spPr>
          <a:xfrm>
            <a:off x="928800" y="2143080"/>
            <a:ext cx="5878440" cy="1181160"/>
          </a:xfrm>
          <a:prstGeom prst="rect">
            <a:avLst/>
          </a:prstGeom>
          <a:ln w="0">
            <a:noFill/>
          </a:ln>
        </p:spPr>
      </p:pic>
      <p:sp>
        <p:nvSpPr>
          <p:cNvPr id="345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1AAA9-69E8-4839-BC59-8D991A21C1D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onutí robota čekat, dokud není splněna podmínka – následující blok je vykonán po splnění stanovené podmín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bsahuje 5 bloků – čekání podle toho jaký j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časovače -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dotykového senzoru -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Tou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světelného senzoru -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Ligh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zvukového senzoru - Soun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ýstup ultrazvukového senzoru –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istan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kto například vypadá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blok -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ouch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na programovací ploš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8" name="Obrázek 29" descr="CommnonBlocksPalette.png"/>
          <p:cNvPicPr/>
          <p:nvPr/>
        </p:nvPicPr>
        <p:blipFill>
          <a:blip r:embed="rId1"/>
          <a:srcRect l="26074" t="7199" r="69123" b="84637"/>
          <a:stretch/>
        </p:blipFill>
        <p:spPr>
          <a:xfrm>
            <a:off x="7643880" y="2357280"/>
            <a:ext cx="780840" cy="752760"/>
          </a:xfrm>
          <a:prstGeom prst="rect">
            <a:avLst/>
          </a:prstGeom>
          <a:ln w="0">
            <a:noFill/>
          </a:ln>
        </p:spPr>
      </p:pic>
      <p:pic>
        <p:nvPicPr>
          <p:cNvPr id="349" name="Obrázek 6" descr="WaitBlockTouch.png"/>
          <p:cNvPicPr/>
          <p:nvPr/>
        </p:nvPicPr>
        <p:blipFill>
          <a:blip r:embed="rId2"/>
          <a:stretch/>
        </p:blipFill>
        <p:spPr>
          <a:xfrm>
            <a:off x="2428920" y="5072040"/>
            <a:ext cx="4676760" cy="1095480"/>
          </a:xfrm>
          <a:prstGeom prst="rect">
            <a:avLst/>
          </a:prstGeom>
          <a:ln w="0">
            <a:noFill/>
          </a:ln>
        </p:spPr>
      </p:pic>
      <p:sp>
        <p:nvSpPr>
          <p:cNvPr id="350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B8B9-138C-4FF2-85B6-F755EE51896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9000"/>
          </a:bodyPr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 - </a:t>
            </a: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To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například vyberete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ouch Sensor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, tak program bude čekat, dokud nebude dotykový senzor stlačený, uvolněný nebo rychle stlačený-uvolněný a pak až bude vykonán další blok v program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říklad konfiguračního panelu pro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 –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Touch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1. Výběr portu, do kterého je senzor připojen v NXT kostc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2. Výběr podmínky při jejichž splnění bude program pokračovat dále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Bumped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– Rychlé stlačení a uvolnění dotykového senzo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Pressed –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tykový senzor je stlačen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541800" indent="-19764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000000"/>
                </a:solidFill>
                <a:latin typeface="Verdana"/>
              </a:rPr>
              <a:t>Released – </a:t>
            </a: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Dotykový senzor je uvolněný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3. Textové pole zajišťující zpětnou vazbu při testování dotykového senzoru. Pokud je senzor aktivní, bude zde zobrazeno číslo 1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262080" indent="-262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3" name="Obrázek 7" descr="WaitBlockTouchConfigPanel.png"/>
          <p:cNvPicPr/>
          <p:nvPr/>
        </p:nvPicPr>
        <p:blipFill>
          <a:blip r:embed="rId1"/>
          <a:stretch/>
        </p:blipFill>
        <p:spPr>
          <a:xfrm>
            <a:off x="1571760" y="3429000"/>
            <a:ext cx="5849640" cy="1181160"/>
          </a:xfrm>
          <a:prstGeom prst="rect">
            <a:avLst/>
          </a:prstGeom>
          <a:ln w="0">
            <a:noFill/>
          </a:ln>
        </p:spPr>
      </p:pic>
      <p:sp>
        <p:nvSpPr>
          <p:cNvPr id="35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3403-1A48-4FB0-ADFC-5394A3AFA7CE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Zástupný symbol pro obsah 5" descr="PopisProstrediNXTprogramu.png"/>
          <p:cNvPicPr/>
          <p:nvPr/>
        </p:nvPicPr>
        <p:blipFill>
          <a:blip r:embed="rId1"/>
          <a:stretch/>
        </p:blipFill>
        <p:spPr>
          <a:xfrm>
            <a:off x="353880" y="1494000"/>
            <a:ext cx="8399520" cy="4510080"/>
          </a:xfrm>
          <a:prstGeom prst="rect">
            <a:avLst/>
          </a:prstGeom>
          <a:ln w="0">
            <a:noFill/>
          </a:ln>
        </p:spPr>
      </p:pic>
      <p:sp>
        <p:nvSpPr>
          <p:cNvPr id="23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53FF-D365-476A-83AC-7F677691031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bylé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 fungují obdobným způsobem a i nastavení jejich konfiguračních panelů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jste na programovací plochu umístili špatný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blok, tak to můžete napravit pomocí konfiguračního panelu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 sekci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Control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je roletové menu pro výběr mezi volbou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ensor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kud zvolíte možnost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ensor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, tak v sekci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ensor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i pomocí roletového menu můžete vybrat požadovaný typ senzoru, který bude spouštěcím prvkem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Jak je vidět z obrázku níže, k dispozici je mnohem více senzorů než z palety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Comm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7" name="Obrázek 4" descr="WaitBlockTouchVolbaSenzoru.png"/>
          <p:cNvPicPr/>
          <p:nvPr/>
        </p:nvPicPr>
        <p:blipFill>
          <a:blip r:embed="rId1"/>
          <a:stretch/>
        </p:blipFill>
        <p:spPr>
          <a:xfrm>
            <a:off x="3286080" y="4500720"/>
            <a:ext cx="5133960" cy="1952640"/>
          </a:xfrm>
          <a:prstGeom prst="rect">
            <a:avLst/>
          </a:prstGeom>
          <a:ln w="0">
            <a:noFill/>
          </a:ln>
        </p:spPr>
      </p:pic>
      <p:sp>
        <p:nvSpPr>
          <p:cNvPr id="35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6F23-22FD-4F9D-9DF1-8231B2A2E8E5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8000"/>
          </a:bodyPr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Loo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tvoří programovou smyč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 opakování určité sekvence kód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36400" indent="-19548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élka opakování závisí na nastavené podmí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kto například vypadá blok na programovací ploše pokud je nastaven na nekonečné opak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9560" indent="-2595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kto třeba vypadá blok na programovací ploše, pokud je nastaveno řízení doby trvání smyčky pomocí dotykového senzor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1" name="Obrázek 30" descr="CommnonBlocksPalette.png"/>
          <p:cNvPicPr/>
          <p:nvPr/>
        </p:nvPicPr>
        <p:blipFill>
          <a:blip r:embed="rId1"/>
          <a:srcRect l="32196" t="7219" r="62993" b="84322"/>
          <a:stretch/>
        </p:blipFill>
        <p:spPr>
          <a:xfrm>
            <a:off x="6143760" y="1643040"/>
            <a:ext cx="780840" cy="771480"/>
          </a:xfrm>
          <a:prstGeom prst="rect">
            <a:avLst/>
          </a:prstGeom>
          <a:ln w="0">
            <a:noFill/>
          </a:ln>
        </p:spPr>
      </p:pic>
      <p:pic>
        <p:nvPicPr>
          <p:cNvPr id="362" name="Obrázek 6" descr="LoopBlock.png"/>
          <p:cNvPicPr/>
          <p:nvPr/>
        </p:nvPicPr>
        <p:blipFill>
          <a:blip r:embed="rId2"/>
          <a:stretch/>
        </p:blipFill>
        <p:spPr>
          <a:xfrm>
            <a:off x="1357200" y="3429000"/>
            <a:ext cx="3448080" cy="1171440"/>
          </a:xfrm>
          <a:prstGeom prst="rect">
            <a:avLst/>
          </a:prstGeom>
          <a:ln w="0">
            <a:noFill/>
          </a:ln>
        </p:spPr>
      </p:pic>
      <p:pic>
        <p:nvPicPr>
          <p:cNvPr id="363" name="Obrázek 7" descr="LoopBlock2.png"/>
          <p:cNvPicPr/>
          <p:nvPr/>
        </p:nvPicPr>
        <p:blipFill>
          <a:blip r:embed="rId3"/>
          <a:stretch/>
        </p:blipFill>
        <p:spPr>
          <a:xfrm>
            <a:off x="2357280" y="5286240"/>
            <a:ext cx="3981600" cy="1152720"/>
          </a:xfrm>
          <a:prstGeom prst="rect">
            <a:avLst/>
          </a:prstGeom>
          <a:ln w="0">
            <a:noFill/>
          </a:ln>
        </p:spPr>
      </p:pic>
      <p:sp>
        <p:nvSpPr>
          <p:cNvPr id="364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B58F-C3BD-4B10-818A-483442ED766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Loop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dmínky pro ukončení smyčky mohou být následujíc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ekonečná smyčka =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nebude ukonče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ýstup senzor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Uplynulý č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čet opakování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Logický signá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nfigurační panel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stavení  je obdobné jako u bloku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Wait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stavíte podmínku a když bude splněna, tak bude smyčka ukončen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 rozdíl od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bloku je zde možnost zaškrtnout funkci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„Counter“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, která když bude aktivní, tak se objeví zástrčka, z které budete moci přenést číslo, představující počet dokončených smyček,  do jiného  programovacího bloku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3F96-4F34-40C2-8D3E-045CC16E468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witch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edná se o rozhodovací blo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dyž je splněna první podmínka provede se něco, když je splněna druhá podmínka provede se něco jinéh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akto například vypadá blok na programovací ploše, pokud rozhodování je ovlivněno stavem dotykového senzoru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0" name="Obrázek 31" descr="CommnonBlocksPalette.png"/>
          <p:cNvPicPr/>
          <p:nvPr/>
        </p:nvPicPr>
        <p:blipFill>
          <a:blip r:embed="rId1"/>
          <a:srcRect l="38058" t="7425" r="57222" b="84190"/>
          <a:stretch/>
        </p:blipFill>
        <p:spPr>
          <a:xfrm>
            <a:off x="5143680" y="128592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371" name="Obrázek 7" descr="SwitchBlock.png"/>
          <p:cNvPicPr/>
          <p:nvPr/>
        </p:nvPicPr>
        <p:blipFill>
          <a:blip r:embed="rId2"/>
          <a:stretch/>
        </p:blipFill>
        <p:spPr>
          <a:xfrm>
            <a:off x="2500200" y="3714840"/>
            <a:ext cx="4057920" cy="2076480"/>
          </a:xfrm>
          <a:prstGeom prst="rect">
            <a:avLst/>
          </a:prstGeom>
          <a:ln w="0">
            <a:noFill/>
          </a:ln>
        </p:spPr>
      </p:pic>
      <p:sp>
        <p:nvSpPr>
          <p:cNvPr id="37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4F127-C8D4-4825-BB2C-8AFEFF5A43D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mon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witch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stavení podmínek je opět podobné jako u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bo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Loop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 konfiguračním panelu máte v sekci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ontrol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 dispozici rozbalovací menu s výběrem mezi dvěma možnostmi pro rozhodová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mocí hodnoty -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Value –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Může se jednat o typ číslo, text nebo logická hodnot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mocí senzoru -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Sensor –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stavení obdobné jako u bloku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Wait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 </a:t>
            </a:r>
            <a:r>
              <a:rPr b="0" i="1" lang="cs-CZ" sz="1600" spc="-1" strike="noStrike">
                <a:solidFill>
                  <a:srgbClr val="000000"/>
                </a:solidFill>
                <a:latin typeface="Verdana"/>
              </a:rPr>
              <a:t>Loop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vládání konfiguračního panelu je velmi jednoduché a intuitivní a na možnosti nastavení přijdete určitě už sa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by jste si přece jen nevěděli rady, tak na tomto odkazu najdete podrobný pop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D2A77-2F6A-4DDA-B490-786D6EC9E0F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sahuje kompletně všechny programovací 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sahuje pět sekcí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ommon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ction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ensor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Flow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Advanced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blok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7B133-CC3A-44C1-8059-290F869C971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Commo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hodné s bloky z palety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Comm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Action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í ovládat chování výstupních zaříze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Interaktivní servomotor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T reprodukt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T displej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luetooth – odesl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vítidl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Obrázek 33" descr="CompletePaction.png"/>
          <p:cNvPicPr/>
          <p:nvPr/>
        </p:nvPicPr>
        <p:blipFill>
          <a:blip r:embed="rId1"/>
          <a:srcRect l="8023" t="9758" r="64863" b="81631"/>
          <a:stretch/>
        </p:blipFill>
        <p:spPr>
          <a:xfrm>
            <a:off x="3357720" y="5000760"/>
            <a:ext cx="4010040" cy="715680"/>
          </a:xfrm>
          <a:prstGeom prst="rect">
            <a:avLst/>
          </a:prstGeom>
          <a:ln w="0">
            <a:noFill/>
          </a:ln>
        </p:spPr>
      </p:pic>
      <p:pic>
        <p:nvPicPr>
          <p:cNvPr id="382" name="Obrázek 32" descr="CompletePcommon.png"/>
          <p:cNvPicPr/>
          <p:nvPr/>
        </p:nvPicPr>
        <p:blipFill>
          <a:blip r:embed="rId2"/>
          <a:srcRect l="2814" t="13414" r="61563" b="77241"/>
          <a:stretch/>
        </p:blipFill>
        <p:spPr>
          <a:xfrm>
            <a:off x="3357720" y="2214720"/>
            <a:ext cx="4905360" cy="723600"/>
          </a:xfrm>
          <a:prstGeom prst="rect">
            <a:avLst/>
          </a:prstGeom>
          <a:ln w="0">
            <a:noFill/>
          </a:ln>
        </p:spPr>
      </p:pic>
      <p:sp>
        <p:nvSpPr>
          <p:cNvPr id="38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4F489-192F-40CB-A02C-1A66FA7E9C1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ensor 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ombinací těchto bloků se senzory lze ovládat chování robo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 odpovídaj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tykovému, zvukovému, světelnému a ultrazvukovému senzoru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XT tlačítků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o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táčení servomotorů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časovačům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luetooth (odeslání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olitelnému teplotnímu senzor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6" name="Obrázek 36" descr="CompletePsensor.png"/>
          <p:cNvPicPr/>
          <p:nvPr/>
        </p:nvPicPr>
        <p:blipFill>
          <a:blip r:embed="rId1"/>
          <a:srcRect l="8784" t="28107" r="51584" b="54547"/>
          <a:stretch/>
        </p:blipFill>
        <p:spPr>
          <a:xfrm>
            <a:off x="1643040" y="3929040"/>
            <a:ext cx="5514840" cy="1357200"/>
          </a:xfrm>
          <a:prstGeom prst="rect">
            <a:avLst/>
          </a:prstGeom>
          <a:ln w="0">
            <a:noFill/>
          </a:ln>
        </p:spPr>
      </p:pic>
      <p:sp>
        <p:nvSpPr>
          <p:cNvPr id="38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9C82-AD73-4402-BE0E-C249D3E1BF9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00040" y="1285560"/>
            <a:ext cx="8183520" cy="51433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Flow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Umožňují vytvářet více komplexní chová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Jsou zde bloky pr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ek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pakov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ozhodov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astavení určité činnost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at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louží pro nastavení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Booleovské logiky, matematiky, porovnání rozsahu, náhodných podmínek, proměnných a konstan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Obrázek 34" descr="CompletePflow.png"/>
          <p:cNvPicPr/>
          <p:nvPr/>
        </p:nvPicPr>
        <p:blipFill>
          <a:blip r:embed="rId1"/>
          <a:srcRect l="6261" t="7721" r="71154" b="83742"/>
          <a:stretch/>
        </p:blipFill>
        <p:spPr>
          <a:xfrm>
            <a:off x="3929040" y="2143080"/>
            <a:ext cx="3365640" cy="714600"/>
          </a:xfrm>
          <a:prstGeom prst="rect">
            <a:avLst/>
          </a:prstGeom>
          <a:ln w="0">
            <a:noFill/>
          </a:ln>
        </p:spPr>
      </p:pic>
      <p:pic>
        <p:nvPicPr>
          <p:cNvPr id="391" name="Obrázek 35" descr="CompletePdata.png"/>
          <p:cNvPicPr/>
          <p:nvPr/>
        </p:nvPicPr>
        <p:blipFill>
          <a:blip r:embed="rId2"/>
          <a:srcRect l="8216" t="35917" r="56439" b="55511"/>
          <a:stretch/>
        </p:blipFill>
        <p:spPr>
          <a:xfrm>
            <a:off x="2500200" y="5214960"/>
            <a:ext cx="5457960" cy="743040"/>
          </a:xfrm>
          <a:prstGeom prst="rect">
            <a:avLst/>
          </a:prstGeom>
          <a:ln w="0">
            <a:noFill/>
          </a:ln>
        </p:spPr>
      </p:pic>
      <p:sp>
        <p:nvSpPr>
          <p:cNvPr id="392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D18A-3323-441C-AD47-D17CE3A11CF8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omplete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Advanced blo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ásledující bloky jsou určeny k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nvertování dat na tex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dání tex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vládání funkce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sleep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NXT kostc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ládání souborů do NXT kostk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alibraci senzor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Resetování motor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ahájení záznamu d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Ukončení záznamu d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ipojení pomocí Bluetoot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5" name="Obrázek 38" descr="CompletePadvanced.png"/>
          <p:cNvPicPr/>
          <p:nvPr/>
        </p:nvPicPr>
        <p:blipFill>
          <a:blip r:embed="rId1"/>
          <a:srcRect l="6233" t="27133" r="54209" b="55585"/>
          <a:stretch/>
        </p:blipFill>
        <p:spPr>
          <a:xfrm>
            <a:off x="2071800" y="5000760"/>
            <a:ext cx="5514840" cy="1353960"/>
          </a:xfrm>
          <a:prstGeom prst="rect">
            <a:avLst/>
          </a:prstGeom>
          <a:ln w="0">
            <a:noFill/>
          </a:ln>
        </p:spPr>
      </p:pic>
      <p:sp>
        <p:nvSpPr>
          <p:cNvPr id="396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49B3-8958-4680-A501-0B7FC7CA7AB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 - </a:t>
            </a:r>
            <a:r>
              <a:rPr b="1" i="1" lang="cs-CZ" sz="3200" spc="-1" strike="noStrike">
                <a:solidFill>
                  <a:srgbClr val="ff8d3e"/>
                </a:solidFill>
                <a:latin typeface="Verdana"/>
              </a:rPr>
              <a:t>Controller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0040" y="1428480"/>
            <a:ext cx="8183520" cy="45003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řed použitím jakéhokoliv tlačítka je nutné mít připojenou NXT kostku k PC pomocí USB kabelu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4" name="Obrázek 5" descr="ControllerPopis.png"/>
          <p:cNvPicPr/>
          <p:nvPr/>
        </p:nvPicPr>
        <p:blipFill>
          <a:blip r:embed="rId1"/>
          <a:stretch/>
        </p:blipFill>
        <p:spPr>
          <a:xfrm>
            <a:off x="2206800" y="1639800"/>
            <a:ext cx="4584600" cy="3084480"/>
          </a:xfrm>
          <a:prstGeom prst="rect">
            <a:avLst/>
          </a:prstGeom>
          <a:ln w="0">
            <a:noFill/>
          </a:ln>
        </p:spPr>
      </p:pic>
      <p:sp>
        <p:nvSpPr>
          <p:cNvPr id="235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9134-C785-442C-A5B9-F0E4D429533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ff8d3e"/>
                </a:solidFill>
                <a:latin typeface="Verdana"/>
              </a:rPr>
              <a:t>Custom </a:t>
            </a: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paleta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bsahuje následující dvě sekc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My 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bloky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Zde se nachází bloky, které jste sami vytvořil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Verdana"/>
              </a:rPr>
              <a:t>Web downloads</a:t>
            </a: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Zde jsou bloky, které jste stáhli z emailu, portálu nebo webových stránek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Obrázek 39" descr="CustomPblocks.png"/>
          <p:cNvPicPr/>
          <p:nvPr/>
        </p:nvPicPr>
        <p:blipFill>
          <a:blip r:embed="rId1"/>
          <a:srcRect l="12665" t="9684" r="82549" b="81842"/>
          <a:stretch/>
        </p:blipFill>
        <p:spPr>
          <a:xfrm>
            <a:off x="2428920" y="2214720"/>
            <a:ext cx="780840" cy="780840"/>
          </a:xfrm>
          <a:prstGeom prst="rect">
            <a:avLst/>
          </a:prstGeom>
          <a:ln w="0">
            <a:noFill/>
          </a:ln>
        </p:spPr>
      </p:pic>
      <p:pic>
        <p:nvPicPr>
          <p:cNvPr id="400" name="Obrázek 39" descr="CustomPblocks.png"/>
          <p:cNvPicPr/>
          <p:nvPr/>
        </p:nvPicPr>
        <p:blipFill>
          <a:blip r:embed="rId2"/>
          <a:srcRect l="19285" t="9605" r="75981" b="82064"/>
          <a:stretch/>
        </p:blipFill>
        <p:spPr>
          <a:xfrm>
            <a:off x="2428920" y="4572000"/>
            <a:ext cx="779400" cy="770040"/>
          </a:xfrm>
          <a:prstGeom prst="rect">
            <a:avLst/>
          </a:prstGeom>
          <a:ln w="0">
            <a:noFill/>
          </a:ln>
        </p:spPr>
      </p:pic>
      <p:sp>
        <p:nvSpPr>
          <p:cNvPr id="401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40C9C-B890-47BE-A1C5-A360962FC62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Verdana"/>
              </a:rPr>
              <a:t>Obecné zásad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loky z programovací palety lze přemísťovat 2 způsoby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jeďte kurzorem myši nad blok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iskn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ě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e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a držte levé tlačítko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my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ši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jeďte na místo, kam chcete blok umístit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 pus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ťte tlačítko myši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Klikněte na blok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najeďte na požadované místo -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tam kliknět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vní blok se vždy umísťuje na programovací ploše do místa, kde je napsáno „Start“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cs-CZ" sz="12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cs-CZ" sz="1200" spc="-1" strike="noStrike">
                <a:solidFill>
                  <a:srgbClr val="ff0000"/>
                </a:solidFill>
                <a:latin typeface="Verdana"/>
              </a:rPr>
              <a:t>startovní bod“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Toto místo je spojeno pomocí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odorovného bílého „výběžku“ s bodem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de je zobrazena ikona programu NXT -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tento bod se nazývá 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ovn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í bod“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e startovního bodu vychází celkem tři bílé „výběžky“ a nazývají se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Sequence beams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– „sekvenční paprsky“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4" name="Obrázek 58" descr="StartingPoint.png"/>
          <p:cNvPicPr/>
          <p:nvPr/>
        </p:nvPicPr>
        <p:blipFill>
          <a:blip r:embed="rId1"/>
          <a:srcRect l="12067" t="8828" r="75694" b="76124"/>
          <a:stretch/>
        </p:blipFill>
        <p:spPr>
          <a:xfrm>
            <a:off x="6786720" y="3143160"/>
            <a:ext cx="1857240" cy="1285920"/>
          </a:xfrm>
          <a:prstGeom prst="rect">
            <a:avLst/>
          </a:prstGeom>
          <a:ln w="0">
            <a:noFill/>
          </a:ln>
        </p:spPr>
      </p:pic>
      <p:cxnSp>
        <p:nvCxnSpPr>
          <p:cNvPr id="405" name="Přímá spojovací šipka 9"/>
          <p:cNvCxnSpPr/>
          <p:nvPr/>
        </p:nvCxnSpPr>
        <p:spPr>
          <a:xfrm>
            <a:off x="4786200" y="3285720"/>
            <a:ext cx="29296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6" name="Přímá spojovací šipka 16"/>
          <p:cNvCxnSpPr/>
          <p:nvPr/>
        </p:nvCxnSpPr>
        <p:spPr>
          <a:xfrm>
            <a:off x="6286320" y="3714840"/>
            <a:ext cx="643320" cy="7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7" name="Zástupný symbol pro číslo snímku 6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DFE3-B792-4F5D-8CF0-03AEEA316AC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Sequence beam –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„sekvenční paprsek“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Řídí tok vašeho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Určuje pořadí, v jakém budou jednotlivé bloky vykonán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o NXT kostky budou staženy jen ty bloky, které jsou spojeny „sekvenčním paprskem“, který vychází ze startovního bod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Dva dru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sekvenčních paprsků“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Hlavní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edlejší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0" name="Obrázek 59" descr="ParallelSequenceBeamsExample.png"/>
          <p:cNvPicPr/>
          <p:nvPr/>
        </p:nvPicPr>
        <p:blipFill>
          <a:blip r:embed="rId1"/>
          <a:srcRect l="13390" t="6810" r="65126" b="62356"/>
          <a:stretch/>
        </p:blipFill>
        <p:spPr>
          <a:xfrm>
            <a:off x="5500800" y="3786120"/>
            <a:ext cx="2752560" cy="2216160"/>
          </a:xfrm>
          <a:prstGeom prst="rect">
            <a:avLst/>
          </a:prstGeom>
          <a:ln w="0">
            <a:noFill/>
          </a:ln>
        </p:spPr>
      </p:pic>
      <p:cxnSp>
        <p:nvCxnSpPr>
          <p:cNvPr id="411" name="Přímá spojovací šipka 6"/>
          <p:cNvCxnSpPr/>
          <p:nvPr/>
        </p:nvCxnSpPr>
        <p:spPr>
          <a:xfrm>
            <a:off x="2071800" y="5072040"/>
            <a:ext cx="400104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2" name="Přímá spojovací šipka 9"/>
          <p:cNvCxnSpPr/>
          <p:nvPr/>
        </p:nvCxnSpPr>
        <p:spPr>
          <a:xfrm flipV="1">
            <a:off x="2214720" y="4714560"/>
            <a:ext cx="3643920" cy="714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3" name="Přímá spojovací šipka 12"/>
          <p:cNvCxnSpPr/>
          <p:nvPr/>
        </p:nvCxnSpPr>
        <p:spPr>
          <a:xfrm>
            <a:off x="2214360" y="5429160"/>
            <a:ext cx="35722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14" name="Zástupný symbol pro číslo snímku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156BC-35C7-44E0-B5C7-7D4E82B17E4F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ytvoření paralelní větve v programu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Chcete-li vytvořit paralelní větev a máte například takto umístěné bloky, tak najeďte kurzorem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yši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místo, které je v obrázku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označeno modř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té co se šipka myši změní v takov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vazek drátu“, klikněte levým tlačítk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myš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yní jste v režimu vytváření nového „sekvenčního paprsku“ a můžete přesunout kurzor myši na místo, které je v obrázku označeno červe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Zde klikněte a máte vytvořenou paralelní větev program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Pozn. : Paralelní větev umožňuje programu současné vykonávání bloků. 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7" name="Obrázek 9" descr="PrikladNaParalelniVetev.png"/>
          <p:cNvPicPr/>
          <p:nvPr/>
        </p:nvPicPr>
        <p:blipFill>
          <a:blip r:embed="rId1"/>
          <a:stretch/>
        </p:blipFill>
        <p:spPr>
          <a:xfrm>
            <a:off x="6215040" y="2143080"/>
            <a:ext cx="2428920" cy="1844640"/>
          </a:xfrm>
          <a:prstGeom prst="rect">
            <a:avLst/>
          </a:prstGeom>
          <a:ln w="0">
            <a:noFill/>
          </a:ln>
        </p:spPr>
      </p:pic>
      <p:cxnSp>
        <p:nvCxnSpPr>
          <p:cNvPr id="418" name="Přímá spojovací šipka 12"/>
          <p:cNvCxnSpPr/>
          <p:nvPr/>
        </p:nvCxnSpPr>
        <p:spPr>
          <a:xfrm flipH="1">
            <a:off x="7286400" y="2071440"/>
            <a:ext cx="144720" cy="284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19" name="Přímá spojovací šipka 20"/>
          <p:cNvCxnSpPr/>
          <p:nvPr/>
        </p:nvCxnSpPr>
        <p:spPr>
          <a:xfrm>
            <a:off x="5286240" y="2643120"/>
            <a:ext cx="929520" cy="28656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0" name="Přímá spojovací čára 26"/>
          <p:cNvSpPr/>
          <p:nvPr/>
        </p:nvSpPr>
        <p:spPr>
          <a:xfrm flipH="1">
            <a:off x="499680" y="4929120"/>
            <a:ext cx="428760" cy="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římá spojovací čára 28"/>
          <p:cNvSpPr/>
          <p:nvPr/>
        </p:nvSpPr>
        <p:spPr>
          <a:xfrm>
            <a:off x="500040" y="4929120"/>
            <a:ext cx="0" cy="114300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římá spojovací čára 30"/>
          <p:cNvSpPr/>
          <p:nvPr/>
        </p:nvSpPr>
        <p:spPr>
          <a:xfrm>
            <a:off x="500040" y="6072120"/>
            <a:ext cx="8143920" cy="0"/>
          </a:xfrm>
          <a:prstGeom prst="line">
            <a:avLst/>
          </a:prstGeom>
          <a:ln w="42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3" name="Přímá spojovací šipka 34"/>
          <p:cNvCxnSpPr/>
          <p:nvPr/>
        </p:nvCxnSpPr>
        <p:spPr>
          <a:xfrm flipV="1">
            <a:off x="8642880" y="3999960"/>
            <a:ext cx="1080" cy="2073960"/>
          </a:xfrm>
          <a:prstGeom prst="straightConnector1">
            <a:avLst/>
          </a:prstGeom>
          <a:ln w="424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24" name="Zástupný symbol pro číslo snímku 10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F95A-BB03-4700-8E1D-005F2FDFF2E2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500040" y="1285560"/>
            <a:ext cx="8183520" cy="50007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ytvoření paralelní větve v programu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aralelní větev nemusíte vytvářet jen ze „startovního bodu“ ale z jakéhokoliv místa „sekvenčního paprsku“  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Máte například takovéto uspořádání bloků a chcete vytvořit paralelní věte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stup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jeďte kurzorem myši na místo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značené v obrázku modře a šipka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e změní v oboustrannou šipk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iskněte s držte klávesu Shi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boustranná šipka se změní ve „svazek drátu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likněte levým tlačítkem myši a dostanete se do režimu vytváření nového „sekvenčního paprsku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suňte se na místo, které je na obrázku označeno červeně a tam klikněte, pusťte klávesu Shift a je hotov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27" name="Obrázek 4" descr="PrikladNaParalelniVetevVprogramu.png"/>
          <p:cNvPicPr/>
          <p:nvPr/>
        </p:nvPicPr>
        <p:blipFill>
          <a:blip r:embed="rId1"/>
          <a:stretch/>
        </p:blipFill>
        <p:spPr>
          <a:xfrm>
            <a:off x="5464080" y="2714760"/>
            <a:ext cx="3165480" cy="1785960"/>
          </a:xfrm>
          <a:prstGeom prst="rect">
            <a:avLst/>
          </a:prstGeom>
          <a:ln w="0">
            <a:noFill/>
          </a:ln>
        </p:spPr>
      </p:pic>
      <p:sp>
        <p:nvSpPr>
          <p:cNvPr id="428" name="Přímá spojovací čára 6"/>
          <p:cNvSpPr/>
          <p:nvPr/>
        </p:nvSpPr>
        <p:spPr>
          <a:xfrm>
            <a:off x="3429000" y="2643120"/>
            <a:ext cx="0" cy="4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29" name="Přímá spojovací šipka 8"/>
          <p:cNvCxnSpPr/>
          <p:nvPr/>
        </p:nvCxnSpPr>
        <p:spPr>
          <a:xfrm>
            <a:off x="3429000" y="3071880"/>
            <a:ext cx="20008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0" name="Zástupný symbol pro číslo snímku 7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47203-7D40-4AB6-938E-F32576697509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mazání bloku z programovací ploch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chcete blok odstranit z programovací plochy, tak postupujte následovně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likněte na příslušný blok nebo na něj jen najeďte kurzorem myši a po asi jedné sekundě bude vybrán – obvod bloku bude zvýrazněn modrou barvo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ak již stačí stisknout klávesu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Delete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a blok bude smazán z programovací ploch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Přesun bloku po programovací ploš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stup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jeďte kurzorem myši na programovací blo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Stiskněte a držte levé tlačítko myš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řesuňte se na místo, kam chcete blok umístit a pusťte tlačítko myši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7B8D5-F098-47A2-BF15-DC73DF3A1FCB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5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ata h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Data hub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je funkcionalita, s kterou přichází většina programovacích blok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Postup na rozbalení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Data hub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bídky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1. Umístěte blok na programovací ploch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2. Přesuňte kurzor myši na blok do místa, jako je uvede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 obrázku níže, aby se objevila oboustranná šipka 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klikně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3. Rozbalí se </a:t>
            </a:r>
            <a:r>
              <a:rPr b="0" i="1" lang="cs-CZ" sz="2000" spc="-1" strike="noStrike">
                <a:solidFill>
                  <a:srgbClr val="000000"/>
                </a:solidFill>
                <a:latin typeface="Verdana"/>
              </a:rPr>
              <a:t>Data hub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abídka s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stupními zástrčkami na levé stran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a výstupními zástrčkami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6" name="Obrázek 4" descr="DataHubMisto.png"/>
          <p:cNvPicPr/>
          <p:nvPr/>
        </p:nvPicPr>
        <p:blipFill>
          <a:blip r:embed="rId1"/>
          <a:stretch/>
        </p:blipFill>
        <p:spPr>
          <a:xfrm>
            <a:off x="6429240" y="4000680"/>
            <a:ext cx="1695600" cy="1095120"/>
          </a:xfrm>
          <a:prstGeom prst="rect">
            <a:avLst/>
          </a:prstGeom>
          <a:ln w="0">
            <a:noFill/>
          </a:ln>
        </p:spPr>
      </p:pic>
      <p:sp>
        <p:nvSpPr>
          <p:cNvPr id="43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7056-0A14-47F7-AE61-35FCBFE3C28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ata hub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Takto například vypadá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Data hub 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nabídka </a:t>
            </a:r>
            <a:r>
              <a:rPr b="0" i="1" lang="cs-CZ" sz="2400" spc="-1" strike="noStrike">
                <a:solidFill>
                  <a:srgbClr val="000000"/>
                </a:solidFill>
                <a:latin typeface="Verdana"/>
              </a:rPr>
              <a:t>Mov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 blok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0" name="Obrázek 42" descr="DataHubNabidkaProMotorBlock.png"/>
          <p:cNvPicPr/>
          <p:nvPr/>
        </p:nvPicPr>
        <p:blipFill>
          <a:blip r:embed="rId1"/>
          <a:srcRect l="21451" t="5231" r="65831" b="54940"/>
          <a:stretch/>
        </p:blipFill>
        <p:spPr>
          <a:xfrm>
            <a:off x="2786040" y="2286000"/>
            <a:ext cx="1838520" cy="3238560"/>
          </a:xfrm>
          <a:prstGeom prst="rect">
            <a:avLst/>
          </a:prstGeom>
          <a:ln w="0">
            <a:noFill/>
          </a:ln>
        </p:spPr>
      </p:pic>
      <p:sp>
        <p:nvSpPr>
          <p:cNvPr id="44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A03A-5C1A-4A02-B588-A16DA6150FA4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Data hubs –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vytváření datových spoje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kud najedete kurzorem myši nad zástrčku, tak se šipka změní ve „svazek drátu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o kliknutí přejdete do režimu vytváření datového spojení a můžete tak vytvořit spojení z výstupní zástrčky jednoho bloku do vstupní zástrčky druhého blok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Datovým spojením lze přenášet informaci ve formě čísla, textu nebo logické hodno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právně vytvořené spojení je znázorněno plnou čar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Nesprávně vytvořené spojení je znázorněno tečkovanou šedou čarou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Barvy ča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c000"/>
                </a:solidFill>
                <a:latin typeface="Verdana"/>
              </a:rPr>
              <a:t>Žlutá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data ve formě čís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6600"/>
                </a:solidFill>
                <a:latin typeface="Verdana"/>
              </a:rPr>
              <a:t>Oranžová</a:t>
            </a:r>
            <a:r>
              <a:rPr b="0" lang="cs-CZ" sz="1600" spc="-1" strike="noStrike">
                <a:solidFill>
                  <a:srgbClr val="ff9900"/>
                </a:solidFill>
                <a:latin typeface="Verdana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data ve formě text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92d050"/>
                </a:solidFill>
                <a:latin typeface="Verdana"/>
              </a:rPr>
              <a:t>Zelená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 – data ve formě logických hodno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E2C4-67B8-4E5C-BB27-16E9D765087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Jak programovat v NXT-G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500040" y="1285560"/>
            <a:ext cx="8183520" cy="50720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hodnocen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b050"/>
                </a:solidFill>
                <a:latin typeface="Verdana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Jednoduché a intuitivní ovlád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hodné pro úplné začátečníky v programování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Verdana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evhodné pro psaní rozsáhlejších program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Komplikované definování uživatelských proměnných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Chybějící datová struktura pole – array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displeji NXT kostky lze zobrazovat pouze celá čísla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2A88-E24D-42D9-92F2-5F5D7E21E72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 - </a:t>
            </a:r>
            <a:r>
              <a:rPr b="1" i="1" lang="cs-CZ" sz="3200" spc="-1" strike="noStrike">
                <a:solidFill>
                  <a:srgbClr val="ff8d3e"/>
                </a:solidFill>
                <a:latin typeface="Verdana"/>
              </a:rPr>
              <a:t>Controller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64304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Obsahuje 5 tlačítek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NXT Window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– otevře NXT okno s obecnými informacem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o NXT kostce, o paměti a komunikaci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Download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– stáhne program do NXT kostky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Download and run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– stáhne program do NXT kostky a spustí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Download and run selected 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– stáhne a spustí jen část programového kódu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900" spc="-1" strike="noStrike">
                <a:solidFill>
                  <a:srgbClr val="000000"/>
                </a:solidFill>
                <a:latin typeface="Verdana"/>
              </a:rPr>
              <a:t>Stop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– zastaví běžící program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5B81-4752-4BE2-AF45-80586E7DCC27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43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99680" y="121428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97000"/>
          </a:bodyPr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Monografi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1] KELLY, James Floyd. LEGO® MINDSTORMS® NXT – G Programming Guide. [s.l.] 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Apress, 2007. 196 s. ISBN 1590598717, ISBN-13: 978-1590598719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2] ASTOLFO, Dave; FERRARI, Mario; FERRARI, Giulio. Bulding Robots With Lego®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Mindstorms® NXT. Burlington (Massachusetts) : Syngress, 2007. 448 s. ISBN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1597491527, ISBN-13: 978-1597491525. 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3] GASPERI, Michael; HURBAIN, Philippe E.; HURBAIN, Isabelle L. Extreme NXT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Extending the LEGO® MINDSTORMS® NXT to the Next Level. [s.l.] : Apress, 2007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12 s. ISBN 1590598180, ISBN-13: 978-1590598184.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Bakalářské práce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4] TROJÁNEK, Pavel. Využití robota LEGO MINDSTORMS při výuce. Praha, 2009. 94 s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Bakalářská práce. České vysoké učení technické v Praze, Fakulta elektrotechnická,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Katedra řídící techniky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Internetové odkazy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The NXT STEP - LEGO® MINDSTORMS® NXT blog : Hom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online]. c2006 [cit. </a:t>
            </a: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2010-05-15]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Dostup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é z WWW: 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thenxtstep.blogspot.com/2006/05/how-robocenter-works.html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MINDSTORMS.LEGO.com : Home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online]. c2010 [cit. 2010-05-15]. Dostup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 WWW: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mindstorms.lego.com/en-us/whatisnxt/default.aspx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56680" indent="-2566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05A60-347B-4DD2-B227-CEF3E07E095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152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Seznam zdrojů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99680" y="1357200"/>
            <a:ext cx="83581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Internetové odkazy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ORTOP – Oregon Robotics Tournament and Outreach Program [online]. c2010 [cit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2010-05-15]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Essentials. Dostupné z WWW: 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1"/>
              </a:rPr>
              <a:t>http://www.ortop.org/NXT_Tutorial/html/essentials.html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National Instruments Corporation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online]. c2010 [cit. 2010-05-15]. How LEGO®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INDSTORMS® NXT Works. Dostup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é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 WWW: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2"/>
              </a:rPr>
              <a:t>http://www.ni.com/academic/mindstorms/works.htm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Robot Magazine – The Latest in Hobby, Science and Consumer Robotics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online]. C200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cit. 2010-05-15]. Programming Solutions for the LEGO MINDSTORMS NX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Dostupn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é z WWW: 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3"/>
              </a:rPr>
              <a:t>http://www.botmag.com/articles/10-31-07_NXT.shtml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[10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Team Hassenplug [online]. c2007 [cit. 2010-05-15]. NXT Programming Softwar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stupné z WWW: &lt;</a:t>
            </a:r>
            <a:r>
              <a:rPr b="0" lang="cs-CZ" sz="1200" spc="-1" strike="noStrike" u="sng">
                <a:solidFill>
                  <a:srgbClr val="6b9f25"/>
                </a:solidFill>
                <a:uFillTx/>
                <a:latin typeface="Verdana"/>
                <a:hlinkClick r:id="rId4"/>
              </a:rPr>
              <a:t>http://www.teamhassenplug.org/NXT/NXTSoftware.html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statní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LEGO® MINDSTORMS® Education. NXT 2.0 Programming Help, 2008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[1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] LEGO® MINDSTORMS® Education. NXT 2.0 UserGuide, 2008 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B4B35-1D6A-4905-AEAD-90955B231DAD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 - </a:t>
            </a:r>
            <a:r>
              <a:rPr b="1" i="1" lang="cs-CZ" sz="3200" spc="-1" strike="noStrike">
                <a:solidFill>
                  <a:srgbClr val="ff8d3e"/>
                </a:solidFill>
                <a:latin typeface="Verdana"/>
              </a:rPr>
              <a:t>Controller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00040" y="1499760"/>
            <a:ext cx="8183520" cy="4429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74000"/>
          </a:bodyPr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XT Window - Communication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Podává informaci o připojených zařízení k P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 sekci </a:t>
            </a:r>
            <a:r>
              <a:rPr b="0" i="1" lang="cs-CZ" sz="1800" spc="-1" strike="noStrike">
                <a:solidFill>
                  <a:srgbClr val="000000"/>
                </a:solidFill>
                <a:latin typeface="Verdana"/>
              </a:rPr>
              <a:t>NXT Data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jdete tyto informac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Jméno NXT kostk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Stav nabití baterie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Velikost volného místa paměti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- Verze Firmwaru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195840" indent="-195840"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05000" indent="-1476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0F499-931C-43D3-A809-9D9185FB8503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Obrázek 5" descr="CommunicationsTab.png"/>
          <p:cNvPicPr/>
          <p:nvPr/>
        </p:nvPicPr>
        <p:blipFill>
          <a:blip r:embed="rId1"/>
          <a:stretch/>
        </p:blipFill>
        <p:spPr>
          <a:xfrm>
            <a:off x="2000160" y="2357280"/>
            <a:ext cx="478656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ff8d3e"/>
                </a:solidFill>
                <a:latin typeface="Verdana"/>
              </a:rPr>
              <a:t>Seznámení s programovacím prostředím - </a:t>
            </a:r>
            <a:r>
              <a:rPr b="1" i="1" lang="cs-CZ" sz="3200" spc="-1" strike="noStrike">
                <a:solidFill>
                  <a:srgbClr val="ff8d3e"/>
                </a:solidFill>
                <a:latin typeface="Verdana"/>
              </a:rPr>
              <a:t>Controller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500120"/>
            <a:ext cx="8183520" cy="48578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Verdana"/>
              </a:rPr>
              <a:t>NXT Window – Mem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Na této záložce najdet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Grafický přehled o využité a volné části pamět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lačítko pro vymazání všech nahraných programů od uživatele a vyčištění NXT pamět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lačítko pro nahrání programu z NXT kostky do PC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lačítko pro nahrání programu z PC do NXT kostk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Tlačítko pro smazání vybraného souboru z NXT kostk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Seznam souborů v aktuálně označené kategorii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Zaškrtávací políčko pro zobrazení systémových souborů NXT kostky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852D-F7E1-4D65-A2EA-643ECC3BE38C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Obrázek 5" descr="MemoryTab.png"/>
          <p:cNvPicPr/>
          <p:nvPr/>
        </p:nvPicPr>
        <p:blipFill>
          <a:blip r:embed="rId1"/>
          <a:stretch/>
        </p:blipFill>
        <p:spPr>
          <a:xfrm>
            <a:off x="2143080" y="4429080"/>
            <a:ext cx="465768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Vytvoření nového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1. Způsob – z úvodního ok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Obrázek 5" descr="VytvoreniProgramu1.png"/>
          <p:cNvPicPr/>
          <p:nvPr/>
        </p:nvPicPr>
        <p:blipFill>
          <a:blip r:embed="rId1"/>
          <a:stretch/>
        </p:blipFill>
        <p:spPr>
          <a:xfrm>
            <a:off x="1920960" y="1994040"/>
            <a:ext cx="4833720" cy="3443040"/>
          </a:xfrm>
          <a:prstGeom prst="rect">
            <a:avLst/>
          </a:prstGeom>
          <a:ln w="0">
            <a:noFill/>
          </a:ln>
        </p:spPr>
      </p:pic>
      <p:sp>
        <p:nvSpPr>
          <p:cNvPr id="250" name="Zástupný symbol pro číslo snímku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5D8C1-19BF-4291-8BF3-9B5355B54400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8d3e"/>
                </a:solidFill>
                <a:latin typeface="Verdana"/>
              </a:rPr>
              <a:t>Vytvoření nového programu 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00040" y="128556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2. Způsob – z roletové nabídk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3. Způsob – tlačítkem z liš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Obrázek 6" descr="VytvoreniProgramu2.png"/>
          <p:cNvPicPr/>
          <p:nvPr/>
        </p:nvPicPr>
        <p:blipFill>
          <a:blip r:embed="rId1"/>
          <a:stretch/>
        </p:blipFill>
        <p:spPr>
          <a:xfrm>
            <a:off x="3643200" y="1714680"/>
            <a:ext cx="1841760" cy="2286000"/>
          </a:xfrm>
          <a:prstGeom prst="rect">
            <a:avLst/>
          </a:prstGeom>
          <a:ln w="0">
            <a:noFill/>
          </a:ln>
        </p:spPr>
      </p:pic>
      <p:pic>
        <p:nvPicPr>
          <p:cNvPr id="254" name="Obrázek 8" descr="VytvoreniProgramu3.png"/>
          <p:cNvPicPr/>
          <p:nvPr/>
        </p:nvPicPr>
        <p:blipFill>
          <a:blip r:embed="rId2"/>
          <a:stretch/>
        </p:blipFill>
        <p:spPr>
          <a:xfrm>
            <a:off x="2214720" y="4572000"/>
            <a:ext cx="4781520" cy="1066680"/>
          </a:xfrm>
          <a:prstGeom prst="rect">
            <a:avLst/>
          </a:prstGeom>
          <a:ln w="0">
            <a:noFill/>
          </a:ln>
        </p:spPr>
      </p:pic>
      <p:sp>
        <p:nvSpPr>
          <p:cNvPr id="255" name="Zástupný symbol pro číslo snímku 5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2495-A743-4C05-A3BB-CF45A2086D81}" type="slidenum">
              <a:rPr b="0" lang="cs-CZ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3T20:03:18Z</dcterms:created>
  <dc:creator>Jara</dc:creator>
  <dc:description/>
  <dc:language>en-US</dc:language>
  <cp:lastModifiedBy>Jara</cp:lastModifiedBy>
  <dcterms:modified xsi:type="dcterms:W3CDTF">2010-05-27T19:08:08Z</dcterms:modified>
  <cp:revision>377</cp:revision>
  <dc:subject/>
  <dc:title>Snímek 1</dc:title>
</cp:coreProperties>
</file>