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7FB0-5DCC-4BBC-8B37-A540BCDED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B479-F080-4532-88B5-3FC846C7D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E94D-3E18-4C55-BE48-07A57645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7E15-DCC1-4722-8838-F0C60578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A0AA7-AB5C-448A-B670-7E3A33113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2CDA-687F-471A-8E6F-AC55C46D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F2832-5C7C-4A17-A3D0-DA25D4144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BF4CD-4A50-45F3-BC85-D3F077FE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33EBE-7F5D-4B19-899F-4A33C29BF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50D2C-6068-41D5-A570-F0F543AD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6608-04EA-4F9D-8D4A-04FBC801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E1E6-A8C1-47CA-BBEA-55D3785FB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477C-1F49-4EB0-B0A7-7B602F2B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03E02-43C5-4FDA-BB59-C5F02AAA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A7A2-B0F9-4F32-A27F-3740628A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8073-7AC0-49AE-A2E7-024900FF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4AFD6-B908-4066-ACCE-984BF5AFB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8A03D-214D-4F78-84E7-260D8429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0F4B-DC45-4858-9F24-12087AEBB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1411B-1F4F-463E-9F41-FDAEEC1F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A91D6-AC47-441E-AB52-0E3FD81BC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1178E-DE71-4829-9C60-7D24A712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939B-DED8-4E11-9247-8CCD15598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73106-7E67-4B19-8489-14176556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0D9F7-224D-4CA6-855B-1F70B539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A8C24D-310A-486D-A988-C5B0D3B7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64F26-3DA4-4892-BB9A-D516A262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9F388-E0D4-4AA8-A4A8-442529981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845F-6FD4-42EA-8C81-B74B576C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695FB-8C3C-4878-9961-558652AB9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61E54-28FC-41FC-9BA7-30CE47F29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DC2DC-F23D-4E97-8353-646EF8C3B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DB8769-003F-4133-B7B6-BF04385B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65B-D4F5-4BA8-9646-8EABF54AD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CF8C41-9D19-4125-8E20-BF07231A8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0E74F0-53F0-4B56-8B2A-87ADA8EC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C957-E12B-4F0A-B450-23A9345C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663F76-6CA8-40A6-8F83-D969FC0A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4E9438-C02A-4B94-B0F7-6B2B3433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06FB6-8356-45DB-B9B9-43CD5700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C66C4-0676-4AB1-864E-36B055B6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ACA4A-6CA4-4531-86DB-7BF9A40BF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2DF51-4345-45C7-9A33-964E94367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F507-696F-40FD-B487-3BB1CC044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EBC-B711-4CDC-9DDD-2328E11B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AAAC7-02D2-472E-A85F-5C2C04E06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3756E-E48B-400A-9564-2448BDDCE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702CA-7B52-47F9-933E-E07234C03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26D21-6841-4CB5-BCB6-1BE74FCA8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0F47C-6CDA-42DC-BE9C-150F42AD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CE983-9518-4FCE-85B1-66AD83FB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FD2FA5-720A-4807-B28D-22FCCB94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7C0EC-1FD0-46C8-9879-29FB9C456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37BDB-7AF9-433A-B754-7C9522DAB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469B4-D1AD-4839-B100-07A6462E2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C5427-CDF9-4C46-985C-8BB90171E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FEC856-6121-459D-B32D-B5A06CEB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18EC-6EB0-40F1-901F-812C34676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9D66-E71A-4243-88C2-1511D82B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E14E-04F7-4DBC-B4C2-9B50044A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E776-A3DC-493A-9953-07FEAC048AF2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4204-3A70-4478-863C-0E95F3090DE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CA92-9D13-4E45-8E32-8757ED0CA55F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53362-0897-42BA-BFC7-40B11C77287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B579-C6F6-41D9-8837-A52899D79BB5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7968A-7857-4C04-B69C-775FDF7ACE6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7952A-DD99-415E-839C-D55A73DC0EED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42F4-5602-428A-9AE8-57FE5F3298C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8A2E0-5689-4C53-B1E2-CF8895D48C99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77ED-18EF-48F1-AB29-68FB622A6A0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s://ai.ia.agh.edu.pl/wiki/mindstorms:history" TargetMode="External"/><Relationship Id="rId2" Type="http://schemas.openxmlformats.org/officeDocument/2006/relationships/hyperlink" Target="http://digiredo.wordpress.com/2010/02/13/enterprise-2-0-not-if-but-when-do-you-start/" TargetMode="External"/><Relationship Id="rId3" Type="http://schemas.openxmlformats.org/officeDocument/2006/relationships/hyperlink" Target="http://gizmodo.com/168532/lego-mindstorms-nxt-software-going-open-source" TargetMode="External"/><Relationship Id="rId4" Type="http://schemas.openxmlformats.org/officeDocument/2006/relationships/hyperlink" Target="https://ai.ia.agh.edu.pl/wiki/mindstorms:description" TargetMode="External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571680"/>
            <a:ext cx="7772400" cy="78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500" spc="-1" strike="noStrike">
                <a:solidFill>
                  <a:srgbClr val="ff8d3e"/>
                </a:solidFill>
                <a:latin typeface="Verdana"/>
              </a:rPr>
              <a:t>Robotický seminář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Seminář čísl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79766f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vyučující: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Ing. Martin Hlinovský, Ph.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3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  <p:sp>
        <p:nvSpPr>
          <p:cNvPr id="225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570E-2069-4349-B91C-6DF09BA22D9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vukový senzo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500040" y="142884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ěří hlasitost okolního zvuk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onstruov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án podobný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způsobem jako světelný senz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kládá se z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esky s tištěnými spoji + elektronické součást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onekto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Mikrofonu zasazeného do molitan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ondenzáto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Princip funk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dobný jako u světelného senzoru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okáže měřit hlasitost zvuku až do 90dB                 (v programovacích prostředích se častěji používá rozsah 0 – 10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Obrázek 19" descr="NXT Sound Sensor.jpg"/>
          <p:cNvPicPr/>
          <p:nvPr/>
        </p:nvPicPr>
        <p:blipFill>
          <a:blip r:embed="rId1"/>
          <a:stretch/>
        </p:blipFill>
        <p:spPr>
          <a:xfrm>
            <a:off x="5924520" y="633240"/>
            <a:ext cx="2513160" cy="1586160"/>
          </a:xfrm>
          <a:prstGeom prst="rect">
            <a:avLst/>
          </a:prstGeom>
          <a:ln w="0">
            <a:noFill/>
          </a:ln>
        </p:spPr>
      </p:pic>
      <p:sp>
        <p:nvSpPr>
          <p:cNvPr id="260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6E692-20CC-4670-848A-90C8B3B81CA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Ultrazvukový senzo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500040" y="1285560"/>
            <a:ext cx="818352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ěří vzdálenost od objekt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jsložitější z NXT senzorů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dává vzdálenost v absolutních jednotká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[cm] nebo [palce]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ožňuje měřit vzdálenost 0 až 255 cm s přesností +/- 3 c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kládá se z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Desky s tištěnými spoji + mikroprocesor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Konektoru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buClr>
                <a:srgbClr val="ed3742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</a:rPr>
              <a:t>Reproduktoru a mikrofonu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lnSpc>
                <a:spcPct val="90000"/>
              </a:lnSpc>
              <a:spcBef>
                <a:spcPts val="2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Princip funkc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dobný jako u sonaru =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vyslán krátký ultrazvukový impuls 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 m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ěří se čas od vyslání do přijetí signálu, který se odrazil od objektu 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mikroprocesor to zpracuje 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ur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čí vzdálenost od objekt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3" name="Obrázek 21" descr="NXT Ultrasonic sensor.jpg"/>
          <p:cNvPicPr/>
          <p:nvPr/>
        </p:nvPicPr>
        <p:blipFill>
          <a:blip r:embed="rId1"/>
          <a:stretch/>
        </p:blipFill>
        <p:spPr>
          <a:xfrm>
            <a:off x="6211800" y="353880"/>
            <a:ext cx="2578320" cy="1511280"/>
          </a:xfrm>
          <a:prstGeom prst="rect">
            <a:avLst/>
          </a:prstGeom>
          <a:ln w="0">
            <a:noFill/>
          </a:ln>
        </p:spPr>
      </p:pic>
      <p:sp>
        <p:nvSpPr>
          <p:cNvPr id="264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F92F-7E36-43B8-8DA4-DE8CAEF5FE2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Interaktivní servomoto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500040" y="1357200"/>
            <a:ext cx="8183520" cy="4500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íky nim se může robot hýb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 přesné ovládání zabudová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rotační senzor (enkodé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ěří natočení motoru ve stupních s přesností +/- 1 stupeň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ěří počet celých otáček (1 otáčka = 360 stupňů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 řízení rychlosti se používá tzv.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ulsní šířková modula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(PWM) – ve skutečnosti se pomocí PWM ovládá výkon motoru v rozmezí 0 – 10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ůběh PWM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7" name="Obrázek 25" descr="PWM_signál.png"/>
          <p:cNvPicPr/>
          <p:nvPr/>
        </p:nvPicPr>
        <p:blipFill>
          <a:blip r:embed="rId1"/>
          <a:stretch/>
        </p:blipFill>
        <p:spPr>
          <a:xfrm>
            <a:off x="3206880" y="4853160"/>
            <a:ext cx="4584600" cy="1455480"/>
          </a:xfrm>
          <a:prstGeom prst="rect">
            <a:avLst/>
          </a:prstGeom>
          <a:ln w="0">
            <a:noFill/>
          </a:ln>
        </p:spPr>
      </p:pic>
      <p:pic>
        <p:nvPicPr>
          <p:cNvPr id="268" name="Obrázek 26" descr="NXT Servomotor2.jpg.jpeg"/>
          <p:cNvPicPr/>
          <p:nvPr/>
        </p:nvPicPr>
        <p:blipFill>
          <a:blip r:embed="rId2"/>
          <a:stretch/>
        </p:blipFill>
        <p:spPr>
          <a:xfrm>
            <a:off x="5924520" y="1206360"/>
            <a:ext cx="2865600" cy="1371600"/>
          </a:xfrm>
          <a:prstGeom prst="rect">
            <a:avLst/>
          </a:prstGeom>
          <a:ln w="0">
            <a:noFill/>
          </a:ln>
        </p:spPr>
      </p:pic>
      <p:sp>
        <p:nvSpPr>
          <p:cNvPr id="269" name="Zástupný symbol pro číslo snímku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CAAA-8F97-4437-8CDE-1CE824F1653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Interaktivní servomotory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500040" y="1499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nitřní stavb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Obrázek 24" descr="NXT Servomotor - in.jpg"/>
          <p:cNvPicPr/>
          <p:nvPr/>
        </p:nvPicPr>
        <p:blipFill>
          <a:blip r:embed="rId1"/>
          <a:stretch/>
        </p:blipFill>
        <p:spPr>
          <a:xfrm>
            <a:off x="1352520" y="2066760"/>
            <a:ext cx="6797880" cy="3591000"/>
          </a:xfrm>
          <a:prstGeom prst="rect">
            <a:avLst/>
          </a:prstGeom>
          <a:ln w="0">
            <a:noFill/>
          </a:ln>
        </p:spPr>
      </p:pic>
      <p:sp>
        <p:nvSpPr>
          <p:cNvPr id="273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2AD1-82BF-4BBE-8D22-277ED540859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vítidl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Lze je využít v mnoha aplikacích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příklad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ktivace světelného senzo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ndikace zapnutí moto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Estetický prvek na vašem robotov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Obrázek 4" descr="NXTlamp.png"/>
          <p:cNvPicPr/>
          <p:nvPr/>
        </p:nvPicPr>
        <p:blipFill>
          <a:blip r:embed="rId1"/>
          <a:stretch/>
        </p:blipFill>
        <p:spPr>
          <a:xfrm>
            <a:off x="3852720" y="3638520"/>
            <a:ext cx="1652760" cy="1042920"/>
          </a:xfrm>
          <a:prstGeom prst="rect">
            <a:avLst/>
          </a:prstGeom>
          <a:ln w="0">
            <a:noFill/>
          </a:ln>
        </p:spPr>
      </p:pic>
      <p:sp>
        <p:nvSpPr>
          <p:cNvPr id="27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D460D-28BB-4AA0-90E7-871412A5E3D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oužité zdroj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rázky na slidu 1 převzaty z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s://ai.ia.agh.edu.pl/wiki/mindstorms:histor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digiredo.wordpress.com/2010/02/13/enterprise-2-0-not-if-but-when-do-you-start/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http://gizmodo.com/168532/lego-mindstorms-nxt-software-going-open-sour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rzky na slidu 2 převzaty z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 https://ai.ia.agh.edu.pl/wiki/mindstorms:description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Verdana"/>
              </a:rPr>
              <a:t>http://zdravie.pravda.sk/organizmus-treba-po-zime-znovu-nastartovat-fzu-/sk-zrelax.asp?c=A090330_234809_sk-zrelax_p42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Obrázky na slidu 6 převzaty z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Verdana"/>
              </a:rPr>
              <a:t>http://shop.lego.com/Product/?p=9841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 u="sng">
                <a:solidFill>
                  <a:srgbClr val="000000"/>
                </a:solidFill>
                <a:uFillTx/>
                <a:latin typeface="Verdana"/>
              </a:rPr>
              <a:t>http://shop.lego.com/Product/?p=9798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2A69E-44B0-45D9-BA95-93B1B86D27B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Závě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stor na případné dotaz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Co bude příště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ezentace o programování v NXT-G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Verdana"/>
              </a:rPr>
              <a:t>DĚKUJI ZA POZORNOST!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0402-51E8-4211-9D2D-7A932BE7A4E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bsah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4284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Úvod do předmět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HW vybavení stavebnice LEGO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8" name="Obrázek 5" descr="Slide2_Unava.jpg"/>
          <p:cNvPicPr/>
          <p:nvPr/>
        </p:nvPicPr>
        <p:blipFill>
          <a:blip r:embed="rId1"/>
          <a:stretch/>
        </p:blipFill>
        <p:spPr>
          <a:xfrm>
            <a:off x="4743360" y="542880"/>
            <a:ext cx="2705040" cy="2090880"/>
          </a:xfrm>
          <a:prstGeom prst="rect">
            <a:avLst/>
          </a:prstGeom>
          <a:ln w="0">
            <a:noFill/>
          </a:ln>
        </p:spPr>
      </p:pic>
      <p:pic>
        <p:nvPicPr>
          <p:cNvPr id="229" name="Obrázek 6" descr="Slide2_HWvybaveni.jpg"/>
          <p:cNvPicPr/>
          <p:nvPr/>
        </p:nvPicPr>
        <p:blipFill>
          <a:blip r:embed="rId2"/>
          <a:stretch/>
        </p:blipFill>
        <p:spPr>
          <a:xfrm>
            <a:off x="2530440" y="3048120"/>
            <a:ext cx="3662280" cy="2803320"/>
          </a:xfrm>
          <a:prstGeom prst="rect">
            <a:avLst/>
          </a:prstGeom>
          <a:ln w="0">
            <a:noFill/>
          </a:ln>
        </p:spPr>
      </p:pic>
      <p:sp>
        <p:nvSpPr>
          <p:cNvPr id="230" name="Zástupný symbol pro číslo snímku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71B3-9469-4992-A50E-7FE9559F902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Úvod do předmětu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285920"/>
            <a:ext cx="8183520" cy="5214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snova seminář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. Úvod do předmětu; HW vybavení stavebnice LE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2. Programování v NXT LE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3. Stavba robota TASKBOT a programování daného pohybu robota v NXT LEG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4. Práce s NXT (pohyb na dotek, zvuk, základní pohyby, využití ultrazvukového čidla); Řešení úlohy - sledování čá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5. Přezkoušení studentů ze znalosti programu NXT-G; Pokračování v řešení úlohy sledování čá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6. Dokončení řešení úlohy sledování čáry pomocí NXT-G; Prezentace a vysvětlení programového prostředí NX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7. Prezentace a výhody programového prostředí NXC; Příklady řešené v tomto prostředí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8. Dokončení výkladu programového prostředí NXC; Řešení jednoduchých úloh v NX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9. Řešení soutěžní úlohy „Sledování čáry s křížením“ (projekt č. 1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0. Pokračování v řešení soutěžní úlohy „Sledování čá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projekt č.1); Soutěž dvoukolová v úloze „Sledování čár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 křížením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2EAE-CB6E-46F2-9E56-B098E0CFD7F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Úvod do předmětu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040" y="1285560"/>
            <a:ext cx="8183520" cy="535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snova seminářů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1. Řešení soutěžní úlohy „Sumo“ (projekt č. 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2. Pokračování v řešení soutěžní úlohy „Sumo“ (projekt č. 2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3. Pokračování v řešení soutěžní úlohy „Sumo“ (projekt č. 2)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Testování a úpravy softwaru na reálném model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4. Pokračování v řešení soutěžní úlohy „Sumo“ (projekt č. 2)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Dvoukolová soutěž všech týmů v úloze – „Sumo“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5. Finálová soutěž nejlepších týmů v soutěžní úloze „Sumo“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6. Řešení speciálních úloh – skládání Rubikovy kostky, řešení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udoku nebo řešení inverzního kyvad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7. Pokračování v řešení speciálních úloh - skládání Rubikov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ostky, řešení Sudoku nebo řešení inverzního kyvad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8. Pokračování v řešení speciálních úloh - skládání Rubikov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ostky, řešení Sudoku nebo řešení inverzního kyvad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19. Dokončení  řešení speciálních úloh - skládání Rubikov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ostky, řešení Sudoku nebo řešení inverzního kyvad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D05C8-848D-4F63-8966-304DEBDA537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HW vybavení stavebnice LEGO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00040" y="157176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XT robotická stavebnice obsahuje tyto hardwarové komponent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XT inteligentní kostka s dobíjecí bateri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 dotykové senz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vukový senz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větelný senz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ltrazvukový senz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3 servomotor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3 svítid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0B4F-BE99-480F-B621-207E2D36EC2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NXT inteligentní kostk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00040" y="1571760"/>
            <a:ext cx="8183520" cy="43574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Řídící jednotkou NXT kostky j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32-bitový mikroprocesor ARM7 s pracovní frekvencí 48MHz, 256kB Flash paměti a 64kB RAM pamě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8-bitový mikroprocesor ATmega48 s pracovní frekvencí 8MHz, 4kB Flash paměti a 512B RAM pamět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Výhoda Flash paměti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vypnutí nebo vyjmutí baterie zůstává v paměti vše uchováno. Nic se nesmaž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Napáje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6AA (1,5V) baterií nebo dobíjecí lithiová bateri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Obrázek 5" descr="NXTbrick.jpg"/>
          <p:cNvPicPr/>
          <p:nvPr/>
        </p:nvPicPr>
        <p:blipFill>
          <a:blip r:embed="rId1"/>
          <a:stretch/>
        </p:blipFill>
        <p:spPr>
          <a:xfrm>
            <a:off x="6602400" y="615960"/>
            <a:ext cx="2084400" cy="1395360"/>
          </a:xfrm>
          <a:prstGeom prst="rect">
            <a:avLst/>
          </a:prstGeom>
          <a:ln w="0">
            <a:noFill/>
          </a:ln>
        </p:spPr>
      </p:pic>
      <p:pic>
        <p:nvPicPr>
          <p:cNvPr id="243" name="Obrázek 6" descr="DobijeciBaterie.jpg"/>
          <p:cNvPicPr/>
          <p:nvPr/>
        </p:nvPicPr>
        <p:blipFill>
          <a:blip r:embed="rId2"/>
          <a:stretch/>
        </p:blipFill>
        <p:spPr>
          <a:xfrm>
            <a:off x="6991200" y="5278320"/>
            <a:ext cx="1792440" cy="658800"/>
          </a:xfrm>
          <a:prstGeom prst="rect">
            <a:avLst/>
          </a:prstGeom>
          <a:ln w="0">
            <a:noFill/>
          </a:ln>
        </p:spPr>
      </p:pic>
      <p:sp>
        <p:nvSpPr>
          <p:cNvPr id="244" name="Zástupný symbol pro číslo snímku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6B4FE-FEA5-4F5C-BEF0-D0F596C823F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NXT inteligentní kostk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00040" y="135684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pi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Obrázek 5" descr="NXTbrickPopisComplete.png"/>
          <p:cNvPicPr/>
          <p:nvPr/>
        </p:nvPicPr>
        <p:blipFill>
          <a:blip r:embed="rId1"/>
          <a:stretch/>
        </p:blipFill>
        <p:spPr>
          <a:xfrm>
            <a:off x="1646280" y="1206360"/>
            <a:ext cx="6791400" cy="5297760"/>
          </a:xfrm>
          <a:prstGeom prst="rect">
            <a:avLst/>
          </a:prstGeom>
          <a:ln w="0">
            <a:noFill/>
          </a:ln>
        </p:spPr>
      </p:pic>
      <p:sp>
        <p:nvSpPr>
          <p:cNvPr id="248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3533-6401-48CD-8924-DAEB7BE012F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Dotykový senzo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1356840"/>
            <a:ext cx="8183520" cy="4643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ejjednodušší ze skupin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XT senzorů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ejčastěji se používá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 detekci překážk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kládá se z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Desky s tištěnými spoji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Konektoru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Rezistoru – aby nedošlo ke zkratu při náhodném zapojení do výstupního portu NXT kostky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lnSpc>
                <a:spcPct val="90000"/>
              </a:lnSpc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Tlačítka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Princip funk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Tlačítko stlačeno 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uzavře se elektrický obvod 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z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čne protékat elektrický proud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NXT kostka detekuje pr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ů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hod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proudu =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dva stavy – On/Off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Obrázek 8" descr="NXT Touch Sensor.JPG"/>
          <p:cNvPicPr/>
          <p:nvPr/>
        </p:nvPicPr>
        <p:blipFill>
          <a:blip r:embed="rId1"/>
          <a:stretch/>
        </p:blipFill>
        <p:spPr>
          <a:xfrm>
            <a:off x="5924520" y="633240"/>
            <a:ext cx="2530440" cy="1586160"/>
          </a:xfrm>
          <a:prstGeom prst="rect">
            <a:avLst/>
          </a:prstGeom>
          <a:ln w="0">
            <a:noFill/>
          </a:ln>
        </p:spPr>
      </p:pic>
      <p:sp>
        <p:nvSpPr>
          <p:cNvPr id="252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B9C86-6806-4599-AD46-79076B56D9A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větelný senzor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1428840"/>
            <a:ext cx="8183520" cy="4572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Měří intenzitu okolního světl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Skládá se z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ed3742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esky s tištěnými spoji + elektronické součást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ed3742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onekto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ed3742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Červené LED diody (může být zapnuta nebo vypnuta)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ed3742"/>
              </a:buClr>
              <a:buSzPct val="112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Fototranzisto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Princip funkce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a fototranzistor dopadá světelné záření 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opadající záření je elektronikou převedeno na elektrický signál -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NXT kostka převede elektrický signál na číslo v rozsahu 0 – 1023 (v programovacích prostředích se častěji používá rozsah 0 – 100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Obrázek 17" descr="NXT Light Sensor.jpg"/>
          <p:cNvPicPr/>
          <p:nvPr/>
        </p:nvPicPr>
        <p:blipFill>
          <a:blip r:embed="rId1"/>
          <a:stretch/>
        </p:blipFill>
        <p:spPr>
          <a:xfrm>
            <a:off x="5924520" y="633240"/>
            <a:ext cx="2513160" cy="1586160"/>
          </a:xfrm>
          <a:prstGeom prst="rect">
            <a:avLst/>
          </a:prstGeom>
          <a:ln w="0">
            <a:noFill/>
          </a:ln>
        </p:spPr>
      </p:pic>
      <p:sp>
        <p:nvSpPr>
          <p:cNvPr id="256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1C38-6B78-4197-81E2-D4CAC2B6415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2T21:38:20Z</dcterms:created>
  <dc:creator>Jara</dc:creator>
  <dc:description/>
  <dc:language>en-US</dc:language>
  <cp:lastModifiedBy>Jara</cp:lastModifiedBy>
  <dcterms:modified xsi:type="dcterms:W3CDTF">2010-05-28T00:29:27Z</dcterms:modified>
  <cp:revision>153</cp:revision>
  <dc:subject/>
  <dc:title>Úvod do předmětu HW vybavení stavebnice</dc:title>
</cp:coreProperties>
</file>