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CDEB-6D27-4962-BD56-7EE1D48F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D3427-2833-46F8-BA62-C7237A0F0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49F1-3D70-4F73-9078-F3584EE8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4A85-75CA-43DB-AF82-641AF40CF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F4C2E-FCEF-4BA2-865D-D6695292B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BCCE5-D5B8-4DD2-8A6B-EBA564F4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9D9C-573B-46D6-8967-D4FB91EE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58B0A-E1CB-421F-99FA-1A96D0D81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612BB-D0D9-43DF-BD89-173562B2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35C5-BD1C-4BA6-B6C4-945F66D27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F0B80-5DB4-43E0-9A65-8999541C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9E61-F3D7-4F90-AFC6-A8C9C3C8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D3492-7879-4C71-B109-B0C2FF08E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2E609-F539-454D-8057-0579A804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59CC4-9D9D-435C-8A63-9456E3F38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5E68-0250-4079-B6A4-1A5CFF0E0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68B2-B9E5-438A-B6DB-C2D285A92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EB8EA-20C6-42E3-AF39-89F4E2B06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4AC25-465A-4992-995C-9E208A3D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085D54-F89E-41CB-8CD2-53D619A2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328D6-4EFD-43B8-96E2-F22BB6201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E5315-520B-4170-8DDB-9BC4579B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E118-2DD5-479B-9246-CC1F9C0F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1BDD7-1C99-46A9-95B5-5714FA2C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A1E04-6D76-4D74-9B95-F23816E3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4BE5B-71B7-406C-A1CD-BCCEB8E9D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DA2F9-1B45-438C-A5F5-51D9AA23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53AA1-B46B-445A-87F3-5E4A19AC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7F1B4-FAA9-46FB-B505-8AC37C0E6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CE95F-2DEC-4F16-BEEC-58D01C0D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E3A90-D84B-49EC-9581-CA8937B72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92098-6951-4596-A918-393F6FDB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9C5C8-CEE0-4EA4-8D25-DC4B7F4B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7226-7AA6-401A-AD9C-D55A85B5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41947-8B8B-46DD-B64C-3BDA9C2D7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D9E3B-BB93-494E-BF01-BF5349064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F34D5-7ECB-4699-BAE3-3EBEA2910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4E1D9-F2C3-4B5A-89CE-D137117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99707-85CA-4AC2-8A70-5FAF1479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BC52D-3FAD-4E45-912F-F5DA7264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C53EC-5C52-4C6C-AFB6-40C2C0881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477CD-3017-4E46-A2A0-AC44C8759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7323-D99A-4705-8840-D6B7E8C54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0E58E1-BD26-43BE-9EE3-0B392D3A3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97C9-C58B-4BD6-9B58-42124F79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E0E7-3C18-41BA-9930-FB58BCB4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92A71-3AC1-44B5-A17C-23635D7C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2B542D-44C5-4411-B738-B8E5C01D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25B190-FD0A-4F46-B839-272A99633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C1DEE-EF00-4041-A0A1-209A9FC1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789DE6-81E8-4D00-B9F2-7A2B1F92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D3369-E232-4E15-B4F2-534DC59FE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76CB8-84DE-4EA2-8112-24985699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5087F9-FA5E-4EEE-9AED-FE7E62C33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8C6BA-3E6F-41B7-91FC-1D31CBD3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1E7A3-F480-44DB-A58F-A0862949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A499A0-2BD1-401B-A429-6EB520072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DB3-50AB-4C7F-AECD-399758D7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55FA-9D7C-4810-9CF7-C1455AFD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E97D-5A2B-49F9-9B82-DF839BD4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CF46-F3A6-4515-8FE1-E7A0EE3F3A2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1D86-513B-47C0-8DEF-BF72D8B1834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764E-17E0-40A3-99B2-C0F550A1867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581B-DA64-464C-9E4D-6BD8D5EE277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79578-08CA-4AF9-BCB5-30D3EDD91FB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0AC2-7495-4711-A8AA-766606D5CE4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5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21428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račování v řešení soutěžní úlohy „Sledování čáry s křížením“ (projekt č. 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Dvoukolová soutěž v úloze „Sledování čáry s křížením“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A6FB-5422-48A5-9BC9-AAC6C49A09A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43920" cy="147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Pokračování v řešení soutěžní úlohy „Sledování čáry s křížením“ (projekt č. 1)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2142720"/>
            <a:ext cx="8183520" cy="43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Pokračujte v řešení soutěžní úloh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Můžete testovat na reálném model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1273-0304-4C1C-97E1-591D9C9C706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8215200" cy="14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Dvoukolová soutěž v úloze „Sledování čáry s křížením“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856880"/>
            <a:ext cx="8183520" cy="4357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A je to tady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Soutěž může začít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485E-DEA0-4E1F-93E4-A2931E7CA7B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Řešení soutěžní úlohy „Sumo“ (projekt č. 2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y z úvodního slidu převzaty z: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https://ai.ia.agh.edu.pl/wiki/mindstorms:histo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digiredo.wordpress.com/2010/02/13/enterprise-2-0-not-if-but-when-do-you-start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 u="sng">
                <a:solidFill>
                  <a:srgbClr val="000000"/>
                </a:solidFill>
                <a:uFillTx/>
                <a:latin typeface="Verdana"/>
              </a:rPr>
              <a:t>http://gizmodo.com/168532/lego-mindstorms-nxt-software-going-open-sour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E9C1-5361-4E94-8E36-E6F78B67847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6T20:09:30Z</dcterms:created>
  <dc:creator>Jara</dc:creator>
  <dc:description/>
  <dc:language>en-US</dc:language>
  <cp:lastModifiedBy>Jara</cp:lastModifiedBy>
  <dcterms:modified xsi:type="dcterms:W3CDTF">2010-05-27T01:59:00Z</dcterms:modified>
  <cp:revision>14</cp:revision>
  <dc:subject/>
  <dc:title>Robotický seminář</dc:title>
</cp:coreProperties>
</file>