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9967F-B5DE-4E33-80E2-4AB60E9A1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436-AD4C-4403-8FFF-31490719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D427-961B-4041-9E71-A6F41E768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1C8E-D998-469A-9E7E-DE12F0FA8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0944-BD6E-474F-92F5-0F268A18A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6C434-0524-468A-B2DA-D8BA5542C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00A0-6F13-4D6C-932E-8EBA855DF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D644-616F-45D3-BA28-2A0D21C7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17E0B-9197-409B-A3F9-F6C5474B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8347-DECA-4DDF-8184-26AAB0D2D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87CFA-D030-4AD4-8AAC-0A92D442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760B-D2DB-4FFF-8012-515564F5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D3EF-08B8-4756-86D3-1B6F15C1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1A939-7E13-4616-8475-D2D0B1DBC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C1C0F-2A10-4AC8-AB75-456E1D2FC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C0AA-09A6-4927-B0C6-5A57D747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A7BF-8438-4336-B19B-328819E66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56666-260C-4D33-9E0E-1300F469A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918817-E615-4877-AF68-BEAADACC6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5AF6A-4EF1-466C-AA17-805A341E4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6390-A15F-461C-95B2-217517D8E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C4C9E7-3022-445A-93DD-E7A1D470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A682-D61C-44E4-9B32-D4635D87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84750-1F7D-42F0-9D8E-5BCF23EF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DEC58-5775-4678-9D6B-D155C100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54BFC5-2C47-463F-8E59-144095CD6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9DD5-E70B-4F48-AF0F-1A867C78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26AB-5701-4CBC-B339-9D250FED4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CBBC5-47A2-4803-8761-167B8F5B7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EEC49-5352-4539-AC02-5C435C9E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DC51A6-0016-474C-A547-078737E5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F41B7-EC0C-4856-B7C2-8525986A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2A983-C39B-44C9-A0E2-1E7EC4EE3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3F4C-ABAA-45DB-A896-34E9D3EE1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64117-F29B-4422-8B7F-28464F18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8824C-1DBF-4659-962D-B2DEFF02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2F48D-2EDD-45D1-9299-0D621FBB9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6C359-199D-4E1F-A558-E20D5DED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5B493-D531-4048-8131-E23112A7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FC49B-AB85-4CA1-A152-1199A62C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70E5F-ABE1-4DCD-8C3A-E8481F096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92E45-84C7-46D8-88D4-F73735D7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9C6BF-0BFA-4A3F-8DF0-760348B4D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E71FB3-3BC5-430D-A20D-03CCE65E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59F0-24C6-434E-8154-43C0B45F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36B9E-110E-4633-A998-4E6268DBA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C3D43-C392-4633-875F-8D7679822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E74D3-2DB3-4653-87ED-B8012B827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56F279-82F9-4AC7-9515-6ABFCE4C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287936-0E44-4FEB-9C3B-4783E7278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210803-0AD7-46B1-B84D-14CF39F66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C5EFD-0894-4025-8AA9-85887973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83A3B-03F6-4206-8CC0-D70C6674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16402-B5A9-4AFC-B5CB-7444A2114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2B1E21-8B2A-423A-970D-66848318D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3749-C8E9-4FD9-A144-BB4BB71E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9354CF-4781-48A1-B6B1-313C1C954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F6C0-9415-45DB-92F2-55B7D64B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D452-6C09-4533-BA47-305D4B757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F9A-4E75-4E02-9F8C-4E0528DA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3542-FA87-47EC-A17F-B5D5032FD83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1018F-5BC8-4966-983D-3B589789602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14C51-B6B2-41B2-97C7-9DD723C207C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3A04-93F3-422A-A272-D75DD72BE12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6E3AE-8D64-420A-AD67-303CDABB48B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astamanvibration.files.wordpress.com/2008/06/sumo-kid1.jpg?w=198&amp;h=300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C343-3FDE-48E4-A1DF-FFE48FE76A7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285920"/>
            <a:ext cx="818352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račování v řešení soutěžní úlohy „Sumo“ (projekt č.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0A9B4-E6F9-4701-9290-A31467337C7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Řešení soutěžní úlohy „Sumo“ 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(projekt č. 2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2DAF-FD12-4E5E-AFDB-5BD7A006267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brázek 4"/>
          <p:cNvSpPr/>
          <p:nvPr/>
        </p:nvSpPr>
        <p:spPr>
          <a:xfrm>
            <a:off x="3286080" y="2357280"/>
            <a:ext cx="2071800" cy="31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Zástupný symbol pro zápatí 6"/>
          <p:cNvSpPr/>
          <p:nvPr/>
        </p:nvSpPr>
        <p:spPr>
          <a:xfrm>
            <a:off x="428760" y="6111720"/>
            <a:ext cx="76435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Obrázek převzat z : </a:t>
            </a:r>
            <a:r>
              <a:rPr b="0" lang="cs-CZ" sz="10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pastamanvibration.files.wordpress.com/2008/06/sumo-kid1.jpg?w=198&amp;h=3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ázek 7" descr="sumoUvod.jpg"/>
          <p:cNvPicPr/>
          <p:nvPr/>
        </p:nvPicPr>
        <p:blipFill>
          <a:blip r:embed="rId2"/>
          <a:stretch/>
        </p:blipFill>
        <p:spPr>
          <a:xfrm>
            <a:off x="3143160" y="2857680"/>
            <a:ext cx="18860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Úvod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214280"/>
            <a:ext cx="821520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 minulém roce byla jako projekt č. 2 soutěžní úloha „Bludiště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hrál tým, jehož robot projel za co nejkratší dobu bludiště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 tento rok nese druhá soutěžní úloha název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umo“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oznámka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ásledující informace o soutěžní úloze převzaty z Bakalářské práce Ivana Moce, studenta 3. ročníku ČVUT, FEL , Praha, 201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39543-AE18-494D-B5B7-57C5B9CDA39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umo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0040" y="1214280"/>
            <a:ext cx="818352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Cíl úlo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Robot musí samostatně vytlačit soupeřova robota z kruhu za hraniční čáru a přitom v kruhu zůst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Technické prostřed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 každý tým je k dispozic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ákladní souprava LEGO® MINDSTORSM® Education (9797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prava doplňkových technických dílů (9648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íťový adaptér (9833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bota lze sestrojit libovolným způsobem, ale pouze pomocí součástek ze zapůjčených souprav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Zákaz vypůjčování součástek od jiných týmů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ři vlastní soutěži je možné použít pouze akumulátor nebo baterie, nikoliv síťový adapté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Půdorys robota se musí vejít do čtverce o straně 25 cm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Váhové omezení robota je 1 k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A1B4-81F9-4B6F-ADF4-3CDAB9ADC23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umo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500040" y="1214280"/>
            <a:ext cx="818352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růběh soutěže a další pravid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 hrací plochu se umístí dva soupeřící roboti ve vzdálenosti 10 cm od středu hrací plochy tak, aby jejich kola byla vodorovně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boti jsou k sobě umístění zádí – kde má robot záď určí dohlížecí komis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ajitelé roboty spustí naráz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bot musí čekat 4 s, než začne vykonávat jakoukoliv funkc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Jedno kolo soutěže trvá 1 minutu nebo dokud není jeden či oba roboti vyřazen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Robot je vyřazen, když je za černou čarou hrací plochy všemi hnacími koly nebo pokud je neschopen dalšího pohybu – je poval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 vyřazení robota běží kolo ještě dalších 5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ři souboji robotů </a:t>
            </a: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nesmí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dojít k jejich poničen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A9AA-4EF0-418B-BAB7-6061C15654B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umo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0040" y="1214280"/>
            <a:ext cx="818352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odová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ítězný robot (tj. jeden robot je vyřazen a druhý zůstane na hrací ploše) získává 2 bo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nastane remíza (tj. oba roboti vyřazeni nebo uplyne časový limit) získávají oba roboti 1 bo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ražený robot nezískává žádný b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Hrací ploch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rací plocha je kruhová  s průměrem 1 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okraji černá čára o šířce 2,5 c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bytek kruhu je bíl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509A-2503-4B4D-80F2-4C3A2C69B85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umo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00040" y="1214280"/>
            <a:ext cx="818352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tomto videu můžete vidět nejlepší roboty ze soutěže „Sumo“, která se uskutečnila 27-28. prosince 2007 v Lafayette, Indiana, US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Aby vám video fungovalo, tak je potřeba mít nastavený jako defaultní přehrávač Windows Media Player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12270-7CD9-45B8-A135-C3CF8B73DB4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MINDSTORMS NXT Sumo Competition Winners.avi" descr=""/>
          <p:cNvPicPr/>
          <p:nvPr/>
        </p:nvPicPr>
        <p:blipFill>
          <a:blip r:embed="rId1"/>
          <a:stretch/>
        </p:blipFill>
        <p:spPr>
          <a:xfrm>
            <a:off x="2357280" y="2643120"/>
            <a:ext cx="4572000" cy="3071880"/>
          </a:xfrm>
          <a:prstGeom prst="rect">
            <a:avLst/>
          </a:prstGeom>
          <a:ln w="0">
            <a:noFill/>
          </a:ln>
        </p:spPr>
      </p:pic>
      <p:sp>
        <p:nvSpPr>
          <p:cNvPr id="248" name="Zástupný symbol pro zápatí 6"/>
          <p:cNvSpPr/>
          <p:nvPr/>
        </p:nvSpPr>
        <p:spPr>
          <a:xfrm>
            <a:off x="571680" y="6111720"/>
            <a:ext cx="50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Verdana"/>
              </a:rPr>
              <a:t>Zdroj: http://www.youtube.com/watch?v=aRY6Y8OrZF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 „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umo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99680" y="1214280"/>
            <a:ext cx="8286840" cy="51436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ď už je to jen na každém týmu, jakou zvolí taktiku a metodu řešení úlohy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Hodně zdaru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B2C19-8F4B-47CD-9A22-C36311711B1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99680" y="100008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[1] MOC, Ivan. Využití robota LEGO MINDSTORMS – návrh a realizace úloh, návod na programování v NXC. Praha, 2010. 64 s. Bakalářská práce. České vysoké učení technické v Praze, Fakulta elektrotechnická, Katedra řídící techniky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4D99F-7651-4FD1-B00A-88447155AC2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22:20Z</dcterms:created>
  <dc:creator>Jara</dc:creator>
  <dc:description/>
  <dc:language>en-US</dc:language>
  <cp:lastModifiedBy>Jara</cp:lastModifiedBy>
  <dcterms:modified xsi:type="dcterms:W3CDTF">2010-05-28T00:45:12Z</dcterms:modified>
  <cp:revision>52</cp:revision>
  <dc:subject/>
  <dc:title>Robotický seminář</dc:title>
</cp:coreProperties>
</file>