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4A0-FB05-4100-B393-714BF881C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6A38-16D2-4A9F-8BEC-459FCBBAF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A8B1-5C66-46B0-BED7-50171706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85AB-679D-4C32-A4DD-5D8560933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1D7D-B420-4130-9BD6-1D1610A31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6E3A-3AB0-4EBB-B9CA-2A2CF48FC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7E2A3-CDFA-4CBB-8D48-C30476032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053B-5A2F-42D4-92A5-772DE86E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076B-41CF-45FF-9CB1-8E05059D1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58E9-EBC0-4178-9486-2F035C04C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6134-16F2-4961-9218-929F1F86A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5F9-3AB4-44EB-83C4-48B39E062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A9C4E-FF3B-4277-BF71-0F457352F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DACFB-C014-4AB3-82D5-36315389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1D0E-310E-4761-BBC8-4722C6CE8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5CCA-5D49-41E4-8681-E2E8336E5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E7FA-B148-40CF-BB0F-774E04FCF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85D7AD-BA55-4F9A-813C-31F0269B3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6E7D8-6BF0-4832-A49D-4F0807977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34D00-E959-4B88-ABF4-E860A0FF9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FBB44-57F6-4D28-AE7B-36343C99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FAEA3-60A7-4CAE-AFF8-9B51C406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19E-40E9-4138-9A66-5CE97423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28093-6D47-44B9-88A5-C786C1AAF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1BA29-C898-42F0-A033-40D16D07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D045A-8663-498F-879A-26070E902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69C63-0769-4D2B-BE86-FA49BFE7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9E2C5-6113-4104-A058-A6D81EDE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ABAE6-C5E8-487C-96D1-529BF426A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E665F-6965-4A1C-A0E7-C86961738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D15B1A-8B06-4642-B511-EB94A2403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08BC9-EA99-4502-AB92-6F684AB5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9E1DA-860A-442F-AF9F-63315752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E16C-98D4-4C53-B143-E91BCD01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7A0F5-24C1-41E0-BE87-BBAAB450E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97F51-7374-4D6C-AD7F-5906AEA56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35D0C-8914-437B-84B5-57A249973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233EE4-A6B8-4628-8196-1CCF781B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F86BB-4D46-4CBF-8F04-BB3B07F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435B5-AE52-4F9E-B54F-E00813F2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510EE-C6FB-4EF7-8E93-5314834F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20B4B-B771-4881-BDC1-0B3D68415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14F69A-CE1B-430B-BD1E-693058CBF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9815A-0289-4FBD-8C00-F80F81583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752-7B1C-4078-A94C-89EE4900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760954-1B91-4A01-8503-AD9A28BC7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67121-1C96-4D9A-A1BF-1796C1588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D5039-17C9-4676-93A0-1D04EA449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5881B-462E-4D2C-AAEF-67A2DFDB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553AA-AA19-4309-A8EF-3802FA3C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483EAF-F1E6-4400-810D-3F53516E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D2385-AA88-439A-812F-748E4316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A250-C00A-4704-849A-E6EC2AAF7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F2EA9-44B1-4D1F-AE9C-617010ECB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8B17C8-B165-449A-AA94-D64C6CCC4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A521-5847-4BD7-8B0A-3BA698978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68B75-3CE0-498D-83E8-85B2FA9E8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34E2-1EC9-4433-ABD5-57037D5E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F5B2-DB9D-47C7-A084-3D129892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D8F-BDDB-4507-A747-309872BB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A669E-521F-409E-9301-3C6464C67B0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6F69A-CD39-4259-8F73-60CE8544604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F68A-F319-407D-A9CF-1CFA9E4B7BF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D3C89-E1FD-4645-89F4-59904323DC2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3DC4D-CF72-43B1-A923-835C4D78971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3399-6483-4AC6-A366-0F96147CD49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E0D3-25CE-4EAB-AEBA-0B1902EEE63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řešení soutěžní úlohy „Sumo“ (projekt č. 2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99680" y="171468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račujte v práci na svých robotech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kud máte nějaké dotazy, můžete se samozřejmě zept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61B54-89C1-49FC-9C22-75794D0405A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estování a úpravy softwaru na reálném model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3BB8C-1A86-4E9B-BF51-B0F3FB82300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1:27:34Z</dcterms:created>
  <dc:creator>Jara</dc:creator>
  <dc:description/>
  <dc:language>en-US</dc:language>
  <cp:lastModifiedBy>Jara</cp:lastModifiedBy>
  <dcterms:modified xsi:type="dcterms:W3CDTF">2010-05-28T00:47:05Z</dcterms:modified>
  <cp:revision>11</cp:revision>
  <dc:subject/>
  <dc:title>Robotický seminář</dc:title>
</cp:coreProperties>
</file>