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B7A7-7768-4E41-994A-745127CE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440E-A23A-4D81-98E7-81B0C0A2F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4E99-3B88-4235-8B47-2968DA44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5F7F-0426-4698-BE37-33FC36FC3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ABFE-E106-4FB1-A314-935F7B302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A93B-7B66-4F34-B5FF-EEDE9C195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7D58-FC32-43E6-B1A3-402CD4D3F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0D8C-F7B5-49F5-B497-6CE8A4A14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E86E1-5276-4017-BF9B-FA93CD4E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23344-8836-4558-AA64-20B9E52E4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ABCE-0F3D-4EB1-B55E-8C99BF5FF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D4C8-1364-4499-8914-6DDF76EA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82AF-700B-42A6-9F8B-61D44E449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E740-3839-4021-A2D5-15C68774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FE0C-F61F-4C76-B292-52237053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13C7E-6025-449C-84CB-A442F77B5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71E6-69D6-4713-A47E-9AE65FDB7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62B1E-2264-49B8-9013-778F5BCA4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3C41E-3059-432B-A66E-877B33FE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AE8B3-20EE-46C9-BEB4-21974586E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228B9-3350-4BBA-A474-57F950173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26F6E8-DB2E-4162-9ABB-42EDE859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D21F-8059-4BDD-A162-85EDF0B6D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066B1-A0DF-4952-8CA9-2D7DF6D65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3F3C7-C1A1-45D4-9CEA-19BFA322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C2F12-1EBC-4BF3-8FE7-64B20B1E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EDA7A-54DD-43CA-8479-631F49CB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20C9B-E977-4D9D-A0DB-E395DAD2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95AE6-2237-4773-94D4-DF633E60F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3E0A9-D739-43A9-8F1B-52D9C6E4F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73EE1-D3E4-4C7E-8274-4BF34042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DC363-208E-4526-A5EC-B42F70118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CF5AE-44C3-4F21-876F-2A900F2BB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15DB-4178-4612-A9A1-F4CB946F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99619-43F4-4D02-83D0-3D312CB17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0D834-4C21-4D90-A753-B17DECC12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440E7-CDDC-45E2-A4A8-75DB4B50B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20E8B-B19C-4F05-B771-4C0216C2F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75F8BC-4BA8-4043-88FA-F6A0748A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37147-B227-42C3-841F-62999112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110A1F-A6EE-4E01-8FDB-4E7E69CF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542B2-A5D0-4448-814A-C28CDA5FC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01FB7-5787-49D2-B86E-8210A12E7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B00B9-DDD2-4A95-A090-C29366043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B189-373B-4065-ABFA-658EE2BA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627EF-9441-431D-908B-74BC5552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E15DD-829A-46F8-A7E1-FF5B61767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5D924-AD17-45CB-98A6-BD4CE66F1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483E3-A419-4BA1-B560-6FDF0678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9B167D-7439-4375-B556-8933FD13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1FD0A0-E171-4C33-835B-508E467F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BA6AE-8699-4F34-832B-2E539BB0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EED01-989A-4AB6-A124-78317BB3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8A72D-30B8-4EDC-9052-0022469F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2C9F6-65E6-40DE-9F6E-35DB8C97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2390-93FB-4418-B5A4-BA1997954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FDAE9-9AF3-4389-A5EA-1988733F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1426-83FD-4BE9-B20D-CA784EE0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0F54-54AE-4D1E-8B64-E0DC4CEB0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7BC2-EE3F-4612-AE72-5FA6DB96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élní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élník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Zaoblený obdélník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76A6E-513E-47FD-8182-DB3F6DD09F8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élník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CAAA-DFBF-4A0E-8066-A05AC8C1E2A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élník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FD80F-D1AE-4AFF-9268-3CD20FFED1D0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442F-C7FE-425D-8B07-768A34F3F6C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s jedním zakulaceným rohem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43D7B-E3CB-4DD3-95B8-61E83D83B90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Robotický seminář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Seminář čís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vyučující: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Ing. Martin Hlinovský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0D4F-283A-413E-87B2-210D376CA61D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3" descr="UvodniSLide_robot.jpg"/>
          <p:cNvPicPr/>
          <p:nvPr/>
        </p:nvPicPr>
        <p:blipFill>
          <a:blip r:embed="rId1"/>
          <a:stretch/>
        </p:blipFill>
        <p:spPr>
          <a:xfrm>
            <a:off x="500040" y="3857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24" name="Obrázek 4" descr="UvodniObrazek_stir.jpg"/>
          <p:cNvPicPr/>
          <p:nvPr/>
        </p:nvPicPr>
        <p:blipFill>
          <a:blip r:embed="rId2"/>
          <a:stretch/>
        </p:blipFill>
        <p:spPr>
          <a:xfrm>
            <a:off x="3071880" y="3857760"/>
            <a:ext cx="2714400" cy="2579400"/>
          </a:xfrm>
          <a:prstGeom prst="rect">
            <a:avLst/>
          </a:prstGeom>
          <a:ln w="0">
            <a:noFill/>
          </a:ln>
        </p:spPr>
      </p:pic>
      <p:pic>
        <p:nvPicPr>
          <p:cNvPr id="225" name="Obrázek 5" descr="UvodniObrazek_ruka.jpg"/>
          <p:cNvPicPr/>
          <p:nvPr/>
        </p:nvPicPr>
        <p:blipFill>
          <a:blip r:embed="rId3"/>
          <a:stretch/>
        </p:blipFill>
        <p:spPr>
          <a:xfrm>
            <a:off x="5786280" y="3857760"/>
            <a:ext cx="30085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bsah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kračování v řešení soutěžní úlohy „Sumo“ (projekt č. 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Testování a úpravy softwaru na reálném model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EEDF-1906-491E-894D-EDFACCEC98DE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okračování v řešení soutěžní úlohy „Sumo“ (projekt č. 2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99680" y="1714680"/>
            <a:ext cx="8286840" cy="435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kračujte v práci na svých robotech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kud máte nějaké dotazy, můžete se samozřejmě zept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CA14F-A291-4991-9FBE-22B28C0C4778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Testování a úpravy softwaru na reálné modelu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99680" y="1714680"/>
            <a:ext cx="8286840" cy="435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áte možnost vyzkoušet vašeho robota na reálném modelu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04B44-F482-421C-A627-7BEDB101146D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Závě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0040" y="1285920"/>
            <a:ext cx="8183520" cy="492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stor na případné dotaz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bude příště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kračování v řešení soutěžní úlohy „Sumo“ (projekt č.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voukolová soutěž všech týmů v úloze – „Sumo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DĚKUJI ZA POZORNO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brázky z úvodního slidu převzaty z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https://ai.ia.agh.edu.pl/wiki/mindstorms:hi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digiredo.wordpress.com/2010/02/13/enterprise-2-0-not-if-but-when-do-you-start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gizmodo.com/168532/lego-mindstorms-nxt-software-going-open-sou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A091-D8FB-4112-820F-5BC761D170A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1:51:04Z</dcterms:created>
  <dc:creator>Jara</dc:creator>
  <dc:description/>
  <dc:language>en-US</dc:language>
  <cp:lastModifiedBy>DELL</cp:lastModifiedBy>
  <dcterms:modified xsi:type="dcterms:W3CDTF">2010-05-27T21:39:37Z</dcterms:modified>
  <cp:revision>7</cp:revision>
  <dc:subject/>
  <dc:title>Robotický seminář</dc:title>
</cp:coreProperties>
</file>