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51A1-1E53-4A2E-943A-D95A42978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EE15-7093-4D63-9EBA-C998C63E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12E4-0A36-430C-BFCE-96CF9C4F5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42AE-01A9-4DE9-B0C1-D7B661FF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F4AB5-D998-43D1-83CD-BA469273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A36C-3C38-4507-9816-5914E30FE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DE52C-3248-4BD3-B8B2-2C341EE6A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C39C-AFCB-4A95-9DB4-22AC4B579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CA96-4C62-404B-AB27-CB58E4635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43D99-5AA8-47CC-800E-BCCFB8E2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481E-42FC-419D-8CEC-5C35D8DD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98FC-6FBB-4654-9B47-235A9E41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0512-5E9F-4BCD-9C3D-E042B588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3C1B-B94E-4640-BB46-F7A452A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6187-0FAC-483B-BFAD-08B6C89A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63FCE-1838-4258-83A9-0C360A86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72311-689B-4C6B-916A-82CA1C5A7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9F844-58A2-41DA-B20F-5E6552B87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511C-C088-4BBC-AB1B-470F33B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F74038-DB60-436E-9D69-67BF40074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C49F1-2333-4C7E-911A-11CA0CBB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8BC1D-0118-4078-B411-CF93ABD3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A834-8A0C-4980-B19F-8E15D73A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8A6824-5161-4E9F-ABD7-E936E46A6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3C6C7F-FAF1-42EF-95B4-9D1D675F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5BD76-49F8-495A-A499-3B6D297F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87C2D-1090-4FAC-8986-08E7BBBB5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2A5A64-9BAF-4F29-B332-6AD71D6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D054-C530-4859-9B9D-C0D0E2390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29FAD-77AD-4CF0-B8CA-2A9538BB9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61A91-7BDA-4099-9291-693DB1833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11BBD-BEBB-4211-A447-4C42F7C3C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AF579F-EB9D-4BFE-B703-7A4E494D9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5CE6-5183-41A5-8E4F-DEED318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A5783-1C73-4FD1-9A20-9F8717BFB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81122-B682-4850-B0BA-204AA23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82316-2A14-492E-9873-782DEFE55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F9BB9-B500-4D4D-8455-8D66BA14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F34A9-8DCB-415E-9060-B1255B3F4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DE037-0CF2-4D3C-AF8E-12CABF1E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D7736-E23F-4B3E-8E24-09E7CF3B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E87C5-0C29-4FFE-8D7D-EF1EA4A3D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586B-E11A-4BFC-9B59-71516E7D6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F89FA8-0E8A-4770-9BD3-8E8BC8752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91E8-3D13-4883-B3B3-5178A0F3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6A6925-652B-40C3-B152-9CAF50EFA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9F23A-7449-43BC-B0EA-800D4FFA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B8B87-8D1B-4A40-9A4D-A1E8A60B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5D932-D67D-4D20-BEAD-7F5F6FE2E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A9626-BE34-43ED-A1B5-550792F66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312C7-5926-4215-8CC6-98AF39563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B72909-0EA8-4FD6-A03D-4C58E66F9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F0BAD-E0F6-4089-A48F-8916F2E7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D5B9-3D4D-4627-9560-AA8535CCA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C448DD-C999-40CA-8AE5-A0DA9909F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4AE7-2F60-4F5B-964B-28DE036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F58F0C-D6BA-429E-92A8-1E01F4133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C75-D413-4979-8CE5-C0A54C9E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9C35-6660-40DC-B035-8C80C51C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03F3-045F-4C67-BE39-368D1443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A41DA-5548-4D7D-A416-A4EB2B41A64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970A-E79C-4189-8887-B0D63FF47A1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BAD6-758C-4FB4-81C8-584FF3D8DD5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C86A-0580-40E2-A719-737863A3D99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08FC4-055D-4A66-92D8-18DDF6F38C3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5F59-371F-4880-BD42-F94FF15132D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voukolová soutěž všech týmů v úloze – „Sumo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7D3-A5FE-4E53-957E-098A06DF378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řešení soutěžní úlohy „Sumo“ (projekt č. 2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končete práci na svých robote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Bude následovat dvoukolová soutěž všech týmů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55B64-9FAC-40F6-ADC3-31DB3AFDD2A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Dvoukolová soutěž všech týmů v úloze „Sumo“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outěž může začít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odně štěstí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3279-C0F6-4C1F-B380-C919A4FD181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859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Finálová soutěž nejlepších týmů v soutěžní úloze „Sum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1244-1E51-4143-88AA-B1EA1078DDC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1:56:54Z</dcterms:created>
  <dc:creator>Jara</dc:creator>
  <dc:description/>
  <dc:language>en-US</dc:language>
  <cp:lastModifiedBy>Jara</cp:lastModifiedBy>
  <dcterms:modified xsi:type="dcterms:W3CDTF">2010-05-27T02:15:04Z</dcterms:modified>
  <cp:revision>10</cp:revision>
  <dc:subject/>
  <dc:title>Robotický seminář</dc:title>
</cp:coreProperties>
</file>