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E0DC-44B2-4C4A-BB4C-58C84EB9B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08EA3-8520-43EA-81A9-87106E5D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198A-496F-451E-A5A0-0ACB65C4D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1738-2367-4FEC-9CC0-6B03A1B42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48CA-65CE-4D6E-9592-8AA1D625C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0734D-6CD1-4258-8DD4-B61728DB0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4E7DC-675F-49CC-A25A-BB2C73DB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74CCE-B36C-47B3-AD2E-BECAF263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EF4C9-2378-4DED-B9C0-2E319D26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AF8E-C42F-4690-BBAA-D9725242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CE6ED-CEA1-48D9-96DD-83ADCD2B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5312-B147-45F4-8854-B4EA470FC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5521C-A09E-4ACD-8CDB-AA6F170A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9C952-09A9-49FA-9258-0BF00E15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68CC-DBC0-44AD-A7CE-C39F9652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8709-041A-4313-B796-8FB3E72FC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5E9C3-AB2B-4EA1-97BE-3D4BCCB5C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46617-568B-48E2-AE75-A473A43CD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D56B3-634F-4E96-87FF-250C2F667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53A99-4F75-49D9-8D27-9812754C9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870CE-C372-48C6-8DBD-FBA02A591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D13E9-B0CE-46A3-8995-E0796367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3E17-0DB5-4D7D-A6E9-877645B73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4FB47-83F7-404B-AA91-0BC124BD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089CA-66A1-4ED2-B060-2D9E9664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A8CB68-627A-464F-A71D-E13AF5FEB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83CAF-61A8-4071-A31F-2EA22E46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D83FA-6284-4FE8-915B-9C0DCBB7D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52F6D-C868-40C1-AB03-BE2C0790A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D3B7BD-58CD-402F-82EB-35ADC13F1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492A2A-82B4-4E58-89F3-EC72FB054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6776E-BA44-422C-8EA6-FA2910AC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060C40-1D6F-4DBB-9523-5BB7C7CD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6391-F405-4DF5-BD66-783BC613A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7EC15-59F1-42D1-9E7B-17B42AC8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96E4A-B6BB-402D-BBA5-44EB6152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94899-F57D-4D63-BCD8-D9614871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DC5C2-1D5F-41FE-BE7C-078FB648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2B125-919F-43BC-8112-24B0BEE7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4DE56-4803-4DF2-8469-30CF7389A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999FC-E538-4951-BA27-10A7B7B7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C7D1A-0772-4E6A-975C-BEE580AF7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7A133-1F83-42BB-BB5B-0B7F3367D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DD96F-2AAE-45CF-96EC-4C1B7E1CF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A77C-134F-4D7E-9786-29185A23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4B0144-A5BF-4203-AD38-BBB0E609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BD02BD-DD64-4927-B6BC-B11353D6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A5626-7358-463A-9AD1-0044FFFD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58AFB-7E04-428F-97E7-AC008895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E1952F-B81F-442A-885F-E2649D365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BCBA0F-6CA5-4040-AD99-598F3B71E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41D63D-F5B8-4E5E-9B8D-E3040554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ADDB3-334A-4E0F-BBBB-DCEC3273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AEA31B-BAF2-4F36-8574-1DF70BC0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BBA79-14A6-4630-922F-DF21EADEE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8E73-64E8-4800-952F-0978E43A6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ED095-FA5A-4586-AB68-8A17297AE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394A-B446-4C83-B535-EEA2E432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60EE-5C53-4D74-A1D0-557E7885E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0F14-5B06-4FE2-B700-A044DFC0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Zaoblený obdélník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Zaoblený obdélník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Zaoblený obdélník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47EA-D338-4413-A564-19DD51380E6C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Zaoblený obdélník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Zaoblený obdélník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7DB4-E10C-42DA-B625-E673D68CA700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Zaoblený obdélník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Zaoblený obdélník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BB7B-6E95-4F3C-AFA0-65A7AF3AB5C8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7331-94B2-4CA2-ABA7-D7BEC0BA025E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bdélník s jedním zakulaceným rohem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946C2-2B4C-43B9-84C3-14A6FCFC8815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85880" y="571680"/>
            <a:ext cx="7772400" cy="78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8d3e"/>
                </a:solidFill>
                <a:latin typeface="Verdana"/>
              </a:rPr>
              <a:t>Robotický seminář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500040" y="1642680"/>
            <a:ext cx="8072640" cy="178596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9766f"/>
                </a:solidFill>
                <a:latin typeface="Verdana"/>
              </a:rPr>
              <a:t>Seminář čísl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9766f"/>
                </a:solidFill>
                <a:latin typeface="Verdana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79766f"/>
                </a:solidFill>
                <a:latin typeface="Verdana"/>
              </a:rPr>
              <a:t>vyučující:</a:t>
            </a:r>
            <a:r>
              <a:rPr b="0" lang="cs-CZ" sz="20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79766f"/>
                </a:solidFill>
                <a:latin typeface="Verdana"/>
              </a:rPr>
              <a:t>Ing. Martin Hlinovský, Ph.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Zástupný symbol pro číslo snímku 6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23AC-33DA-4B34-859F-55FEFD553287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Obrázek 3" descr="UvodniSLide_robot.jpg"/>
          <p:cNvPicPr/>
          <p:nvPr/>
        </p:nvPicPr>
        <p:blipFill>
          <a:blip r:embed="rId1"/>
          <a:stretch/>
        </p:blipFill>
        <p:spPr>
          <a:xfrm>
            <a:off x="500040" y="385776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224" name="Obrázek 4" descr="UvodniObrazek_stir.jpg"/>
          <p:cNvPicPr/>
          <p:nvPr/>
        </p:nvPicPr>
        <p:blipFill>
          <a:blip r:embed="rId2"/>
          <a:stretch/>
        </p:blipFill>
        <p:spPr>
          <a:xfrm>
            <a:off x="3071880" y="3857760"/>
            <a:ext cx="2714400" cy="2579400"/>
          </a:xfrm>
          <a:prstGeom prst="rect">
            <a:avLst/>
          </a:prstGeom>
          <a:ln w="0">
            <a:noFill/>
          </a:ln>
        </p:spPr>
      </p:pic>
      <p:pic>
        <p:nvPicPr>
          <p:cNvPr id="225" name="Obrázek 5" descr="UvodniObrazek_ruka.jpg"/>
          <p:cNvPicPr/>
          <p:nvPr/>
        </p:nvPicPr>
        <p:blipFill>
          <a:blip r:embed="rId3"/>
          <a:stretch/>
        </p:blipFill>
        <p:spPr>
          <a:xfrm>
            <a:off x="5786280" y="3857760"/>
            <a:ext cx="30085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Obsah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00040" y="1214280"/>
            <a:ext cx="818352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Finálová soutěž nejlepších týmů v soutěžní úloze „Sumo“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52285-4963-405B-9D64-954FCCC68ED6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Finálová soutěž nejlepších týmů v soutěžní úloze „Sumo“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99680" y="1714680"/>
            <a:ext cx="8286840" cy="4357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Gratuluji všem týmům, které se probojovaly až  do finále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Finále může začít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Ať vyhraje ten nejlepší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5630E-AE8E-4858-B013-24C29DE223FF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Závěr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00040" y="1285560"/>
            <a:ext cx="8183520" cy="5143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rostor na případné dotaz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Co bude příště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Řešení speciálních úloh – skládání Rubikovy kostky, řešení Sudoku nebo řešení inverzního kyvadl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4000" spc="-1" strike="noStrike">
                <a:solidFill>
                  <a:srgbClr val="000000"/>
                </a:solidFill>
                <a:latin typeface="Verdana"/>
              </a:rPr>
              <a:t>DĚKUJI ZA POZORNOST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Obrázky z úvodního slidu převzaty z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https://ai.ia.agh.edu.pl/wiki/mindstorms:histo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Verdana"/>
              </a:rPr>
              <a:t>http://digiredo.wordpress.com/2010/02/13/enterprise-2-0-not-if-but-when-do-you-start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Verdana"/>
              </a:rPr>
              <a:t>http://gizmodo.com/168532/lego-mindstorms-nxt-software-going-open-sour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6E043-5D17-4358-BC23-8DFA09BAF2E3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22:16:02Z</dcterms:created>
  <dc:creator>Jara</dc:creator>
  <dc:description/>
  <dc:language>en-US</dc:language>
  <cp:lastModifiedBy>Jara</cp:lastModifiedBy>
  <dcterms:modified xsi:type="dcterms:W3CDTF">2010-05-28T00:48:16Z</dcterms:modified>
  <cp:revision>12</cp:revision>
  <dc:subject/>
  <dc:title>Robotický seminář</dc:title>
</cp:coreProperties>
</file>