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0DE6-0008-48C2-B42C-1C84BBAFD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6DA-AA04-424E-B03C-0EDA61AFE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81C6-6F16-42E5-8237-ABC4638C7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0C1D-843D-4113-88D8-DBE2CB0A9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75751-EEC8-4932-A8DA-D4259BCF9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7CD3-4C1F-44B0-808D-C5FB5B617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BE51-A1E7-4E89-A267-67CDD3AE4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07BD7-1A4E-4702-A309-E315ABC9E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9F828-6B68-4044-8D9F-C0EA72D8C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BFE71-046C-45CB-855F-BC743E07F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2EE0D-3A39-4E8A-A796-2B40E723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5C7A-8117-4034-9022-D314AE342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D80B9-3EC8-4EFA-967E-A5D5CA1B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487C4-37E6-4BFA-95E1-B1C58F3D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50D8-9E35-4423-AE6D-944081E3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504-665A-436E-AB63-CB4219D3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5939D-D033-4C9B-A3BD-91FF19C24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FA2E4-D155-430A-9024-530466D06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3F0C48-05AD-41C0-961A-45C7B06D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8FD6-854B-40C4-9F9A-B72F1A6BF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5602-D094-4676-9326-8C5AA2EBA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DE4B4-E488-4728-9E7F-8E1E6D1EC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C457-90A7-4A3D-AE1E-E1D7A616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12AD5-09AD-4911-A161-466B7D06D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78DD84-DC9A-4FB5-847B-7C4A7187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9E759-EF40-449D-907B-CBDA8D91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591A8-FBBC-4E2C-A6F9-C5947A3F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C8AD3-5A87-46CF-AA0F-D8EF6A264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8DD11-0A6B-4387-99A1-98632798A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C034A-6FAD-4071-9CAA-B4CA95F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44DCB-C317-4A8D-8702-AEEFF91F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7E78B-C7A5-49A4-989E-3213C3C27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73839-652D-49CA-89B3-92B6A6A66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F81-73CB-4A82-BE88-E760E052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7E617-81E4-42B7-90C6-CA9198ADA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DADFF-57BA-4CA8-B359-FD58B29D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7E6B2-5B2E-45F2-84B0-A0BD3473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49821-B867-4AB0-8CD8-C3E98F7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0519D-FA46-4D4F-B3B2-45C5924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0D2A5-1411-46A3-9E71-97E0BC94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3EFA-F026-47B5-BDA7-CB1B488A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A9A8AB-D8D5-4558-8E4E-604DDCF49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22479-8D43-4035-82F9-FE44A661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F493A0-0D03-4989-B4BF-2F1E0F26A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935C-696D-4E88-8610-29E926976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D8DE0-011B-4449-84CC-A004F101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1C063-1E60-4956-A0A4-A2FB64E79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98354-873E-41E5-BF67-9446FA0A3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8DA1-BB52-4E4C-BB61-8EFAC8102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56296-132A-4F8C-AAC3-9F54CB15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22F6AD-88BE-4CF7-89E0-F3AB6A52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3BEEE-53BE-454C-B833-CDD6E6D1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42BE5-5F85-4644-B0FF-4A463F3E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795135-B810-40AA-8757-03AE4B9D5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2C610-DB15-4802-B930-44ED0AC0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52F6-E7BC-4149-A856-B2DD6A06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C3E56-205B-4BF7-9C99-30521004E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306C-9F8A-4D5E-BC21-2F396FA69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E7-AEBC-47DF-90BB-237BD83A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AAAB-33F2-4DD2-AE43-53489CDC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D0798-4107-4400-A931-4D172495AD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5B378-388D-4E64-9BB7-ECD8D9A6CF7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ACC7-AAD9-4A7C-9CD8-B46FFD11DE8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40DD-CD41-4809-98D7-BD584962A0B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1428-CE4C-446B-9322-E7E0DE975C5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tiltedtwister.com/" TargetMode="External"/><Relationship Id="rId2" Type="http://schemas.openxmlformats.org/officeDocument/2006/relationships/hyperlink" Target="http://tiltedtwister.com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youtube.com/watch?v=5fAn5A0HbhU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tiltedtwisterNavod.pdf" TargetMode="External"/><Relationship Id="rId2" Type="http://schemas.openxmlformats.org/officeDocument/2006/relationships/hyperlink" Target="file:///tiltedtwister_by_HansAndersson.zip" TargetMode="External"/><Relationship Id="rId3" Type="http://schemas.openxmlformats.org/officeDocument/2006/relationships/hyperlink" Target="http://tiltedtwister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E8AB7-8DDF-4A46-A421-EEC05853FC1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speciálních úloh – skládání Rubikovy kostky, řešení Sudoku nebo řešení inverzního kyvad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53F8-A0A3-4C0D-B6E6-4D155EA1528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kládání Rubikovy kostky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Informace a další materiály byly převzaty z webových stránek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Hanse Andersona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který je autorem robota, který je schopen sám automaticky složit Rubikovu kost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je plně automatický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zložená kostka je položena d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rčeného mís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ltrazvukový senzor detekuje jej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ítomnost a začne číst barvy po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tranách kostky pomocí světelnéh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enzo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otáčí a naklání kostku tak,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by přečetl barvy na všech stěnách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ypočítá řešení a začne skládat kostk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íce informací na webových stránkách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tiltedtwister.com/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5F55-7437-418F-86BB-EBD21C19868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Zástupný symbol pro zápatí 6"/>
          <p:cNvSpPr/>
          <p:nvPr/>
        </p:nvSpPr>
        <p:spPr>
          <a:xfrm>
            <a:off x="357120" y="6111720"/>
            <a:ext cx="3786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Obrázek převzat z: </a:t>
            </a:r>
            <a:r>
              <a:rPr b="0" lang="pl-PL" sz="1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tiltedtwister.com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Obrázek 7" descr="tiltedtwister.jpg"/>
          <p:cNvPicPr/>
          <p:nvPr/>
        </p:nvPicPr>
        <p:blipFill>
          <a:blip r:embed="rId3"/>
          <a:stretch/>
        </p:blipFill>
        <p:spPr>
          <a:xfrm>
            <a:off x="5214960" y="2286000"/>
            <a:ext cx="2922480" cy="34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kládání Rubikovy kostky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738DB-1448-4928-B5C8-DAC41B952FB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Tilted Twister - LEGO Mindstorms Rubik_s Cube solver.avi" descr=""/>
          <p:cNvPicPr/>
          <p:nvPr/>
        </p:nvPicPr>
        <p:blipFill>
          <a:blip r:embed="rId1"/>
          <a:stretch/>
        </p:blipFill>
        <p:spPr>
          <a:xfrm>
            <a:off x="2286000" y="1928880"/>
            <a:ext cx="4429080" cy="3322440"/>
          </a:xfrm>
          <a:prstGeom prst="rect">
            <a:avLst/>
          </a:prstGeom>
          <a:ln w="0">
            <a:noFill/>
          </a:ln>
        </p:spPr>
      </p:pic>
      <p:sp>
        <p:nvSpPr>
          <p:cNvPr id="238" name="Zástupný symbol pro zápatí 6"/>
          <p:cNvSpPr/>
          <p:nvPr/>
        </p:nvSpPr>
        <p:spPr>
          <a:xfrm>
            <a:off x="428760" y="6111720"/>
            <a:ext cx="4929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Video převzato z: </a:t>
            </a:r>
            <a:r>
              <a:rPr b="0" lang="cs-CZ" sz="10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youtube.com/watch?v=5fAn5A0Hbh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kládání Rubikovy kostky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ůžete si robota postavit a naprogramovat sa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ávod na sestavení najdete 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Zabalený zdrojový kód je 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z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alší informace naleznete zd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 http://tiltedtwister.com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F6D9A-C720-4740-98FA-F3EB5B0C237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kládání Rubikovy kostky 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Můžete si robota postavit a naprogramovat sam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usťte se do toho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ACDF3-3222-4016-BE1D-EA98DBD1540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] Tilted Twister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– Hans Anderson [online]. c2010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[cit. 2010-05-20].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GO Mindstorms Rubik’s Cube Solver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. Dostupné z WWW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&l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http://tiltedtwister.com/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5ED92-B9A2-4222-98BD-C56C6D34D0F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500040" y="12859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šení speciálních úloh – skládání Rubikovy kostky, řešení Sudoku nebo řešení inverzního kyva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B8BB-9568-4F35-AD77-20881FBF847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2:26:18Z</dcterms:created>
  <dc:creator>Jara</dc:creator>
  <dc:description/>
  <dc:language>en-US</dc:language>
  <cp:lastModifiedBy>Jara</cp:lastModifiedBy>
  <dcterms:modified xsi:type="dcterms:W3CDTF">2010-05-28T00:49:00Z</dcterms:modified>
  <cp:revision>35</cp:revision>
  <dc:subject/>
  <dc:title>Robotický seminář</dc:title>
</cp:coreProperties>
</file>