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535E4-C6F4-4027-BB90-7CF2529FD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AD3FD-4EA1-4C4C-9B90-ECBB60DF3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82D60-9E2F-4B23-8C42-C785B6220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2F164-D168-49D6-8CDF-A417663D6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A16E5-EAEA-4165-AD4F-1EE4D39A0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CEE36-79C6-4388-8EE8-D0B901BA5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B4090-AB8A-453F-B2E1-09C2CC08D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5D8EF-A106-4DF6-844F-ED5039AE0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2C308-36D7-4A28-9E1F-DA14DAC6B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8A986-33F1-42C0-932F-5002B23B5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98564-B61C-4D57-8410-D3274C75C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770C7-EED0-4564-B9FD-71F933587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37E09-C75B-4920-B74A-0516A2E89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C147A-A560-4571-AB68-40AC62E10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8F8B7-DFAE-4525-905D-53ACFD342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9DA46-3955-44DA-AB1B-40270A4BA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DB52C-1790-4FC5-BCD1-7AC9B8239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A7B597-4926-4EA5-B425-3498961B6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42114F-7608-4BFD-BA98-83E565093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820B3C-4E8D-4044-AE5D-687F1F457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0BF67E-C833-4984-8FEC-13A76BA3C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CCE314-A0EE-4B59-B3C5-4855762FE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04665-CCC7-4FD4-89E0-13FC7221E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54B22F-772D-4DE2-8A6C-C6F17BEB8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917789-3650-4AB2-B612-5EA6C4D36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334D6F-DE5A-4B88-9812-9DFB42F1C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D3249C-F5EB-4675-A583-4D7CCD501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8E190C-081A-4509-ABF3-6EE9D1647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E1B16D-716D-4731-9B1A-16AA6A8A0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C648CC-DDFB-4160-9F74-E440F047E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113C34-FCBC-4A19-A782-7CEB22D6F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D800D7-CE82-49A8-A268-0EE08F086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A0E2D3-7287-4539-809C-918330281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90F2F-E3B9-4FEC-A96D-2B4BB3887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BCC1B0-75DA-40B2-BAA7-72E06DD88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7C168A-A0FF-4A9B-AD60-1CFD620DE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181AED-7BBA-4F82-9616-2F34C81B6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1BA4C4-75D3-4B63-A252-583D0D2B5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75D3E0-A195-4205-ADCA-E5782DF87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448CDA-DF4E-4527-846F-3B00DAD72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6BDD47-47E2-40B5-B4EB-7EA83C7E0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C64EEE-0122-4760-A6CC-F410CBE1E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0B18CE-EF3E-436F-957E-D56BE143A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6ECE76-F097-4F28-A9BC-2F16C7F17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0CA1A-3BD0-4F18-8816-43B81C030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510641-CCF5-43A5-B17D-496F1F905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783380-370F-4B69-B6A1-DFB31E5DE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E20908-8E72-46A1-920E-947CCC00E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DCA3EE-6568-4D82-9D8B-DD5E0AFFD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9368ED-F861-4F5C-B345-A239209A0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5FA570-BB96-4D07-9790-3EA489613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628913-15F2-477C-96CB-57A47749A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212A2F-5619-4561-A573-1563B42D4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F938DD-AF16-4E62-B082-C75E234AB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4E5159-0976-40A4-978D-EBEE492A0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04853-FD32-4354-9D46-827E21D4E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A5C3B8-8C65-4712-B15F-8D331C390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AD9B6-EB47-44FF-BC99-FCD4E085B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3C066-536A-49C3-91D0-5BAFB93A4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85DE2-A281-44BB-9B03-3D2A19F2E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Zaoblený obdélník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Zaoblený obdélník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Zaoblený obdélník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1E7B5-460C-42BF-8E3D-7E40874BBBF2}" type="slidenum">
              <a:rPr b="0" lang="cs-CZ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Zaoblený obdélník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Zaoblený obdélník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Zaoblený obdélník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852D2-596C-4B43-A550-4AD840D14AA7}" type="slidenum">
              <a:rPr b="0" lang="cs-CZ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Zaoblený obdélník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Zaoblený obdélník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Zaoblený obdélník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BC7EA-DEBE-4620-9AD0-DE86681C18D4}" type="slidenum">
              <a:rPr b="0" lang="cs-CZ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Zaoblený obdélník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09197-002E-4733-9E11-B52CD592C28F}" type="slidenum">
              <a:rPr b="0" lang="cs-CZ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Zaoblený obdélník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Obdélník s jedním zakulaceným rohem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>
              <a:gd name="textAreaLeft" fmla="*/ 0 w 2324160"/>
              <a:gd name="textAreaRight" fmla="*/ 2305800 w 2324160"/>
              <a:gd name="textAreaTop" fmla="*/ 0 h 4343400"/>
              <a:gd name="textAreaBottom" fmla="*/ 4343760 h 4343400"/>
            </a:gdLst>
            <a:ahLst/>
            <a:rect l="textAreaLeft" t="textAreaTop" r="textAreaRight" b="textAreaBottom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lnTo>
                  <a:pt x="2260234" y="0"/>
                </a:lnTo>
                <a:arcTo wR="63866" hR="63866" stAng="-5400000" swAng="5400000"/>
                <a:lnTo>
                  <a:pt x="2324100" y="4343400"/>
                </a:lnTo>
                <a:lnTo>
                  <a:pt x="0" y="434340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9A30E-CAAA-457E-BF3D-C0F37BF08AC2}" type="slidenum">
              <a:rPr b="0" lang="cs-CZ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85880" y="571680"/>
            <a:ext cx="7772400" cy="78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500" spc="-1" strike="noStrike">
                <a:solidFill>
                  <a:srgbClr val="ff8d3e"/>
                </a:solidFill>
                <a:latin typeface="Verdana"/>
              </a:rPr>
              <a:t>Robotický seminář</a:t>
            </a:r>
            <a:endParaRPr b="1" lang="en-US" sz="45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500040" y="1642680"/>
            <a:ext cx="8072640" cy="178596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79766f"/>
                </a:solidFill>
                <a:latin typeface="Verdana"/>
              </a:rPr>
              <a:t>Seminář číslo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79766f"/>
                </a:solidFill>
                <a:latin typeface="Verdana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79766f"/>
                </a:solidFill>
                <a:latin typeface="Verdana"/>
              </a:rPr>
              <a:t>vyučující:</a:t>
            </a:r>
            <a:r>
              <a:rPr b="0" lang="cs-CZ" sz="2000" spc="-1" strike="noStrike">
                <a:solidFill>
                  <a:srgbClr val="79766f"/>
                </a:solidFill>
                <a:latin typeface="Verdana"/>
              </a:rPr>
              <a:t>	</a:t>
            </a:r>
            <a:r>
              <a:rPr b="0" lang="cs-CZ" sz="2000" spc="-1" strike="noStrike">
                <a:solidFill>
                  <a:srgbClr val="79766f"/>
                </a:solidFill>
                <a:latin typeface="Verdana"/>
              </a:rPr>
              <a:t>Ing. Martin Hlinovský, Ph.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Zástupný symbol pro číslo snímku 6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102D2-8A91-4F6E-9D0F-8655CC84400B}" type="slidenum">
              <a:rPr b="0" lang="cs-CZ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Obrázek 3" descr="UvodniSLide_robot.jpg"/>
          <p:cNvPicPr/>
          <p:nvPr/>
        </p:nvPicPr>
        <p:blipFill>
          <a:blip r:embed="rId1"/>
          <a:stretch/>
        </p:blipFill>
        <p:spPr>
          <a:xfrm>
            <a:off x="500040" y="3857760"/>
            <a:ext cx="2428920" cy="2428920"/>
          </a:xfrm>
          <a:prstGeom prst="rect">
            <a:avLst/>
          </a:prstGeom>
          <a:ln w="0">
            <a:noFill/>
          </a:ln>
        </p:spPr>
      </p:pic>
      <p:pic>
        <p:nvPicPr>
          <p:cNvPr id="224" name="Obrázek 4" descr="UvodniObrazek_stir.jpg"/>
          <p:cNvPicPr/>
          <p:nvPr/>
        </p:nvPicPr>
        <p:blipFill>
          <a:blip r:embed="rId2"/>
          <a:stretch/>
        </p:blipFill>
        <p:spPr>
          <a:xfrm>
            <a:off x="3071880" y="3857760"/>
            <a:ext cx="2714400" cy="2579400"/>
          </a:xfrm>
          <a:prstGeom prst="rect">
            <a:avLst/>
          </a:prstGeom>
          <a:ln w="0">
            <a:noFill/>
          </a:ln>
        </p:spPr>
      </p:pic>
      <p:pic>
        <p:nvPicPr>
          <p:cNvPr id="225" name="Obrázek 5" descr="UvodniObrazek_ruka.jpg"/>
          <p:cNvPicPr/>
          <p:nvPr/>
        </p:nvPicPr>
        <p:blipFill>
          <a:blip r:embed="rId3"/>
          <a:stretch/>
        </p:blipFill>
        <p:spPr>
          <a:xfrm>
            <a:off x="5786280" y="3857760"/>
            <a:ext cx="3008520" cy="22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0040" y="1425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8d3e"/>
                </a:solidFill>
                <a:latin typeface="Verdana"/>
              </a:rPr>
              <a:t>Obsah 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500040" y="1214280"/>
            <a:ext cx="8183520" cy="48578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Řešení speciálních úloh – skládání Rubikovy kostky, řešení Sudoku nebo řešení inverzního kyvadl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Zástupný symbol pro číslo snímku 5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E9F56-07CE-40D7-9381-EC6315FF1E59}" type="slidenum">
              <a:rPr b="0" lang="cs-CZ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0040" y="1425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8d3e"/>
                </a:solidFill>
                <a:latin typeface="Verdana"/>
              </a:rPr>
              <a:t>Skládání Rubikovy kostky 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500040" y="1214280"/>
            <a:ext cx="8183520" cy="48578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Dokončení práce na robotovi pro skládání Rubikovy kostky, experimenty, atd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Diskuz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Zástupný symbol pro číslo snímku 5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869DA-8249-41FB-B45A-16F8B3202602}" type="slidenum">
              <a:rPr b="0" lang="cs-CZ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00040" y="1425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8d3e"/>
                </a:solidFill>
                <a:latin typeface="Verdana"/>
              </a:rPr>
              <a:t>Závěr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500040" y="1285920"/>
            <a:ext cx="8183520" cy="49291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Prostor na případné dotaz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Co bude příště?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Pokračování v řešení speciálních úloh - skládání Rubikovy kostky, řešení Sudoku nebo řešení inverzního kyvadl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Verdana"/>
              </a:rPr>
              <a:t>DĚKUJI ZA POZORNOST!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Obrázky z úvodního slidu převzaty z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https://ai.ia.agh.edu.pl/wiki/mindstorms:histor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 u="sng">
                <a:solidFill>
                  <a:srgbClr val="000000"/>
                </a:solidFill>
                <a:uFillTx/>
                <a:latin typeface="Verdana"/>
              </a:rPr>
              <a:t>http://digiredo.wordpress.com/2010/02/13/enterprise-2-0-not-if-but-when-do-you-start/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 u="sng">
                <a:solidFill>
                  <a:srgbClr val="000000"/>
                </a:solidFill>
                <a:uFillTx/>
                <a:latin typeface="Verdana"/>
              </a:rPr>
              <a:t>http://gizmodo.com/168532/lego-mindstorms-nxt-software-going-open-sourc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Zástupný symbol pro číslo snímku 4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BCF1D-2A8B-4A97-A6CD-1B6B3FF9A14B}" type="slidenum">
              <a:rPr b="0" lang="cs-CZ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6T23:02:58Z</dcterms:created>
  <dc:creator>Jara</dc:creator>
  <dc:description/>
  <dc:language>en-US</dc:language>
  <cp:lastModifiedBy>Jara</cp:lastModifiedBy>
  <dcterms:modified xsi:type="dcterms:W3CDTF">2010-05-28T00:49:14Z</dcterms:modified>
  <cp:revision>5</cp:revision>
  <dc:subject/>
  <dc:title>Robotický seminář</dc:title>
</cp:coreProperties>
</file>