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12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4F48-C340-47DB-BB55-6FD31BB9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BCE7-7988-42E3-8C07-51CC2314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795-1E84-423C-BFC2-50EDEFFA2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7056-EA5E-4F64-AC90-3BDE11A7D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14210-AF4E-4A64-8693-51717B574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9AC8-75F1-4A49-9223-2FA8A86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6A54-18EC-42E9-A956-252D38892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F679-E229-4113-9B2F-D363F0198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C47AA-8159-4C61-B5FC-A12DD2CFF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A520B-A662-4906-B4EA-28C2F79D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7E01-E2C0-4E10-8021-4C67C687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2F91-62AD-4DF3-9993-5A30ABF0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39A71-CCDD-4D42-A445-DA9FA551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83DD-41D6-4F21-A431-619D725B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5D40-F2EC-4874-96CA-2D551B8B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0C47-2ACD-41C4-AD1F-30A357D65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9BF1C-3A37-4E68-8C35-4336D557E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0B05-DD74-435E-80DF-74A22DD7D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FCE88-9692-4AD3-AE7F-D0E1BB0D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EFE6D8-FCB2-437E-B73D-66595FCF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0E364-FB77-44EA-81CE-78450DD6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B5607-3B76-4835-9CA8-E0AE43067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179F-E8FB-4ED4-95FA-0DA11C86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842D8-2E0C-4FE7-BC55-03483A8DF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BD024-C03A-4B93-95D8-9BB727817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19727-53C0-47BD-9367-5F42119F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95EC8-A694-445C-8389-C22545D0B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B4736-5BB4-4184-B6ED-8A31B9AF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2596F-3503-4409-8DB8-7B669F43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E0465-DF70-4322-A6FE-CB16CCDC3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C6FD-81CF-4BE8-88F7-58D378BB1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D1A8E-364D-48F4-A190-CAFA01626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4929BD-8250-45A7-B77D-651EBA9F8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4B66-BCF9-4EA0-822D-1EBC37A42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60699-7F24-48E4-9E56-2BD4CEBCD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AEA22B-CA26-4CA1-B745-26193503A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0EEF0-ECFC-4AF7-AE0F-FF28A85B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1AC18-3190-4F7C-B65B-F71BF633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6A8F88-71E8-4C96-B794-D1B25DB8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BD0F7-9DAB-41D3-9388-4026885C2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C44E-FD55-4CD3-89F6-17E55A98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73451-1CF1-4102-9DE2-FAFB7E33E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07092-C42D-4475-9DE4-A4CC6E855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0C5A9-C330-4CFE-A23C-EF70BA67E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5FC1-053F-4290-AE0C-E4713E340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E7578-C10A-4B90-9ADF-9C41AF95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2F5074-A710-498A-B36D-807F500C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B461C-572D-4727-89C1-26C2384A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F0E4-E079-4078-9A2B-4C10A407D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277A01-40F0-479D-8F3E-50867628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594ABC-8924-40A4-BE5C-F943C076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F76E7-9B3A-49E1-8F00-EB1C5FA3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4D2CE-36B9-4E67-BD84-F08AE977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3F939-6BD8-4A72-A9FC-F69F66C4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1D711-66D6-43A8-90DB-8B2C4AED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F641-84E0-46FB-9752-5A0CD8B1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F5FEF-6D96-4DE3-968F-994F0FE72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F25-7B67-4DF4-A722-21149A70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B7C-E827-4A6C-9481-E285B01C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5AA3-6930-41EE-9780-AA4F2EDC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C5838-6086-4D85-A75C-5EE23E79AF3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5F004-071F-4E28-8B93-73893FC3FB5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D803-A553-4CE1-BF6C-59DDBFD5FDE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8252-8032-4B55-A074-4A23AC8192F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491D4-0CBF-4B1A-BD28-53607232FC4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tiltedtwister.com/sudokusolver.html" TargetMode="Externa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youtube.com/watch?v=Mp8Y2yjV4fU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sudokusolverNavod.pdf" TargetMode="External"/><Relationship Id="rId2" Type="http://schemas.openxmlformats.org/officeDocument/2006/relationships/hyperlink" Target="file:///sudokusolver_by_HansAndersson.zip" TargetMode="External"/><Relationship Id="rId3" Type="http://schemas.openxmlformats.org/officeDocument/2006/relationships/hyperlink" Target="file:///sudokuZadani.pdf" TargetMode="External"/><Relationship Id="rId4" Type="http://schemas.openxmlformats.org/officeDocument/2006/relationships/hyperlink" Target="http://tiltedtwister.com/sudokusolver.htm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F83-9B41-4BC9-BC7D-9B2F6A7C112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speciálních úloh – skládání Rubikovy kostky, řešení Sudoku nebo řešení inverzního kyva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375C3-F0E1-4630-B341-1511FAF27DA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Sudok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nformace a další materiály byly převzaty z webových stránek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anse Anderson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který je autorem robota, který je schopen sám vyřešit Sudo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D750-A905-4B35-A851-2986557A45A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6"/>
          <p:cNvSpPr/>
          <p:nvPr/>
        </p:nvSpPr>
        <p:spPr>
          <a:xfrm>
            <a:off x="357120" y="6111720"/>
            <a:ext cx="4572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ky převzaty z: http://tiltedtwister.com/sudokusol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ázek 8" descr="sudokuRobot_by_HansAndersson.jpg"/>
          <p:cNvPicPr/>
          <p:nvPr/>
        </p:nvPicPr>
        <p:blipFill>
          <a:blip r:embed="rId1"/>
          <a:stretch/>
        </p:blipFill>
        <p:spPr>
          <a:xfrm>
            <a:off x="642960" y="2500200"/>
            <a:ext cx="4005360" cy="2640240"/>
          </a:xfrm>
          <a:prstGeom prst="rect">
            <a:avLst/>
          </a:prstGeom>
          <a:ln w="0">
            <a:noFill/>
          </a:ln>
        </p:spPr>
      </p:pic>
      <p:pic>
        <p:nvPicPr>
          <p:cNvPr id="234" name="Obrázek 9" descr="sudokuRobot_by_HansAndersson2.jpg"/>
          <p:cNvPicPr/>
          <p:nvPr/>
        </p:nvPicPr>
        <p:blipFill>
          <a:blip r:embed="rId2"/>
          <a:stretch/>
        </p:blipFill>
        <p:spPr>
          <a:xfrm>
            <a:off x="5143680" y="3357720"/>
            <a:ext cx="3235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Sudok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213920"/>
            <a:ext cx="818352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nto robot si pomocí světelného senzoru naskenuje zadání Sudoku, vypočítá řešení a napíše čísli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by bylo Sudoku vyřešeno, tak musí provést následující opere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kenování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– nejprve je proveden rychlý sken , který zjistí, jaké buňky jsou prázdné. Světelný senzor se pohybuje ze strany na stranu nad papírem se zadáním. Po rychlém skenu následuje podrobnější sken jednotlivých čísl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Prahování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- Naskenovaný obrázek je velice zašumělý a rozmazaný. Aby byl více ostrý, je potřeba ho transformovat na binární obraz (černá a bílá) pomocí automatického prahovacího algoritm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Segmentac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– Binární obraz může obsahovat více než jeden segment. Může obsahovat pixely, které nepatří k číslici Střední segment ponechá a ostatní se zruš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Ztenčeni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Obraz je převeden na 1-pixel široké linie pomocí ztenčovacího algoritmu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Extrakce charakteristického rysu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klasifikace čísli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Vyřešení Sudoku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íce informací najdete na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cs-CZ" sz="1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tiltedtwister.com/sudokusolver.html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0B9E-C9C2-4669-94C7-60342917502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Obrázek 7" descr="raw.jpg"/>
          <p:cNvPicPr/>
          <p:nvPr/>
        </p:nvPicPr>
        <p:blipFill>
          <a:blip r:embed="rId2"/>
          <a:stretch/>
        </p:blipFill>
        <p:spPr>
          <a:xfrm>
            <a:off x="571680" y="2857680"/>
            <a:ext cx="609480" cy="571320"/>
          </a:xfrm>
          <a:prstGeom prst="rect">
            <a:avLst/>
          </a:prstGeom>
          <a:ln w="0">
            <a:noFill/>
          </a:ln>
        </p:spPr>
      </p:pic>
      <p:pic>
        <p:nvPicPr>
          <p:cNvPr id="239" name="Obrázek 8" descr="segmentation.jpg"/>
          <p:cNvPicPr/>
          <p:nvPr/>
        </p:nvPicPr>
        <p:blipFill>
          <a:blip r:embed="rId3"/>
          <a:stretch/>
        </p:blipFill>
        <p:spPr>
          <a:xfrm>
            <a:off x="571680" y="4143240"/>
            <a:ext cx="609480" cy="571680"/>
          </a:xfrm>
          <a:prstGeom prst="rect">
            <a:avLst/>
          </a:prstGeom>
          <a:ln w="0">
            <a:noFill/>
          </a:ln>
        </p:spPr>
      </p:pic>
      <p:pic>
        <p:nvPicPr>
          <p:cNvPr id="240" name="Obrázek 9" descr="thresholding.jpg"/>
          <p:cNvPicPr/>
          <p:nvPr/>
        </p:nvPicPr>
        <p:blipFill>
          <a:blip r:embed="rId4"/>
          <a:stretch/>
        </p:blipFill>
        <p:spPr>
          <a:xfrm>
            <a:off x="571680" y="3500280"/>
            <a:ext cx="614160" cy="576360"/>
          </a:xfrm>
          <a:prstGeom prst="rect">
            <a:avLst/>
          </a:prstGeom>
          <a:ln w="0">
            <a:noFill/>
          </a:ln>
        </p:spPr>
      </p:pic>
      <p:pic>
        <p:nvPicPr>
          <p:cNvPr id="241" name="Obrázek 10" descr="thinning.jpg"/>
          <p:cNvPicPr/>
          <p:nvPr/>
        </p:nvPicPr>
        <p:blipFill>
          <a:blip r:embed="rId5"/>
          <a:stretch/>
        </p:blipFill>
        <p:spPr>
          <a:xfrm>
            <a:off x="571680" y="4786200"/>
            <a:ext cx="609480" cy="571680"/>
          </a:xfrm>
          <a:prstGeom prst="rect">
            <a:avLst/>
          </a:prstGeom>
          <a:ln w="0">
            <a:noFill/>
          </a:ln>
        </p:spPr>
      </p:pic>
      <p:sp>
        <p:nvSpPr>
          <p:cNvPr id="242" name="Zástupný symbol pro zápatí 11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ky převzaty z: http://tiltedtwister.com/sudokusolver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Sudok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213920"/>
            <a:ext cx="818352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Aby vám video fungovalo, tak je potřeba mít nastavený jako defaultní přehrávač Windows Media Play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F853-9967-4F58-AB67-3DC916D0D6A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LEGO Mindstorms Sudoku Solver_HD_by_HansAndersson.avi" descr=""/>
          <p:cNvPicPr/>
          <p:nvPr/>
        </p:nvPicPr>
        <p:blipFill>
          <a:blip r:embed="rId1"/>
          <a:stretch/>
        </p:blipFill>
        <p:spPr>
          <a:xfrm>
            <a:off x="1357200" y="1785960"/>
            <a:ext cx="6596280" cy="3709800"/>
          </a:xfrm>
          <a:prstGeom prst="rect">
            <a:avLst/>
          </a:prstGeom>
          <a:ln w="0">
            <a:noFill/>
          </a:ln>
        </p:spPr>
      </p:pic>
      <p:sp>
        <p:nvSpPr>
          <p:cNvPr id="247" name="Zástupný symbol pro zápatí 6"/>
          <p:cNvSpPr/>
          <p:nvPr/>
        </p:nvSpPr>
        <p:spPr>
          <a:xfrm>
            <a:off x="428760" y="6111720"/>
            <a:ext cx="7920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Video převzato z: </a:t>
            </a:r>
            <a:r>
              <a:rPr b="0" lang="pl-PL" sz="1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youtube.com/watch?v=Mp8Y2yjV4f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Sudok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0040" y="1213920"/>
            <a:ext cx="818352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ůžete si robota postavit a naprogramovat sa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vod na sestavení naleznete 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balený zdrojový kód naleznete 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dání Sudoku naleznete 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lší informace naleznete z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tiltedtwister.com/sudokusolver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955E6-3809-46A7-84AA-4313A94105A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Řešení Sudoku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ůžete si robota postavit a naprogramovat sa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usťte se do toh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DE2F-4634-44D8-B4FB-6236F641AF2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] Tilted Twi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Hans Anderson [online]. c2010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[cit. 2010-05-20]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O Mindstorms Rubik’s Cube Solv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Dostupné z WWW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tiltedtwister.com/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8873-E1F2-4124-ADA9-7D145D07E4F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končení řešení speciálních úloh – skládání Rubikovy kostky, řešení Sudoku nebo řešení inverzního kyva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1286-CE95-4BC8-A3A2-0E645E71EA2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3:15:41Z</dcterms:created>
  <dc:creator>Jara</dc:creator>
  <dc:description/>
  <dc:language>en-US</dc:language>
  <cp:lastModifiedBy>Jara</cp:lastModifiedBy>
  <dcterms:modified xsi:type="dcterms:W3CDTF">2010-05-28T00:12:23Z</dcterms:modified>
  <cp:revision>38</cp:revision>
  <dc:subject/>
  <dc:title>Robotický seminář</dc:title>
</cp:coreProperties>
</file>