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80D1-E94A-4DA4-A321-0A41203D9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9277-1C1D-4B32-AF97-C340BBDE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95BB-B2D6-416A-82A9-A171250D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8870-42DA-4863-A397-A148F18DC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DD46A-5FBD-4FC5-A9D3-707F2DCF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C98C-292D-460D-8AB3-FACD4A32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149D1-97BF-473B-BC47-9830B813E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38FBF-0B56-4D7E-B6F3-6213C5B59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3BB32-3164-4482-9142-BEAA7ACA2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0F35-9B0A-4B31-A5A3-255935F9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DBD07-58C0-4C2E-AEC0-F836C28C2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BDB5-3EC7-4F91-B8E1-5ABC50E0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6BFE-5F28-47F6-B652-5FB01F1F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3337-F793-416E-8BF9-6B4E85E6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E1A57-033B-47CB-887E-B5D61FFA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3AF6-6F25-4AFA-A764-6D7626500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D2CC-86B9-4D1B-8986-234DE8621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B7212-CA0F-4A6F-AC77-DA3714BCF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7EA64-92AE-438A-8112-30F56EB7C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409AD-1A37-47CC-9E2F-88785C28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401AD-93C2-4922-A13C-2C7CE93B4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4FAB8-845A-4137-9328-C3265EC58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4E65-3472-4312-9EC7-B2B30DB49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BFEC6-75CC-40B6-BF9A-BCD78808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13FEE-6C2B-4D78-91A6-246F0B11C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E928C-F425-4BA5-93EE-2A544583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7D9323-81DD-4850-8F8E-A720924D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60A68E-9A60-48EE-9439-D575CD55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A04C3-7ADD-48E5-AD46-DAC7B5BE9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D8A60-11C9-4D94-ACF9-EBDBB4CC3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2315F-5217-45F5-9ED2-E4F9042F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2365A2-CFAE-4F15-A098-03F7BE1C9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5A328-6A90-4801-A888-B32BC842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EB58-981E-4641-8D85-160CB30CA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0BF4E-FCD4-4802-8658-287344DF3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DA91B-E976-4554-BD14-B99B8950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30934-A544-44C4-B732-EDD710C7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A5819-C86C-4106-87CB-CA856755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057EC-42F2-433C-91BD-26367C6A7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80EC9-7374-4707-9148-6BE7D540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6DB28-74D0-454A-94F8-5C794AE1F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0CCEA-EA9B-4611-9816-DF8D1AD2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D67FB-59C3-428A-A9E4-DAAD9A76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B0168-4DA2-43E0-8077-F29D5B8AD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86213-C401-4C98-9316-491799313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0C9C8-AB9F-4815-94D0-D39ACA95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AE7C94-2C3F-4DE2-9196-06F3C0874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4D0BD-FC88-4B16-A40F-E6BD8CF98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D4D95-0BE0-4086-B81E-1AA7DB73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173D6-F303-4E53-8FCB-0DEE9DC6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22D97-AC75-4C30-A50F-6E01E279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F1C96-C192-4311-88AD-0C5CAC56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B1FE1-95C8-482D-981A-6B737D006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DF780-7B7E-4B19-B48C-172FA2349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0F71C-3E00-45D0-B61C-0CF82FC6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74C8-38EB-4655-AF58-EA596D9AC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FB3610-9D4B-4551-BFB2-6D4606C5D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9BEB-43DC-4DFE-A835-E0E959D3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4160-99F7-4B21-A853-5EFAEDEF3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2C53-9C80-4025-9288-EAB766B56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aoblený obdélní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Zaoblený obdélník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Zaoblený obdélník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DE49-360D-414C-B612-22CE30B1B72A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Zaoblený obdélník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6E79-D23E-4295-ADD1-3CAF529368A8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Zaoblený obdélník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B6DE-C810-4DD2-B025-0EB25C8ABF50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C7018-98D5-4891-9D01-2F672262EF89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s jedním zakulaceným rohem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AB23-BBCC-4A44-B3DF-C32698529EF0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xtprograms.com/NXT2/segway/index.html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hpCwdu0e3i0&amp;feature=player_embedded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V40ScvJeFxg&amp;feature=related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nxtprograms.com/NXT2/segway/steps.html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588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8d3e"/>
                </a:solidFill>
                <a:latin typeface="Verdana"/>
              </a:rPr>
              <a:t>Robotický seminář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00040" y="1642680"/>
            <a:ext cx="807264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Seminář čísl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vyučující: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Ing. Martin Hlinovský, Ph.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D51B8-8EC4-46A1-8DD6-F2D2F2C4F0EB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ázek 3" descr="UvodniSLide_robot.jpg"/>
          <p:cNvPicPr/>
          <p:nvPr/>
        </p:nvPicPr>
        <p:blipFill>
          <a:blip r:embed="rId1"/>
          <a:stretch/>
        </p:blipFill>
        <p:spPr>
          <a:xfrm>
            <a:off x="500040" y="38577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24" name="Obrázek 4" descr="UvodniObrazek_stir.jpg"/>
          <p:cNvPicPr/>
          <p:nvPr/>
        </p:nvPicPr>
        <p:blipFill>
          <a:blip r:embed="rId2"/>
          <a:stretch/>
        </p:blipFill>
        <p:spPr>
          <a:xfrm>
            <a:off x="3071880" y="3857760"/>
            <a:ext cx="2714400" cy="2579400"/>
          </a:xfrm>
          <a:prstGeom prst="rect">
            <a:avLst/>
          </a:prstGeom>
          <a:ln w="0">
            <a:noFill/>
          </a:ln>
        </p:spPr>
      </p:pic>
      <p:pic>
        <p:nvPicPr>
          <p:cNvPr id="225" name="Obrázek 5" descr="UvodniObrazek_ruka.jpg"/>
          <p:cNvPicPr/>
          <p:nvPr/>
        </p:nvPicPr>
        <p:blipFill>
          <a:blip r:embed="rId3"/>
          <a:stretch/>
        </p:blipFill>
        <p:spPr>
          <a:xfrm>
            <a:off x="5786280" y="3857760"/>
            <a:ext cx="30085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Obsah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okončení řešení speciálních úloh – skládání Rubikovy kostky, řešení Sudoku nebo řešení inverzního kyvad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903D1-5C37-4003-A58D-6F4B14F7302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Řešení inverzního kyvadl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9000"/>
          </a:bodyPr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ideo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Aby vám video fungovalo, tak je potřeba mít nastavený jako defaultní přehrávač Windows Media Play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C7262-6FB3-4C21-AE54-68E56393C19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Zástupný symbol pro zápatí 7"/>
          <p:cNvSpPr/>
          <p:nvPr/>
        </p:nvSpPr>
        <p:spPr>
          <a:xfrm>
            <a:off x="428760" y="6111720"/>
            <a:ext cx="7920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Zdroj: </a:t>
            </a:r>
            <a:r>
              <a:rPr b="0" lang="cs-CZ" sz="10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nxtprograms.com/NXT2/segway/index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NXT Segway with Leaning Rider.avi" descr=""/>
          <p:cNvPicPr/>
          <p:nvPr/>
        </p:nvPicPr>
        <p:blipFill>
          <a:blip r:embed="rId2"/>
          <a:stretch/>
        </p:blipFill>
        <p:spPr>
          <a:xfrm>
            <a:off x="2143080" y="1857240"/>
            <a:ext cx="492912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Řešení inverzního kyvadl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9000"/>
          </a:bodyPr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ideo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Aby vám video fungovalo, tak je potřeba mít nastavený jako defaultní přehrávač Windows Media Play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35800" indent="-235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71D63-F2A7-46E8-843C-C711EDBDA43B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Zástupný symbol pro zápatí 7"/>
          <p:cNvSpPr/>
          <p:nvPr/>
        </p:nvSpPr>
        <p:spPr>
          <a:xfrm>
            <a:off x="428760" y="6111720"/>
            <a:ext cx="7920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Zdroj: </a:t>
            </a:r>
            <a:r>
              <a:rPr b="0" lang="cs-CZ" sz="10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youtube.com/watch?v=hpCwdu0e3i0&amp;feature=player_embed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LEGO Mindstorms NXTway-G Balancing Robot.avi" descr=""/>
          <p:cNvPicPr/>
          <p:nvPr/>
        </p:nvPicPr>
        <p:blipFill>
          <a:blip r:embed="rId2"/>
          <a:stretch/>
        </p:blipFill>
        <p:spPr>
          <a:xfrm>
            <a:off x="2143080" y="1857240"/>
            <a:ext cx="485784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2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Řešení inverzního kyvadl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ideo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okonalejší proveden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álkové ovládán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Aby vám video fungovalo, tak je potřeba mít nastavený jako defaultní přehrávač Windows Media Play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677A-19AD-4309-904F-466C54B8E30C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Zástupný symbol pro zápatí 7"/>
          <p:cNvSpPr/>
          <p:nvPr/>
        </p:nvSpPr>
        <p:spPr>
          <a:xfrm>
            <a:off x="428760" y="6111720"/>
            <a:ext cx="7920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Zdroj: </a:t>
            </a:r>
            <a:r>
              <a:rPr b="0" lang="cs-CZ" sz="10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youtube.com/watch?v=V40ScvJeFxg&amp;feature=rela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Segway NXTway-Gyro self-balancing NXT robot with remote PSP joystick control _ NXTway-g.avi" descr=""/>
          <p:cNvPicPr/>
          <p:nvPr/>
        </p:nvPicPr>
        <p:blipFill>
          <a:blip r:embed="rId2"/>
          <a:stretch/>
        </p:blipFill>
        <p:spPr>
          <a:xfrm>
            <a:off x="2571840" y="2428920"/>
            <a:ext cx="414324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2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Řešení inverzního kyvadl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eden z návodů na sestavení robota najde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z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ůžete sami vyzkouše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8231-7E7B-498E-AF81-A7BBF4CAF9C0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eznam zdrojů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1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] nxtprograms.com -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 Projects for your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O®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INDSTORMS®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XT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[online].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2007-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2010 [cit. 2010-05-20].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O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XT Segway with Rider. Dostupné z WWW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&lt;http://www.nxtprograms.com/NXT2/segway/index.html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A2D38-D312-4435-89F6-2C48AB76E06D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Závě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2000"/>
          </a:bodyPr>
          <a:p>
            <a:pPr marL="243720" indent="-24372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stor na případné dotaz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Verdana"/>
              </a:rPr>
              <a:t>DĚKUJI ZA POZORNO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Obrázky z úvodního slidu převzaty z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https://ai.ia.agh.edu.pl/wiki/mindstorms:hi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digiredo.wordpress.com/2010/02/13/enterprise-2-0-not-if-but-when-do-you-start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gizmodo.com/168532/lego-mindstorms-nxt-software-going-open-sou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43720" indent="-2437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06AE-31AD-470F-AF6E-A0EC8A9F6D4B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7T00:04:47Z</dcterms:created>
  <dc:creator>Jara</dc:creator>
  <dc:description/>
  <dc:language>en-US</dc:language>
  <cp:lastModifiedBy>Jara</cp:lastModifiedBy>
  <dcterms:modified xsi:type="dcterms:W3CDTF">2010-05-28T00:14:40Z</dcterms:modified>
  <cp:revision>25</cp:revision>
  <dc:subject/>
  <dc:title>Robotický seminář</dc:title>
</cp:coreProperties>
</file>