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50.png" ContentType="image/png"/>
  <Override PartName="/ppt/media/image36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5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12E9-B90F-4F13-AC29-BEB23EE80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E803-DEC6-4346-B2F3-7539C414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3371-DAE9-4C0C-95D0-827153B8E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2C1A-1512-4AC7-8BB0-1672E1861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5AB5-C38B-4D25-9AFD-E57ACB7F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15BD-0421-4675-8170-B66DF2008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250C-73CF-4E06-AAD8-3B7F7DE1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3F134-4859-41FC-9628-6E121CAE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7571-8494-41A5-AE6C-093FDA68D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A2FC-68CE-4CA6-89D6-83CE4A6B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A3734-BFDA-476B-81C3-4FB84C06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4F0D7-7AD8-47A4-A995-5A2464583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F0A9B-972C-4DB9-B64F-976AEF4D0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D5A1-2288-49BB-9A68-380C2119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59ECD-D0BB-4383-ADBF-0050649C1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F2CE-D3CB-4CAD-8D40-304F363DC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8686F-A4FC-4B70-BB9A-10318CB15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8EB32-8843-410B-994D-1BD157EE7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825EB-05F4-44A9-8CA0-B73BBB528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B7E8A-13D0-4638-8869-A21255EB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26398-E546-491A-91B5-A4BC8CDB5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1055D-AB8B-4893-A2E5-7A3695EAC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DD4F-0B47-4F7D-99CD-503987E25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C34F2-358B-4BC9-B89E-42E18A39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3966A-9003-48C2-A84A-BE188B767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F3518-A02A-4585-AB38-5DC3C88C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11E27-56D8-4B80-BF6B-ECD32EBDF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EBCE0-AA08-4291-BAE2-72C0E1378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B006C-1717-4194-9FC9-634DF213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ADEC2-F8A8-41AE-8036-88476460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38B0E9-BDF0-41F1-8DB9-399B4D6A6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A3BA0-768A-4A16-AD76-5E1F9022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50EB3-DBF8-4E04-9A52-34F1A4C6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62E0-E521-4F8D-AAEB-C8A1AB30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FD400-97D3-46FD-A296-A3CD596C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40516-1F8E-4D1F-B41A-04D0F1A9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F33E3-A08E-4165-8F77-B6D28B8AF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FA3C7-ECCB-45E7-AED0-09490A0C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148224-885C-4AC2-85C6-350F9F438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BF250-12D9-47FE-A8A1-AD2F2814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685D14-4DF3-4285-A91C-A91439B28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AB1E6-A6D1-4F6D-8FA3-34FF3DF3A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37F36-4D7D-4AD3-A7B6-5B84B4D49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9FA31-BC66-4973-81B2-2BBEC64F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5AA4-2EC5-4AD8-96A1-D3789803A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3CBD6-0004-417C-B592-BC05694F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337E4-106C-4E7F-A7D7-291D1BF99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407E9-0A9B-4B56-962D-0B9F98730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A05A3-9E6B-499B-BA46-09728C53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E6B7D-3E4B-4E35-BCC3-72F386A6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4384C1-657C-4623-BEAC-28ABD8CD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4FDB7-EBE0-4D07-B309-AE1AEE7E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1FEFB4-6364-4501-B499-5F9A67ED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9C745-0508-47C2-9AA6-75A99A297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BF00F-261D-4D22-8580-32A128E48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D450-716E-4AD7-B402-F2CE911B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1468C-41DA-4696-A4E3-CBCEF1893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E9EA-A796-45F2-BAEB-BBB662BA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24FE-306D-4329-BBDE-F24DE02C6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CDC2-1081-4052-9969-C01728FF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aoblený obdélník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Zaoblený obdélník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Zaoblený obdélník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51637-F2BF-410F-AFB8-3514F0557C97}" type="datetime">
              <a:rPr b="0" lang="cs-CZ" sz="1000" spc="-1" strike="noStrike">
                <a:solidFill>
                  <a:srgbClr val="a7a399"/>
                </a:solidFill>
                <a:latin typeface="Verdana"/>
              </a:rPr>
              <a:t>28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5875-913E-4222-B830-251881D12A3C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Zaoblený obdélník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EBC6E-484D-40A0-B0D6-8395F1F00CFA}" type="datetime">
              <a:rPr b="0" lang="cs-CZ" sz="1000" spc="-1" strike="noStrike">
                <a:solidFill>
                  <a:srgbClr val="a7a399"/>
                </a:solidFill>
                <a:latin typeface="Verdana"/>
              </a:rPr>
              <a:t>28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F77C4-C926-4413-B404-906FE0E7FA66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Zaoblený obdélník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87AD5-F9DE-460D-B698-F118829ED0A9}" type="datetime">
              <a:rPr b="0" lang="cs-CZ" sz="1000" spc="-1" strike="noStrike">
                <a:solidFill>
                  <a:srgbClr val="a7a399"/>
                </a:solidFill>
                <a:latin typeface="Verdana"/>
              </a:rPr>
              <a:t>28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45796-E6F6-4DFF-B91D-8523F8FB54AB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FDF27-F5B4-4C4F-AD37-4B8644B80800}" type="datetime">
              <a:rPr b="0" lang="cs-CZ" sz="1000" spc="-1" strike="noStrike">
                <a:solidFill>
                  <a:srgbClr val="a7a399"/>
                </a:solidFill>
                <a:latin typeface="Verdana"/>
              </a:rPr>
              <a:t>28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08982-2226-413A-9507-78CE1ED5408E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s jedním zakulaceným rohem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94C8-2D3D-4B11-B5C1-923C32E273B5}" type="datetime">
              <a:rPr b="0" lang="cs-CZ" sz="1000" spc="-1" strike="noStrike">
                <a:solidFill>
                  <a:srgbClr val="a7a399"/>
                </a:solidFill>
                <a:latin typeface="Verdana"/>
              </a:rPr>
              <a:t>28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D262-585C-43BC-BF20-F373A28105AF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thenxtstep.blogspot.com/2006/05/how-robocenter-works.html" TargetMode="External"/><Relationship Id="rId2" Type="http://schemas.openxmlformats.org/officeDocument/2006/relationships/hyperlink" Target="http://mindstorms.lego.com/en-us/whatisnxt/default.aspx" TargetMode="External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hyperlink" Target="http://www.ortop.org/NXT_Tutorial/html/essentials.html" TargetMode="External"/><Relationship Id="rId2" Type="http://schemas.openxmlformats.org/officeDocument/2006/relationships/hyperlink" Target="http://www.ni.com/academic/mindstorms/works.htm" TargetMode="External"/><Relationship Id="rId3" Type="http://schemas.openxmlformats.org/officeDocument/2006/relationships/hyperlink" Target="http://www.botmag.com/articles/10-31-07_NXT.shtml" TargetMode="External"/><Relationship Id="rId4" Type="http://schemas.openxmlformats.org/officeDocument/2006/relationships/hyperlink" Target="http://www.teamhassenplug.org/NXT/NXTSoftware.html" TargetMode="External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85880" y="57168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8d3e"/>
                </a:solidFill>
                <a:latin typeface="Verdana"/>
              </a:rPr>
              <a:t>Robotický seminář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00040" y="1642680"/>
            <a:ext cx="807264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Seminář čísl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vyučující: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Ing. Martin Hlinovský, Ph.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Obrázek 3" descr="UvodniSLide_robot.jpg"/>
          <p:cNvPicPr/>
          <p:nvPr/>
        </p:nvPicPr>
        <p:blipFill>
          <a:blip r:embed="rId1"/>
          <a:stretch/>
        </p:blipFill>
        <p:spPr>
          <a:xfrm>
            <a:off x="500040" y="385776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223" name="Obrázek 4" descr="UvodniObrazek_stir.jpg"/>
          <p:cNvPicPr/>
          <p:nvPr/>
        </p:nvPicPr>
        <p:blipFill>
          <a:blip r:embed="rId2"/>
          <a:stretch/>
        </p:blipFill>
        <p:spPr>
          <a:xfrm>
            <a:off x="3071880" y="3857760"/>
            <a:ext cx="2714400" cy="2579400"/>
          </a:xfrm>
          <a:prstGeom prst="rect">
            <a:avLst/>
          </a:prstGeom>
          <a:ln w="0">
            <a:noFill/>
          </a:ln>
        </p:spPr>
      </p:pic>
      <p:pic>
        <p:nvPicPr>
          <p:cNvPr id="224" name="Obrázek 5" descr="UvodniObrazek_ruka.jpg"/>
          <p:cNvPicPr/>
          <p:nvPr/>
        </p:nvPicPr>
        <p:blipFill>
          <a:blip r:embed="rId3"/>
          <a:stretch/>
        </p:blipFill>
        <p:spPr>
          <a:xfrm>
            <a:off x="5786280" y="3857760"/>
            <a:ext cx="3008520" cy="2214360"/>
          </a:xfrm>
          <a:prstGeom prst="rect">
            <a:avLst/>
          </a:prstGeom>
          <a:ln w="0">
            <a:noFill/>
          </a:ln>
        </p:spPr>
      </p:pic>
      <p:sp>
        <p:nvSpPr>
          <p:cNvPr id="225" name="Zástupný symbol pro číslo snímku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1DC5-71BB-4D72-98D2-393E3A5A2C0F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Vytvoření nového programu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2. Způsob – z roletové nabíd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3. Způsob – tlačítkem z liš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Obrázek 6" descr="VytvoreniProgramu2.png"/>
          <p:cNvPicPr/>
          <p:nvPr/>
        </p:nvPicPr>
        <p:blipFill>
          <a:blip r:embed="rId1"/>
          <a:stretch/>
        </p:blipFill>
        <p:spPr>
          <a:xfrm>
            <a:off x="3643200" y="1714680"/>
            <a:ext cx="1841760" cy="2286000"/>
          </a:xfrm>
          <a:prstGeom prst="rect">
            <a:avLst/>
          </a:prstGeom>
          <a:ln w="0">
            <a:noFill/>
          </a:ln>
        </p:spPr>
      </p:pic>
      <p:pic>
        <p:nvPicPr>
          <p:cNvPr id="257" name="Obrázek 8" descr="VytvoreniProgramu3.png"/>
          <p:cNvPicPr/>
          <p:nvPr/>
        </p:nvPicPr>
        <p:blipFill>
          <a:blip r:embed="rId2"/>
          <a:stretch/>
        </p:blipFill>
        <p:spPr>
          <a:xfrm>
            <a:off x="2214720" y="4572000"/>
            <a:ext cx="4781520" cy="1066680"/>
          </a:xfrm>
          <a:prstGeom prst="rect">
            <a:avLst/>
          </a:prstGeom>
          <a:ln w="0">
            <a:noFill/>
          </a:ln>
        </p:spPr>
      </p:pic>
      <p:sp>
        <p:nvSpPr>
          <p:cNvPr id="258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8759-7435-410A-8E29-96D3250269A6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Vytvoření nového programu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4000"/>
          </a:bodyPr>
          <a:p>
            <a:pPr marL="248760" indent="-248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4. Způsob – klávesová zkrat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Ctrl +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aždému vytvořenému programu přísluší záložka s programovací plocho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i vytvoření více programů lze mezi nimi přepínat právě pomocí zálože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ogram můžete uzavřít „křížkem“, z roletové nabídky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ile -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 Clos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nebo klávesovou zkratkou Ctrl + 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1" name="Obrázek 6" descr="PrepinaniMeziProgrami.png"/>
          <p:cNvPicPr/>
          <p:nvPr/>
        </p:nvPicPr>
        <p:blipFill>
          <a:blip r:embed="rId1"/>
          <a:stretch/>
        </p:blipFill>
        <p:spPr>
          <a:xfrm>
            <a:off x="1428840" y="3929040"/>
            <a:ext cx="6431040" cy="1082520"/>
          </a:xfrm>
          <a:prstGeom prst="rect">
            <a:avLst/>
          </a:prstGeom>
          <a:ln w="0">
            <a:noFill/>
          </a:ln>
        </p:spPr>
      </p:pic>
      <p:sp>
        <p:nvSpPr>
          <p:cNvPr id="262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5C9F-27A7-4F29-BEE2-2B9B71AF35EE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Uložení programu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1. Způsob – z roletové nabídky  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2. Krok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1. Krok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3. Kro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5" name="Obrázek 4" descr="UlozeniProgramu_roletovaNabidka.png"/>
          <p:cNvPicPr/>
          <p:nvPr/>
        </p:nvPicPr>
        <p:blipFill>
          <a:blip r:embed="rId1"/>
          <a:stretch/>
        </p:blipFill>
        <p:spPr>
          <a:xfrm>
            <a:off x="642960" y="2143080"/>
            <a:ext cx="1500120" cy="2260800"/>
          </a:xfrm>
          <a:prstGeom prst="rect">
            <a:avLst/>
          </a:prstGeom>
          <a:ln w="0">
            <a:noFill/>
          </a:ln>
        </p:spPr>
      </p:pic>
      <p:sp>
        <p:nvSpPr>
          <p:cNvPr id="266" name="Šipka doprava 6"/>
          <p:cNvSpPr/>
          <p:nvPr/>
        </p:nvSpPr>
        <p:spPr>
          <a:xfrm>
            <a:off x="2357280" y="2214720"/>
            <a:ext cx="3357720" cy="2142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fffff"/>
          </a:solidFill>
          <a:ln w="4248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Obrázek 7" descr="UlozeniProgramu_roletovaNabidka_Okno1.png"/>
          <p:cNvPicPr/>
          <p:nvPr/>
        </p:nvPicPr>
        <p:blipFill>
          <a:blip r:embed="rId2"/>
          <a:stretch/>
        </p:blipFill>
        <p:spPr>
          <a:xfrm>
            <a:off x="5786280" y="1714680"/>
            <a:ext cx="2800440" cy="1776240"/>
          </a:xfrm>
          <a:prstGeom prst="rect">
            <a:avLst/>
          </a:prstGeom>
          <a:ln w="0">
            <a:noFill/>
          </a:ln>
        </p:spPr>
      </p:pic>
      <p:pic>
        <p:nvPicPr>
          <p:cNvPr id="268" name="Obrázek 9" descr="UlozeniProgramu_roletovaNabidka_Okno2.png"/>
          <p:cNvPicPr/>
          <p:nvPr/>
        </p:nvPicPr>
        <p:blipFill>
          <a:blip r:embed="rId3"/>
          <a:stretch/>
        </p:blipFill>
        <p:spPr>
          <a:xfrm>
            <a:off x="2428920" y="3571920"/>
            <a:ext cx="3878280" cy="2873160"/>
          </a:xfrm>
          <a:prstGeom prst="rect">
            <a:avLst/>
          </a:prstGeom>
          <a:ln w="0">
            <a:noFill/>
          </a:ln>
        </p:spPr>
      </p:pic>
      <p:sp>
        <p:nvSpPr>
          <p:cNvPr id="269" name="Šipka ohnutá nahoru 10"/>
          <p:cNvSpPr/>
          <p:nvPr/>
        </p:nvSpPr>
        <p:spPr>
          <a:xfrm flipH="1" rot="16200000">
            <a:off x="6071040" y="4214520"/>
            <a:ext cx="1643040" cy="500040"/>
          </a:xfrm>
          <a:prstGeom prst="pie">
            <a:avLst/>
          </a:prstGeom>
          <a:solidFill>
            <a:srgbClr val="ffffff"/>
          </a:solidFill>
          <a:ln w="4248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Zástupný symbol pro číslo snímku 8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FFEB-0346-4289-8AEE-F95E8A5CA952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Uložení programu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500040" y="1285560"/>
            <a:ext cx="8183520" cy="5000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2. Způsob – tlačítkem z liš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1. Kro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2.  a 3. Krok -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stejný jako na předchozím slid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3. Způsob – klávesová zkrat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1. Krok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Ctrl + 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2.  a 3. Krok -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stejný jako na předchozím slid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ozn. Pomocí kroku 1 v 2. a 3. způsobu ukládání lze program i průběžně ukládat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Obrázek 4" descr="UlozeniProgramu_tlacitkemZlisty.png"/>
          <p:cNvPicPr/>
          <p:nvPr/>
        </p:nvPicPr>
        <p:blipFill>
          <a:blip r:embed="rId1"/>
          <a:stretch/>
        </p:blipFill>
        <p:spPr>
          <a:xfrm>
            <a:off x="642960" y="2143080"/>
            <a:ext cx="4552920" cy="1085760"/>
          </a:xfrm>
          <a:prstGeom prst="rect">
            <a:avLst/>
          </a:prstGeom>
          <a:ln w="0">
            <a:noFill/>
          </a:ln>
        </p:spPr>
      </p:pic>
      <p:sp>
        <p:nvSpPr>
          <p:cNvPr id="274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AFD67-CA82-4343-9A45-CD459770744E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Otevření programu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1. Způsob – z úvodního ok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7" name="Obrázek 6" descr="OtevreniProgramuCast11.png"/>
          <p:cNvPicPr/>
          <p:nvPr/>
        </p:nvPicPr>
        <p:blipFill>
          <a:blip r:embed="rId1"/>
          <a:stretch/>
        </p:blipFill>
        <p:spPr>
          <a:xfrm>
            <a:off x="4643280" y="1928880"/>
            <a:ext cx="3305160" cy="1209600"/>
          </a:xfrm>
          <a:prstGeom prst="rect">
            <a:avLst/>
          </a:prstGeom>
          <a:ln w="0">
            <a:noFill/>
          </a:ln>
        </p:spPr>
      </p:pic>
      <p:pic>
        <p:nvPicPr>
          <p:cNvPr id="278" name="Obrázek 7" descr="OtevreniProgramuCast12.png"/>
          <p:cNvPicPr/>
          <p:nvPr/>
        </p:nvPicPr>
        <p:blipFill>
          <a:blip r:embed="rId2"/>
          <a:stretch/>
        </p:blipFill>
        <p:spPr>
          <a:xfrm>
            <a:off x="3000240" y="3214800"/>
            <a:ext cx="3305160" cy="1276200"/>
          </a:xfrm>
          <a:prstGeom prst="rect">
            <a:avLst/>
          </a:prstGeom>
          <a:ln w="0">
            <a:noFill/>
          </a:ln>
        </p:spPr>
      </p:pic>
      <p:pic>
        <p:nvPicPr>
          <p:cNvPr id="279" name="Obrázek 8" descr="OtevreniProgramuCast13.png"/>
          <p:cNvPicPr/>
          <p:nvPr/>
        </p:nvPicPr>
        <p:blipFill>
          <a:blip r:embed="rId3"/>
          <a:stretch/>
        </p:blipFill>
        <p:spPr>
          <a:xfrm>
            <a:off x="714240" y="4572000"/>
            <a:ext cx="3295800" cy="1247760"/>
          </a:xfrm>
          <a:prstGeom prst="rect">
            <a:avLst/>
          </a:prstGeom>
          <a:ln w="0">
            <a:noFill/>
          </a:ln>
        </p:spPr>
      </p:pic>
      <p:sp>
        <p:nvSpPr>
          <p:cNvPr id="280" name="Ohnutá šipka 10"/>
          <p:cNvSpPr/>
          <p:nvPr/>
        </p:nvSpPr>
        <p:spPr>
          <a:xfrm flipV="1" rot="5400000">
            <a:off x="3643200" y="2213280"/>
            <a:ext cx="500040" cy="1071360"/>
          </a:xfrm>
          <a:prstGeom prst="pie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hnutá šipka 11"/>
          <p:cNvSpPr/>
          <p:nvPr/>
        </p:nvSpPr>
        <p:spPr>
          <a:xfrm flipV="1" rot="5400000">
            <a:off x="2071800" y="3642120"/>
            <a:ext cx="500040" cy="1071720"/>
          </a:xfrm>
          <a:prstGeom prst="pie">
            <a:avLst/>
          </a:prstGeom>
          <a:solidFill>
            <a:srgbClr val="ffffff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Zástupný symbol pro číslo snímku 8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3B10-DB80-4A67-8AF3-7E23E501F482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Otevření programu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00040" y="1213920"/>
            <a:ext cx="818352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2. Způsob – z roletové nabíd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2.kro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1. kro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Obrázek 5" descr="OtevreniProgramu2.png"/>
          <p:cNvPicPr/>
          <p:nvPr/>
        </p:nvPicPr>
        <p:blipFill>
          <a:blip r:embed="rId1"/>
          <a:stretch/>
        </p:blipFill>
        <p:spPr>
          <a:xfrm>
            <a:off x="642960" y="2428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286" name="Obrázek 8" descr="OtevreniProgramu_AdresarOkno.png"/>
          <p:cNvPicPr/>
          <p:nvPr/>
        </p:nvPicPr>
        <p:blipFill>
          <a:blip r:embed="rId2"/>
          <a:stretch/>
        </p:blipFill>
        <p:spPr>
          <a:xfrm>
            <a:off x="3571920" y="1928880"/>
            <a:ext cx="5010120" cy="3738600"/>
          </a:xfrm>
          <a:prstGeom prst="rect">
            <a:avLst/>
          </a:prstGeom>
          <a:ln w="0">
            <a:noFill/>
          </a:ln>
        </p:spPr>
      </p:pic>
      <p:sp>
        <p:nvSpPr>
          <p:cNvPr id="287" name="Šipka doprava 9"/>
          <p:cNvSpPr/>
          <p:nvPr/>
        </p:nvSpPr>
        <p:spPr>
          <a:xfrm>
            <a:off x="2500200" y="3286080"/>
            <a:ext cx="9288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fffff"/>
          </a:solidFill>
          <a:ln w="4248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Zástupný symbol pro číslo snímku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7BEFD-0452-4F6C-AF04-82677FBD193E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Otevření programu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00040" y="1285560"/>
            <a:ext cx="8183520" cy="5072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3. Způsob – tlačítkem z liš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1.kro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2. krok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– stejný jako na předchozím slid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4. Způsob – klávesová zkrat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1. krok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Ctrl + 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2. krok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– stejný jako na předchozím slidu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Obrázek 6" descr="OtevreniProgramu3.png"/>
          <p:cNvPicPr/>
          <p:nvPr/>
        </p:nvPicPr>
        <p:blipFill>
          <a:blip r:embed="rId1"/>
          <a:stretch/>
        </p:blipFill>
        <p:spPr>
          <a:xfrm>
            <a:off x="642960" y="2143080"/>
            <a:ext cx="4686120" cy="1085760"/>
          </a:xfrm>
          <a:prstGeom prst="rect">
            <a:avLst/>
          </a:prstGeom>
          <a:ln w="0">
            <a:noFill/>
          </a:ln>
        </p:spPr>
      </p:pic>
      <p:sp>
        <p:nvSpPr>
          <p:cNvPr id="292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4154A-69B4-4E46-BD9C-BA1BDD6C2DA9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imple Text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extová pole, která jsou takto označen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dporují tzv. Simple Tex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ohou zde být napsána pouze velká a malá písmena A-Z, číslice 0-9, interpunkce a symbo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5" name="Obrázek 4" descr="TextovePole_SimpleText.png"/>
          <p:cNvPicPr/>
          <p:nvPr/>
        </p:nvPicPr>
        <p:blipFill>
          <a:blip r:embed="rId1"/>
          <a:stretch/>
        </p:blipFill>
        <p:spPr>
          <a:xfrm>
            <a:off x="2000160" y="1785960"/>
            <a:ext cx="2335320" cy="357120"/>
          </a:xfrm>
          <a:prstGeom prst="rect">
            <a:avLst/>
          </a:prstGeom>
          <a:ln w="0">
            <a:noFill/>
          </a:ln>
        </p:spPr>
      </p:pic>
      <p:pic>
        <p:nvPicPr>
          <p:cNvPr id="296" name="Obrázek 4" descr="SimpleText.png"/>
          <p:cNvPicPr/>
          <p:nvPr/>
        </p:nvPicPr>
        <p:blipFill>
          <a:blip r:embed="rId2"/>
          <a:srcRect l="21518" t="43081" r="35035" b="43859"/>
          <a:stretch/>
        </p:blipFill>
        <p:spPr>
          <a:xfrm>
            <a:off x="1428840" y="3929040"/>
            <a:ext cx="6514920" cy="1357200"/>
          </a:xfrm>
          <a:prstGeom prst="rect">
            <a:avLst/>
          </a:prstGeom>
          <a:ln w="0">
            <a:noFill/>
          </a:ln>
        </p:spPr>
      </p:pic>
      <p:sp>
        <p:nvSpPr>
          <p:cNvPr id="297" name="Šipka ohnutá nahoru 6"/>
          <p:cNvSpPr/>
          <p:nvPr/>
        </p:nvSpPr>
        <p:spPr>
          <a:xfrm flipH="1" rot="16200000">
            <a:off x="4713840" y="1643040"/>
            <a:ext cx="214200" cy="500040"/>
          </a:xfrm>
          <a:prstGeom prst="pie">
            <a:avLst/>
          </a:prstGeom>
          <a:solidFill>
            <a:srgbClr val="000000"/>
          </a:solidFill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Zástupný symbol pro číslo snímku 7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0B01C-6D1A-4532-AA5D-A2A166B3AE0D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Výčet programovacích bloků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00040" y="1285560"/>
            <a:ext cx="8183520" cy="5000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gramovací paleta je rozdělena na tři část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24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Verdana"/>
              </a:rPr>
              <a:t>Common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 palet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24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Verdana"/>
              </a:rPr>
              <a:t>Complete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 palet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24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Verdana"/>
              </a:rPr>
              <a:t>Custom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 palet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Common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 pale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bsahuje nejpoužívanější blok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stavena jako výchozí b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Complete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 pale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bsahuje kompletně všechny programovací blok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Custom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 pale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sou zde vlastně vytvořené bloky a stažené z web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DCAB-6373-405C-ABED-D31606616E66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500040" y="1285560"/>
            <a:ext cx="8183520" cy="5072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Move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Uvádí motory do pohyb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apíná svítid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akto vypadá blok na programovací ploš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4" name="Obrázek 22" descr="CommnonBlocksPalette.png"/>
          <p:cNvPicPr/>
          <p:nvPr/>
        </p:nvPicPr>
        <p:blipFill>
          <a:blip r:embed="rId1"/>
          <a:srcRect l="7005" t="17774" r="87905" b="73324"/>
          <a:stretch/>
        </p:blipFill>
        <p:spPr>
          <a:xfrm>
            <a:off x="4572000" y="1571760"/>
            <a:ext cx="781200" cy="771480"/>
          </a:xfrm>
          <a:prstGeom prst="rect">
            <a:avLst/>
          </a:prstGeom>
          <a:ln w="0">
            <a:noFill/>
          </a:ln>
        </p:spPr>
      </p:pic>
      <p:pic>
        <p:nvPicPr>
          <p:cNvPr id="305" name="Obrázek 8" descr="MoveBlockPopis.png"/>
          <p:cNvPicPr/>
          <p:nvPr/>
        </p:nvPicPr>
        <p:blipFill>
          <a:blip r:embed="rId2"/>
          <a:stretch/>
        </p:blipFill>
        <p:spPr>
          <a:xfrm>
            <a:off x="3429000" y="3214800"/>
            <a:ext cx="2095560" cy="2047680"/>
          </a:xfrm>
          <a:prstGeom prst="rect">
            <a:avLst/>
          </a:prstGeom>
          <a:ln w="0">
            <a:noFill/>
          </a:ln>
        </p:spPr>
      </p:pic>
      <p:sp>
        <p:nvSpPr>
          <p:cNvPr id="306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FA39-3E83-4D9B-81A2-24F0D911F469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Obsah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0040" y="14284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gramování v LEGO MINDSTORMS NX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rogram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eoretický úv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eznámení s programovacím prostředí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tvoření nového programu a práce s ní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ýčet programovacích blok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ak programov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789A-41BE-4CC8-958A-2CECDFF20347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500040" y="1143000"/>
            <a:ext cx="8183520" cy="5286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0000"/>
          </a:bodyPr>
          <a:p>
            <a:pPr marL="211680" indent="-211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Move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onfigurační pan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1. Výběr portů do kterých budou připojeny motory. Pokud vyberete dva porty, jako je na obrázku, tak motory zapojené do těchto portů budou synchronizované. Pokud vyberete tři porty, tak budou synchronizované v portech B a 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2. Výběr směru otáčení motoru – dopředu, dozadu, zastavení s resetováním motor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3. Vyberte příslušné porty motorů a posuvníkem nastavíte zakřivení dráhy při otáčení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4. Nastavení výkonu motoru pomocí posuvníku nebo přímo napsáním hodnoty do textového po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5. Nastavení trvání otáčeni motoru – neomezené, čas v sekundách, počet celých otáček nebo úhel natočení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6. Výběr, zda budou motory zabržděny nebo poběží dál po dokončení jejich ak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7. Zde se zobrazuje o kolik stupňů nebo otáček se motor otočil. Stiskutím resetovacího tlačítka dojde k vynulování hod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9" name="Obrázek 5" descr="MoveBlockConfigPanel.png"/>
          <p:cNvPicPr/>
          <p:nvPr/>
        </p:nvPicPr>
        <p:blipFill>
          <a:blip r:embed="rId1"/>
          <a:stretch/>
        </p:blipFill>
        <p:spPr>
          <a:xfrm>
            <a:off x="1428840" y="1928880"/>
            <a:ext cx="6192720" cy="1181160"/>
          </a:xfrm>
          <a:prstGeom prst="rect">
            <a:avLst/>
          </a:prstGeom>
          <a:ln w="0">
            <a:noFill/>
          </a:ln>
        </p:spPr>
      </p:pic>
      <p:sp>
        <p:nvSpPr>
          <p:cNvPr id="310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2F650-E489-4209-B10A-C72CF151DFC9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500040" y="1285560"/>
            <a:ext cx="8183520" cy="5072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Record/Play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Umožňuje robota naprogramovat fyzickým pohybem a pak nahraný pohyb zopakov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akto vypadá blok na programovací ploš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3" name="Obrázek 22" descr="CommnonBlocksPalette.png"/>
          <p:cNvPicPr/>
          <p:nvPr/>
        </p:nvPicPr>
        <p:blipFill>
          <a:blip r:embed="rId1"/>
          <a:srcRect l="6828" t="6540" r="88265" b="84534"/>
          <a:stretch/>
        </p:blipFill>
        <p:spPr>
          <a:xfrm>
            <a:off x="4929120" y="928800"/>
            <a:ext cx="781200" cy="798480"/>
          </a:xfrm>
          <a:prstGeom prst="rect">
            <a:avLst/>
          </a:prstGeom>
          <a:ln w="0">
            <a:noFill/>
          </a:ln>
        </p:spPr>
      </p:pic>
      <p:pic>
        <p:nvPicPr>
          <p:cNvPr id="314" name="Obrázek 7" descr="Record_PlayBlock.png"/>
          <p:cNvPicPr/>
          <p:nvPr/>
        </p:nvPicPr>
        <p:blipFill>
          <a:blip r:embed="rId2"/>
          <a:stretch/>
        </p:blipFill>
        <p:spPr>
          <a:xfrm>
            <a:off x="2643120" y="3286080"/>
            <a:ext cx="3908520" cy="857160"/>
          </a:xfrm>
          <a:prstGeom prst="rect">
            <a:avLst/>
          </a:prstGeom>
          <a:ln w="0">
            <a:noFill/>
          </a:ln>
        </p:spPr>
      </p:pic>
      <p:sp>
        <p:nvSpPr>
          <p:cNvPr id="315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63D1C-ED20-44F5-99D4-D91309BC9C65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00040" y="1285560"/>
            <a:ext cx="8183520" cy="535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Record/Play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onfigurační panel v režimu nahrávání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1. Textové pole pro pojmenování nahraného pohyb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2. Výběr portů s připojenými motory, u kterých má být zaznamenán jejich pohyb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3. Nastavení doby zaznamenávání pohybu v sekundá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onfigurační panel v režimu přehrávání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1. Napište název nahrané akce a soubory, které byly uloženy v NXT kostce, se objeví v sekci 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File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v abecedním seznamu a vy si vyberete tu, kterou chcete zopakovat.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8" name="Obrázek 7" descr="Record_PlayBlockConFig.png"/>
          <p:cNvPicPr/>
          <p:nvPr/>
        </p:nvPicPr>
        <p:blipFill>
          <a:blip r:embed="rId1"/>
          <a:stretch/>
        </p:blipFill>
        <p:spPr>
          <a:xfrm>
            <a:off x="2786040" y="2143080"/>
            <a:ext cx="3314880" cy="1071720"/>
          </a:xfrm>
          <a:prstGeom prst="rect">
            <a:avLst/>
          </a:prstGeom>
          <a:ln w="0">
            <a:noFill/>
          </a:ln>
        </p:spPr>
      </p:pic>
      <p:pic>
        <p:nvPicPr>
          <p:cNvPr id="319" name="Obrázek 8" descr="Record_PlayBlockConFig2.png"/>
          <p:cNvPicPr/>
          <p:nvPr/>
        </p:nvPicPr>
        <p:blipFill>
          <a:blip r:embed="rId2"/>
          <a:stretch/>
        </p:blipFill>
        <p:spPr>
          <a:xfrm>
            <a:off x="2928960" y="4643280"/>
            <a:ext cx="3305160" cy="1190880"/>
          </a:xfrm>
          <a:prstGeom prst="rect">
            <a:avLst/>
          </a:prstGeom>
          <a:ln w="0">
            <a:noFill/>
          </a:ln>
        </p:spPr>
      </p:pic>
      <p:sp>
        <p:nvSpPr>
          <p:cNvPr id="320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AE13-55D6-4451-BB84-3AC8178D8CB2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500040" y="1285560"/>
            <a:ext cx="8183520" cy="5072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Sound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Umožňuje přehrát zvuky z NXT kostk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akto vypadá blok na programovací ploš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Obrázek 22" descr="CommnonBlocksPalette.png"/>
          <p:cNvPicPr/>
          <p:nvPr/>
        </p:nvPicPr>
        <p:blipFill>
          <a:blip r:embed="rId1"/>
          <a:srcRect l="13199" t="6756" r="81821" b="84445"/>
          <a:stretch/>
        </p:blipFill>
        <p:spPr>
          <a:xfrm>
            <a:off x="6357960" y="1285920"/>
            <a:ext cx="781200" cy="771480"/>
          </a:xfrm>
          <a:prstGeom prst="rect">
            <a:avLst/>
          </a:prstGeom>
          <a:ln w="0">
            <a:noFill/>
          </a:ln>
        </p:spPr>
      </p:pic>
      <p:pic>
        <p:nvPicPr>
          <p:cNvPr id="324" name="Obrázek 6" descr="SoundBlock.png"/>
          <p:cNvPicPr/>
          <p:nvPr/>
        </p:nvPicPr>
        <p:blipFill>
          <a:blip r:embed="rId2"/>
          <a:stretch/>
        </p:blipFill>
        <p:spPr>
          <a:xfrm>
            <a:off x="3071880" y="2857680"/>
            <a:ext cx="2600280" cy="2133360"/>
          </a:xfrm>
          <a:prstGeom prst="rect">
            <a:avLst/>
          </a:prstGeom>
          <a:ln w="0">
            <a:noFill/>
          </a:ln>
        </p:spPr>
      </p:pic>
      <p:sp>
        <p:nvSpPr>
          <p:cNvPr id="325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43AE-9EB0-454B-A88A-8BF4232F28EE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500040" y="1142640"/>
            <a:ext cx="8183520" cy="5429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marL="251640" indent="-2516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Sound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onfigurační pan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1. Výběr mezi přehráním zvukového souboru nebo tón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2. Výběr mezi přehráváním nebo zastavení přehrávání zvukového souboru nebo tón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3. Nastavení hlasitosti pomocí posuvníku nebo napsáním přesné hodnoty do textového po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4. Umožní přehrávání zvukového souboru pořád dokola znovu a znovu. Funkce „Wait for completion“ bude zašedlá a nedostupná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5a. Abecední seznam zvukových souborů, které jsou uloženy na pevném disku 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složce 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Sound Files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programu LEGO MINDSTORMS NX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5b. Je zde malá klávesnice představující tři oktávy na hudební stupnici. Textové po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nad klávesnicí zobrazuje notu, kterou jste stiskli na klávesnici pomocí myši neb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napsali z klávesnice. Dále je zde textové pole pro nastavení doby přehrávání tón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6. Při zaškrtnutí bude následující blok vykonán až po přehrání celého zvukového souboru. Při nezaškrtnutí bude zvukový soubor hrát, zatímco pokračuje další blo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18972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8" name="Obrázek 7" descr="SoundBlockConfigPanel.png"/>
          <p:cNvPicPr/>
          <p:nvPr/>
        </p:nvPicPr>
        <p:blipFill>
          <a:blip r:embed="rId1"/>
          <a:stretch/>
        </p:blipFill>
        <p:spPr>
          <a:xfrm>
            <a:off x="571680" y="2071800"/>
            <a:ext cx="5876640" cy="1181160"/>
          </a:xfrm>
          <a:prstGeom prst="rect">
            <a:avLst/>
          </a:prstGeom>
          <a:ln w="0">
            <a:noFill/>
          </a:ln>
        </p:spPr>
      </p:pic>
      <p:pic>
        <p:nvPicPr>
          <p:cNvPr id="329" name="Obrázek 8" descr="SoundBlockConfigPanelb.png"/>
          <p:cNvPicPr/>
          <p:nvPr/>
        </p:nvPicPr>
        <p:blipFill>
          <a:blip r:embed="rId2"/>
          <a:stretch/>
        </p:blipFill>
        <p:spPr>
          <a:xfrm>
            <a:off x="3857760" y="1214280"/>
            <a:ext cx="2571480" cy="847800"/>
          </a:xfrm>
          <a:prstGeom prst="rect">
            <a:avLst/>
          </a:prstGeom>
          <a:ln w="0">
            <a:noFill/>
          </a:ln>
        </p:spPr>
      </p:pic>
      <p:cxnSp>
        <p:nvCxnSpPr>
          <p:cNvPr id="330" name="Přímá spojovací šipka 10"/>
          <p:cNvCxnSpPr/>
          <p:nvPr/>
        </p:nvCxnSpPr>
        <p:spPr>
          <a:xfrm flipV="1">
            <a:off x="3142800" y="1638000"/>
            <a:ext cx="71532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1" name="Zástupný symbol pro číslo snímku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9A09E-6DBF-44F6-B663-E58D6A0C71C2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Display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louží k zobrazení textu, ikon nebo vašich vytvořených obrázků na displeji NXT kostk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akto vypadá blok na programovací ploš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4" name="Obrázek 26" descr="CommnonBlocksPalette.png"/>
          <p:cNvPicPr/>
          <p:nvPr/>
        </p:nvPicPr>
        <p:blipFill>
          <a:blip r:embed="rId1"/>
          <a:srcRect l="19595" t="7115" r="75542" b="84780"/>
          <a:stretch/>
        </p:blipFill>
        <p:spPr>
          <a:xfrm>
            <a:off x="5214960" y="2071800"/>
            <a:ext cx="781200" cy="734760"/>
          </a:xfrm>
          <a:prstGeom prst="rect">
            <a:avLst/>
          </a:prstGeom>
          <a:ln w="0">
            <a:noFill/>
          </a:ln>
        </p:spPr>
      </p:pic>
      <p:pic>
        <p:nvPicPr>
          <p:cNvPr id="335" name="Obrázek 6" descr="DisplayBlock.png"/>
          <p:cNvPicPr/>
          <p:nvPr/>
        </p:nvPicPr>
        <p:blipFill>
          <a:blip r:embed="rId2"/>
          <a:stretch/>
        </p:blipFill>
        <p:spPr>
          <a:xfrm>
            <a:off x="3000240" y="3571920"/>
            <a:ext cx="3029040" cy="1600200"/>
          </a:xfrm>
          <a:prstGeom prst="rect">
            <a:avLst/>
          </a:prstGeom>
          <a:ln w="0">
            <a:noFill/>
          </a:ln>
        </p:spPr>
      </p:pic>
      <p:sp>
        <p:nvSpPr>
          <p:cNvPr id="336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5C75-F08B-4C5F-8F81-D6FB6C8D7D08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00040" y="1285920"/>
            <a:ext cx="8183520" cy="492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Display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onfigurační panel -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Imag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1. Rozbalovací menu pro výběr obrázku, textu, vlastní kresby nebo resetování displej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2. Při zatržení volby „Clear“ bude smazán obsah displeje NXT kostk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3a. Seznam obrázků, které mohou být zobrazeny na displeji. Při kliknutí na název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obrázku bude v sekci 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Position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kázán náhled. Obrázky jsou uloženy na pevné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disku ve složce 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Image Files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programu LEGO MINDSTOR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4a. Náhled na obrázek, jak bude umístěn na displeji NXT kostky. Pomocí myši může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pravit umístění obrázku. Přesné nastavení pozice umožňují textová pole „X“ a „Y“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okud napíšete souřadnice (x,y) = (0,0), tak obrázek bude umístěn na levé 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spodní hraně obrazovky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9" name="Obrázek 5" descr="DisplayBlockConfigPanelA.png"/>
          <p:cNvPicPr/>
          <p:nvPr/>
        </p:nvPicPr>
        <p:blipFill>
          <a:blip r:embed="rId1"/>
          <a:stretch/>
        </p:blipFill>
        <p:spPr>
          <a:xfrm>
            <a:off x="928800" y="2143080"/>
            <a:ext cx="5887800" cy="1209600"/>
          </a:xfrm>
          <a:prstGeom prst="rect">
            <a:avLst/>
          </a:prstGeom>
          <a:ln w="0">
            <a:noFill/>
          </a:ln>
        </p:spPr>
      </p:pic>
      <p:sp>
        <p:nvSpPr>
          <p:cNvPr id="340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62797-D7C4-49C5-A6AC-E812E8E818CE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500040" y="1285560"/>
            <a:ext cx="8183520" cy="4786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Display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onfigurační panel -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3b. Textové pole pro vložení textu, který bude zobrazen na displej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4b. Rozbalovací menu umožňuje zvolit číslo řádku, kde bude umístěn text. Přesno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startovní pozici textu lze nastavit textovými poli „X“ a „Y“. Pro souřadnice (x,y) =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(0,0) bude text začínat v levém dolním rohu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3" name="Obrázek 4" descr="DisplayBlockConfigPanelB.png"/>
          <p:cNvPicPr/>
          <p:nvPr/>
        </p:nvPicPr>
        <p:blipFill>
          <a:blip r:embed="rId1"/>
          <a:stretch/>
        </p:blipFill>
        <p:spPr>
          <a:xfrm>
            <a:off x="1000080" y="2143080"/>
            <a:ext cx="5857920" cy="1162080"/>
          </a:xfrm>
          <a:prstGeom prst="rect">
            <a:avLst/>
          </a:prstGeom>
          <a:ln w="0">
            <a:noFill/>
          </a:ln>
        </p:spPr>
      </p:pic>
      <p:sp>
        <p:nvSpPr>
          <p:cNvPr id="344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B96BF-AA24-4014-95D0-1A1E0CB8E7B9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500040" y="1285560"/>
            <a:ext cx="8183520" cy="5072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Display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onfugurační panel –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Draw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3c. Rozbalovací menu pro výběr typu tvaru, který budete chtít nakreslit. Na výběr j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tečka, čára nebo kružni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4c. Pokud si vyberete kreslení tečky, tak vstupní textová pole „X“ a „Y“ určují pozici tečky na obrazovce. Napsáním souřadnic (x,y) = (0,0) bude tečka umístěna v levém dolním roh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okud vyberete kreslení čáry, tak se objeví další dvě vstupní textová pole, kde můžete nastavit umístění koncového bodu čáry. Startovní bod čáry by měl být definován v horních „X“ a „Y“ souřadnicích a koncový bod ve spodních „X“ a „Y“ souřadnicíc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okud vyberete kreslení kružnice, tak se objeví doplňkové vstupní textové pole pro definování poloměru kružnice. Souřadnice „X“ a „Y“ definují umístěni středu kružnice na obrazov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Obrázek 6" descr="DisplayBlockConfigPanelC.png"/>
          <p:cNvPicPr/>
          <p:nvPr/>
        </p:nvPicPr>
        <p:blipFill>
          <a:blip r:embed="rId1"/>
          <a:stretch/>
        </p:blipFill>
        <p:spPr>
          <a:xfrm>
            <a:off x="928800" y="2143080"/>
            <a:ext cx="5878440" cy="1181160"/>
          </a:xfrm>
          <a:prstGeom prst="rect">
            <a:avLst/>
          </a:prstGeom>
          <a:ln w="0">
            <a:noFill/>
          </a:ln>
        </p:spPr>
      </p:pic>
      <p:sp>
        <p:nvSpPr>
          <p:cNvPr id="348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4C50D-FE57-4FC0-9D59-5BC5E235776A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Wait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onutí robota čekat, dokud není splněna podmínka – následující blok je vykonán po splnění stanovené podmínk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bsahuje 5 bloků – čekání podle toho jaký j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ýstup časovače -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ýstup dotykového senzoru -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Tou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ýstup světelného senzoru -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L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ýstup zvukového senzoru - Sou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ýstup ultrazvukového senzoru –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akto například vypadá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Wai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blok -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ouch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na programovací ploš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Obrázek 29" descr="CommnonBlocksPalette.png"/>
          <p:cNvPicPr/>
          <p:nvPr/>
        </p:nvPicPr>
        <p:blipFill>
          <a:blip r:embed="rId1"/>
          <a:srcRect l="26074" t="7199" r="69123" b="84637"/>
          <a:stretch/>
        </p:blipFill>
        <p:spPr>
          <a:xfrm>
            <a:off x="7643880" y="2357280"/>
            <a:ext cx="780840" cy="752760"/>
          </a:xfrm>
          <a:prstGeom prst="rect">
            <a:avLst/>
          </a:prstGeom>
          <a:ln w="0">
            <a:noFill/>
          </a:ln>
        </p:spPr>
      </p:pic>
      <p:pic>
        <p:nvPicPr>
          <p:cNvPr id="352" name="Obrázek 6" descr="WaitBlockTouch.png"/>
          <p:cNvPicPr/>
          <p:nvPr/>
        </p:nvPicPr>
        <p:blipFill>
          <a:blip r:embed="rId2"/>
          <a:stretch/>
        </p:blipFill>
        <p:spPr>
          <a:xfrm>
            <a:off x="2428920" y="5072040"/>
            <a:ext cx="4676760" cy="1095480"/>
          </a:xfrm>
          <a:prstGeom prst="rect">
            <a:avLst/>
          </a:prstGeom>
          <a:ln w="0">
            <a:noFill/>
          </a:ln>
        </p:spPr>
      </p:pic>
      <p:sp>
        <p:nvSpPr>
          <p:cNvPr id="353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FF53-2F88-4D7E-810B-3232C3B60119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Teoretický úvod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0040" y="14997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 programu LEGO MINDSTORMS NX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tvořen podle vzoru programu LabVIEW od společnosti National Instr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gramování založeno na principu </a:t>
            </a: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drag–and-drop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(„táhni a pusť“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užívá programovací jazyk NXT – 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G –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Graphical 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gt; grafick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ý programovací jazy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rogram není psán slovně pomocí instrukcí, ale pomocí programovacích bloků, které se skládají za sebo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1D4B-B60B-4D61-9CB7-D15EF97C1B7C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00040" y="1285560"/>
            <a:ext cx="8183520" cy="5143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Wait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 - </a:t>
            </a: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Tou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kud například vyberete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ouch Sensor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tak program bude čekat, dokud nebude dotykový senzor stlačený, uvolněný nebo rychle stlačený-uvolněný a pak až bude vykonán další blok v programu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íklad konfiguračního panelu pro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Wait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blok –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ouch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1. Výběr portu, do kterého je senzor připojen v NXT kost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2. Výběr podmínky při jejichž splnění bude program pokračovat dále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Bumped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– Rychlé stlačení a uvolnění dotykového senzor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Pressed –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Dotykový senzor je stlačen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Released –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Dotykový senzor je uvolněn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3. Textové pole zajišťující zpětnou vazbu při testování dotykového senzoru. Pokud je senzor aktivní, bude zde zobrazeno číslo 1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6" name="Obrázek 7" descr="WaitBlockTouchConfigPanel.png"/>
          <p:cNvPicPr/>
          <p:nvPr/>
        </p:nvPicPr>
        <p:blipFill>
          <a:blip r:embed="rId1"/>
          <a:stretch/>
        </p:blipFill>
        <p:spPr>
          <a:xfrm>
            <a:off x="1571760" y="3429000"/>
            <a:ext cx="5849640" cy="1181160"/>
          </a:xfrm>
          <a:prstGeom prst="rect">
            <a:avLst/>
          </a:prstGeom>
          <a:ln w="0">
            <a:noFill/>
          </a:ln>
        </p:spPr>
      </p:pic>
      <p:sp>
        <p:nvSpPr>
          <p:cNvPr id="357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F3276-F6DA-433F-9A1D-EFF428DFDADD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00040" y="1285560"/>
            <a:ext cx="8183520" cy="5143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Wait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bylé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Wait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bloky fungují obdobným způsobem a i nastavení jejich konfiguračních panelů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kud jste na programovací plochu umístili špatný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Wai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blok, tak to můžete napravit pomocí konfiguračního panelu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 sekci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Control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je roletové menu pro výběr mezi volbou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Sensor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okud zvolíte možnost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Sensor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, tak v sekci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Sensor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i pomocí roletového menu můžete vybrat požadovaný typ senzoru, který bude spouštěcím prvkem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Jak je vidět z obrázku níže, k dispozici je mnohem více senzorů než z palety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Comm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0" name="Obrázek 4" descr="WaitBlockTouchVolbaSenzoru.png"/>
          <p:cNvPicPr/>
          <p:nvPr/>
        </p:nvPicPr>
        <p:blipFill>
          <a:blip r:embed="rId1"/>
          <a:stretch/>
        </p:blipFill>
        <p:spPr>
          <a:xfrm>
            <a:off x="3286080" y="4500720"/>
            <a:ext cx="5133960" cy="1952640"/>
          </a:xfrm>
          <a:prstGeom prst="rect">
            <a:avLst/>
          </a:prstGeom>
          <a:ln w="0">
            <a:noFill/>
          </a:ln>
        </p:spPr>
      </p:pic>
      <p:sp>
        <p:nvSpPr>
          <p:cNvPr id="361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8CDD-036B-42F3-971A-67EC4BFFA56D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Loop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ytvoří programovou smyčk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o opakování určité sekvence kód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élka opakování závisí na nastavené podmí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akto například vypadá blok na programovací ploše pokud je nastaven na nekonečné opakování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akto třeba vypadá blok na programovací ploše, pokud je nastaveno řízení doby trvání smyčky pomocí dotykového senzoru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4" name="Obrázek 30" descr="CommnonBlocksPalette.png"/>
          <p:cNvPicPr/>
          <p:nvPr/>
        </p:nvPicPr>
        <p:blipFill>
          <a:blip r:embed="rId1"/>
          <a:srcRect l="32196" t="7219" r="62993" b="84322"/>
          <a:stretch/>
        </p:blipFill>
        <p:spPr>
          <a:xfrm>
            <a:off x="6143760" y="1643040"/>
            <a:ext cx="780840" cy="771480"/>
          </a:xfrm>
          <a:prstGeom prst="rect">
            <a:avLst/>
          </a:prstGeom>
          <a:ln w="0">
            <a:noFill/>
          </a:ln>
        </p:spPr>
      </p:pic>
      <p:pic>
        <p:nvPicPr>
          <p:cNvPr id="365" name="Obrázek 6" descr="LoopBlock.png"/>
          <p:cNvPicPr/>
          <p:nvPr/>
        </p:nvPicPr>
        <p:blipFill>
          <a:blip r:embed="rId2"/>
          <a:stretch/>
        </p:blipFill>
        <p:spPr>
          <a:xfrm>
            <a:off x="1357200" y="3429000"/>
            <a:ext cx="3448080" cy="1171440"/>
          </a:xfrm>
          <a:prstGeom prst="rect">
            <a:avLst/>
          </a:prstGeom>
          <a:ln w="0">
            <a:noFill/>
          </a:ln>
        </p:spPr>
      </p:pic>
      <p:pic>
        <p:nvPicPr>
          <p:cNvPr id="366" name="Obrázek 7" descr="LoopBlock2.png"/>
          <p:cNvPicPr/>
          <p:nvPr/>
        </p:nvPicPr>
        <p:blipFill>
          <a:blip r:embed="rId3"/>
          <a:stretch/>
        </p:blipFill>
        <p:spPr>
          <a:xfrm>
            <a:off x="2357280" y="5286240"/>
            <a:ext cx="3981600" cy="1152720"/>
          </a:xfrm>
          <a:prstGeom prst="rect">
            <a:avLst/>
          </a:prstGeom>
          <a:ln w="0">
            <a:noFill/>
          </a:ln>
        </p:spPr>
      </p:pic>
      <p:sp>
        <p:nvSpPr>
          <p:cNvPr id="367" name="Zástupný symbol pro číslo snímku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CAA04-E91A-40D8-8318-BDEBE8B6F1A5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500040" y="1285560"/>
            <a:ext cx="8183520" cy="5072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Loop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dmínky pro ukončení smyčky mohou být následující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Nekonečná smyčka =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nebude ukonče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ýstup senzor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Uplynulý č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očet opakování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Logický signá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onfigurační pan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Nastavení  je obdobné jako u bloku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Wait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Nastavíte podmínku a když bude splněna, tak bude smyčka ukonče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Na rozdíl od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Wait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bloku je zde možnost zaškrtnout funkci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„Counter“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, která když bude aktivní, tak se objeví zástrčka, z které budete moci přenést číslo, představující počet dokončených smyček,  do jiného  programovacího bloku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78B15-2EFC-4D34-8704-6F58C203855E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Switch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edná se o rozhodovací blo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dyž je splněna první podmínka provede se něco, když je splněna druhá podmínka provede se něco jinéh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akto například vypadá blok na programovací ploše, pokud rozhodování je ovlivněno stavem dotykového senzoru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3" name="Obrázek 31" descr="CommnonBlocksPalette.png"/>
          <p:cNvPicPr/>
          <p:nvPr/>
        </p:nvPicPr>
        <p:blipFill>
          <a:blip r:embed="rId1"/>
          <a:srcRect l="38058" t="7425" r="57222" b="84190"/>
          <a:stretch/>
        </p:blipFill>
        <p:spPr>
          <a:xfrm>
            <a:off x="5143680" y="1285920"/>
            <a:ext cx="780840" cy="780840"/>
          </a:xfrm>
          <a:prstGeom prst="rect">
            <a:avLst/>
          </a:prstGeom>
          <a:ln w="0">
            <a:noFill/>
          </a:ln>
        </p:spPr>
      </p:pic>
      <p:pic>
        <p:nvPicPr>
          <p:cNvPr id="374" name="Obrázek 7" descr="SwitchBlock.png"/>
          <p:cNvPicPr/>
          <p:nvPr/>
        </p:nvPicPr>
        <p:blipFill>
          <a:blip r:embed="rId2"/>
          <a:stretch/>
        </p:blipFill>
        <p:spPr>
          <a:xfrm>
            <a:off x="2500200" y="3714840"/>
            <a:ext cx="4057920" cy="2076480"/>
          </a:xfrm>
          <a:prstGeom prst="rect">
            <a:avLst/>
          </a:prstGeom>
          <a:ln w="0">
            <a:noFill/>
          </a:ln>
        </p:spPr>
      </p:pic>
      <p:sp>
        <p:nvSpPr>
          <p:cNvPr id="375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1E92F-E41D-4542-964A-078FA10B15F8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500040" y="1285560"/>
            <a:ext cx="8183520" cy="5143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Switch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stavení podmínek je opět podobné jako u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Wait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ebo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Loop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bloku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 konfiguračním panelu máte v sekci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Control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 dispozici rozbalovací menu s výběrem mezi dvěma možnostmi pro rozhodování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omocí hodnoty -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Value –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Může se jednat o typ číslo, text nebo logická hodno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omocí senzoru -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Sensor –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Nastavení obdobné jako u bloku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Wait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vládání konfiguračního panelu je velmi jednoduché a intuitivní a na možnosti nastavení přijdete určitě už sa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kud by jste si přece jen nevěděli rady, tak na tomto odkazu najdete podrobný pop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46D7-8928-4DEB-8B3B-51B269A9611E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plete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bsahuje kompletně všechny programovací blo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bsahuje pět sekcí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Common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blok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Action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blok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ensor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blok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low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blok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blok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Advance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blok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09A37-60B6-4F22-B8F7-48E0A0303B90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plete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Common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hodné s bloky z palety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Comm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Action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Umožňují ovládat chování výstupních zařízen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Interaktivní servomot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XT reproduk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XT disple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Bluetooth – odeslání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vítidl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4" name="Obrázek 33" descr="CompletePaction.png"/>
          <p:cNvPicPr/>
          <p:nvPr/>
        </p:nvPicPr>
        <p:blipFill>
          <a:blip r:embed="rId1"/>
          <a:srcRect l="8023" t="9758" r="64863" b="81631"/>
          <a:stretch/>
        </p:blipFill>
        <p:spPr>
          <a:xfrm>
            <a:off x="3357720" y="5000760"/>
            <a:ext cx="4010040" cy="715680"/>
          </a:xfrm>
          <a:prstGeom prst="rect">
            <a:avLst/>
          </a:prstGeom>
          <a:ln w="0">
            <a:noFill/>
          </a:ln>
        </p:spPr>
      </p:pic>
      <p:pic>
        <p:nvPicPr>
          <p:cNvPr id="385" name="Obrázek 32" descr="CompletePcommon.png"/>
          <p:cNvPicPr/>
          <p:nvPr/>
        </p:nvPicPr>
        <p:blipFill>
          <a:blip r:embed="rId2"/>
          <a:srcRect l="2814" t="13414" r="61563" b="77241"/>
          <a:stretch/>
        </p:blipFill>
        <p:spPr>
          <a:xfrm>
            <a:off x="3357720" y="2214720"/>
            <a:ext cx="4905360" cy="723600"/>
          </a:xfrm>
          <a:prstGeom prst="rect">
            <a:avLst/>
          </a:prstGeom>
          <a:ln w="0">
            <a:noFill/>
          </a:ln>
        </p:spPr>
      </p:pic>
      <p:sp>
        <p:nvSpPr>
          <p:cNvPr id="386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1547D-A221-435D-96FF-D6BFE40C6FB1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plete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Sensor blo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ombinací těchto bloků se senzory lze ovládat chování robo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Bloky odpovídají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otykovému, zvukovému, světelnému a ultrazvukovému senzoru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XT tlačítků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 o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áčení servomotorů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časovačů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Bluetooth (odeslání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olitelnému teplotnímu senzo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9" name="Obrázek 36" descr="CompletePsensor.png"/>
          <p:cNvPicPr/>
          <p:nvPr/>
        </p:nvPicPr>
        <p:blipFill>
          <a:blip r:embed="rId1"/>
          <a:srcRect l="8784" t="28107" r="51584" b="54547"/>
          <a:stretch/>
        </p:blipFill>
        <p:spPr>
          <a:xfrm>
            <a:off x="1643040" y="3929040"/>
            <a:ext cx="5514840" cy="1357200"/>
          </a:xfrm>
          <a:prstGeom prst="rect">
            <a:avLst/>
          </a:prstGeom>
          <a:ln w="0">
            <a:noFill/>
          </a:ln>
        </p:spPr>
      </p:pic>
      <p:sp>
        <p:nvSpPr>
          <p:cNvPr id="390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1867-1796-4223-9369-BF856ECB6DB7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plete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500040" y="1285560"/>
            <a:ext cx="8183520" cy="5143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Flow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Umožňují vytvářet více komplexní chován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sou zde bloky pr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ekání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pakování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Rozhodování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astavení určité činnos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louží pro nastavení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Booleovské logiky, matematiky, porovnání rozsahu, náhodných podmínek, proměnných a konst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3" name="Obrázek 34" descr="CompletePflow.png"/>
          <p:cNvPicPr/>
          <p:nvPr/>
        </p:nvPicPr>
        <p:blipFill>
          <a:blip r:embed="rId1"/>
          <a:srcRect l="6261" t="7721" r="71154" b="83742"/>
          <a:stretch/>
        </p:blipFill>
        <p:spPr>
          <a:xfrm>
            <a:off x="3929040" y="2143080"/>
            <a:ext cx="3365640" cy="714600"/>
          </a:xfrm>
          <a:prstGeom prst="rect">
            <a:avLst/>
          </a:prstGeom>
          <a:ln w="0">
            <a:noFill/>
          </a:ln>
        </p:spPr>
      </p:pic>
      <p:pic>
        <p:nvPicPr>
          <p:cNvPr id="394" name="Obrázek 35" descr="CompletePdata.png"/>
          <p:cNvPicPr/>
          <p:nvPr/>
        </p:nvPicPr>
        <p:blipFill>
          <a:blip r:embed="rId2"/>
          <a:srcRect l="8216" t="35917" r="56439" b="55511"/>
          <a:stretch/>
        </p:blipFill>
        <p:spPr>
          <a:xfrm>
            <a:off x="2500200" y="5214960"/>
            <a:ext cx="5457960" cy="743040"/>
          </a:xfrm>
          <a:prstGeom prst="rect">
            <a:avLst/>
          </a:prstGeom>
          <a:ln w="0">
            <a:noFill/>
          </a:ln>
        </p:spPr>
      </p:pic>
      <p:sp>
        <p:nvSpPr>
          <p:cNvPr id="395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E386-4C07-49D3-A564-B03524DBE345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Seznámení s programovacím prostředím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3" name="Zástupný symbol pro obsah 5" descr="PopisProstrediNXTprogramu.png"/>
          <p:cNvPicPr/>
          <p:nvPr/>
        </p:nvPicPr>
        <p:blipFill>
          <a:blip r:embed="rId1"/>
          <a:stretch/>
        </p:blipFill>
        <p:spPr>
          <a:xfrm>
            <a:off x="353880" y="1494000"/>
            <a:ext cx="8399520" cy="4510080"/>
          </a:xfrm>
          <a:prstGeom prst="rect">
            <a:avLst/>
          </a:prstGeom>
          <a:ln w="0">
            <a:noFill/>
          </a:ln>
        </p:spPr>
      </p:pic>
      <p:sp>
        <p:nvSpPr>
          <p:cNvPr id="234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83469-0FA0-4C42-9A41-57B978ECF8B0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plete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00040" y="1285560"/>
            <a:ext cx="8183520" cy="5000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Advanced blo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ásledující bloky jsou určeny k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nvertování dat na tex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idání text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vládání funkce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sleep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 NXT kost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Ukládání souborů do NXT kostk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alibraci senzorů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Resetování motorů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ahájení záznamu d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Ukončení záznamu d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ipojení pomocí Bluetoo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8" name="Obrázek 38" descr="CompletePadvanced.png"/>
          <p:cNvPicPr/>
          <p:nvPr/>
        </p:nvPicPr>
        <p:blipFill>
          <a:blip r:embed="rId1"/>
          <a:srcRect l="6233" t="27133" r="54209" b="55585"/>
          <a:stretch/>
        </p:blipFill>
        <p:spPr>
          <a:xfrm>
            <a:off x="2071800" y="5000760"/>
            <a:ext cx="5514840" cy="1353960"/>
          </a:xfrm>
          <a:prstGeom prst="rect">
            <a:avLst/>
          </a:prstGeom>
          <a:ln w="0">
            <a:noFill/>
          </a:ln>
        </p:spPr>
      </p:pic>
      <p:sp>
        <p:nvSpPr>
          <p:cNvPr id="399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08C1A-4A1D-42B0-AAD0-A8F4B53A73B5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ustom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bsahuje následující dvě sek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My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bloky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– Zde se nachází bloky, které jste sami vytvoři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Web downloads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– Zde jsou bloky, které jste stáhli z emailu, portálu nebo webových stráne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2" name="Obrázek 39" descr="CustomPblocks.png"/>
          <p:cNvPicPr/>
          <p:nvPr/>
        </p:nvPicPr>
        <p:blipFill>
          <a:blip r:embed="rId1"/>
          <a:srcRect l="12665" t="9684" r="82549" b="81842"/>
          <a:stretch/>
        </p:blipFill>
        <p:spPr>
          <a:xfrm>
            <a:off x="2428920" y="2214720"/>
            <a:ext cx="780840" cy="780840"/>
          </a:xfrm>
          <a:prstGeom prst="rect">
            <a:avLst/>
          </a:prstGeom>
          <a:ln w="0">
            <a:noFill/>
          </a:ln>
        </p:spPr>
      </p:pic>
      <p:pic>
        <p:nvPicPr>
          <p:cNvPr id="403" name="Obrázek 39" descr="CustomPblocks.png"/>
          <p:cNvPicPr/>
          <p:nvPr/>
        </p:nvPicPr>
        <p:blipFill>
          <a:blip r:embed="rId2"/>
          <a:srcRect l="19285" t="9605" r="75981" b="82064"/>
          <a:stretch/>
        </p:blipFill>
        <p:spPr>
          <a:xfrm>
            <a:off x="2428920" y="4572000"/>
            <a:ext cx="779400" cy="770040"/>
          </a:xfrm>
          <a:prstGeom prst="rect">
            <a:avLst/>
          </a:prstGeom>
          <a:ln w="0">
            <a:noFill/>
          </a:ln>
        </p:spPr>
      </p:pic>
      <p:sp>
        <p:nvSpPr>
          <p:cNvPr id="404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4923-2CA4-4B60-B64D-92AF3FABE721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Jak programovat v NXT-G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00040" y="1285560"/>
            <a:ext cx="8183520" cy="5072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Obecné zásad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Bloky z programovací palety lze přemísťovat 2 způsob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Najeďte kurzorem myši nad blok -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gt;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iskn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ě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a držte levé tlačítk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y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ši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gt;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najeďte na místo, kam chcete blok umístit -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gt; pus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ťte tlačítko myš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Klikněte na blok -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gt;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najeďte na požadované místo -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tam kliknět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vní blok se vždy umísťuje na programovací ploše do místa, kde je napsáno „Start“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cs-CZ" sz="12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cs-CZ" sz="1200" spc="-1" strike="noStrike">
                <a:solidFill>
                  <a:srgbClr val="ff0000"/>
                </a:solidFill>
                <a:latin typeface="Verdana"/>
              </a:rPr>
              <a:t>startovní bod“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oto místo je spojeno pomocí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odorovného bílého „výběžku“ s bodem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de je zobrazena ikona programu NXT 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tento bod se nazývá „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ov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í bod“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e startovního bodu vychází celkem tři bílé „výběžky“ a nazývají se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equence beams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– „sekvenční paprsky“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Obrázek 58" descr="StartingPoint.png"/>
          <p:cNvPicPr/>
          <p:nvPr/>
        </p:nvPicPr>
        <p:blipFill>
          <a:blip r:embed="rId1"/>
          <a:srcRect l="12067" t="8828" r="75694" b="76124"/>
          <a:stretch/>
        </p:blipFill>
        <p:spPr>
          <a:xfrm>
            <a:off x="6786720" y="3143160"/>
            <a:ext cx="1857240" cy="1285920"/>
          </a:xfrm>
          <a:prstGeom prst="rect">
            <a:avLst/>
          </a:prstGeom>
          <a:ln w="0">
            <a:noFill/>
          </a:ln>
        </p:spPr>
      </p:pic>
      <p:cxnSp>
        <p:nvCxnSpPr>
          <p:cNvPr id="408" name="Přímá spojovací šipka 9"/>
          <p:cNvCxnSpPr/>
          <p:nvPr/>
        </p:nvCxnSpPr>
        <p:spPr>
          <a:xfrm>
            <a:off x="4786200" y="3285720"/>
            <a:ext cx="292968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9" name="Přímá spojovací šipka 16"/>
          <p:cNvCxnSpPr/>
          <p:nvPr/>
        </p:nvCxnSpPr>
        <p:spPr>
          <a:xfrm>
            <a:off x="6286320" y="3714840"/>
            <a:ext cx="64332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0" name="Zástupný symbol pro číslo snímku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8EDDF-483C-4A75-B5DE-216ED96E1512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Jak programovat v NXT-G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500040" y="1285560"/>
            <a:ext cx="8183520" cy="5000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Sequence beam –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„sekvenční paprsek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Řídí tok vašeho program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Určuje pořadí, v jakém budou jednotlivé bloky vykoná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o NXT kostky budou staženy jen ty bloky, které jsou spojeny „sekvenčním paprskem“, který vychází ze startovního bo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va dru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ekvenčních paprsků“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lavn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edlejší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3" name="Obrázek 59" descr="ParallelSequenceBeamsExample.png"/>
          <p:cNvPicPr/>
          <p:nvPr/>
        </p:nvPicPr>
        <p:blipFill>
          <a:blip r:embed="rId1"/>
          <a:srcRect l="13390" t="6810" r="65126" b="62356"/>
          <a:stretch/>
        </p:blipFill>
        <p:spPr>
          <a:xfrm>
            <a:off x="5500800" y="3786120"/>
            <a:ext cx="2752560" cy="2216160"/>
          </a:xfrm>
          <a:prstGeom prst="rect">
            <a:avLst/>
          </a:prstGeom>
          <a:ln w="0">
            <a:noFill/>
          </a:ln>
        </p:spPr>
      </p:pic>
      <p:cxnSp>
        <p:nvCxnSpPr>
          <p:cNvPr id="414" name="Přímá spojovací šipka 6"/>
          <p:cNvCxnSpPr/>
          <p:nvPr/>
        </p:nvCxnSpPr>
        <p:spPr>
          <a:xfrm>
            <a:off x="2071800" y="5072040"/>
            <a:ext cx="400104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5" name="Přímá spojovací šipka 9"/>
          <p:cNvCxnSpPr/>
          <p:nvPr/>
        </p:nvCxnSpPr>
        <p:spPr>
          <a:xfrm flipV="1">
            <a:off x="2214720" y="4714560"/>
            <a:ext cx="3643920" cy="71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6" name="Přímá spojovací šipka 12"/>
          <p:cNvCxnSpPr/>
          <p:nvPr/>
        </p:nvCxnSpPr>
        <p:spPr>
          <a:xfrm>
            <a:off x="2214360" y="5429160"/>
            <a:ext cx="35722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7" name="Zástupný symbol pro číslo snímku 7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AA8C3-164B-4620-8876-B1089F1AF63D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Jak programovat v NXT-G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00040" y="1285560"/>
            <a:ext cx="8183520" cy="5072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ytvoření paralelní větve v programu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Chcete-li vytvořit paralelní větev a máte například takto umístěné bloky, tak najeďte kurzore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yši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 místo, které je v obrázku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značeno modř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té co se šipka myši změní v takov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vazek drátu“, klikněte levým tlačítk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yš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yní jste v režimu vytváření nového „sekvenčního paprsku“ a můžete přesunout kurzor myši na místo, které je v obrázku označeno červen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de klikněte a máte vytvořenou paralelní větev program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ozn. : Paralelní větev umožňuje programu současné vykonávání bloků.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0" name="Obrázek 9" descr="PrikladNaParalelniVetev.png"/>
          <p:cNvPicPr/>
          <p:nvPr/>
        </p:nvPicPr>
        <p:blipFill>
          <a:blip r:embed="rId1"/>
          <a:stretch/>
        </p:blipFill>
        <p:spPr>
          <a:xfrm>
            <a:off x="6215040" y="2143080"/>
            <a:ext cx="2428920" cy="1844640"/>
          </a:xfrm>
          <a:prstGeom prst="rect">
            <a:avLst/>
          </a:prstGeom>
          <a:ln w="0">
            <a:noFill/>
          </a:ln>
        </p:spPr>
      </p:pic>
      <p:cxnSp>
        <p:nvCxnSpPr>
          <p:cNvPr id="421" name="Přímá spojovací šipka 12"/>
          <p:cNvCxnSpPr/>
          <p:nvPr/>
        </p:nvCxnSpPr>
        <p:spPr>
          <a:xfrm flipH="1">
            <a:off x="7286400" y="2071440"/>
            <a:ext cx="14472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22" name="Přímá spojovací šipka 20"/>
          <p:cNvCxnSpPr/>
          <p:nvPr/>
        </p:nvCxnSpPr>
        <p:spPr>
          <a:xfrm>
            <a:off x="5286240" y="2643120"/>
            <a:ext cx="929520" cy="286560"/>
          </a:xfrm>
          <a:prstGeom prst="straightConnector1">
            <a:avLst/>
          </a:prstGeom>
          <a:ln w="42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3" name="Přímá spojovací čára 26"/>
          <p:cNvSpPr/>
          <p:nvPr/>
        </p:nvSpPr>
        <p:spPr>
          <a:xfrm flipH="1">
            <a:off x="499680" y="4929120"/>
            <a:ext cx="428760" cy="0"/>
          </a:xfrm>
          <a:prstGeom prst="line">
            <a:avLst/>
          </a:prstGeom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římá spojovací čára 28"/>
          <p:cNvSpPr/>
          <p:nvPr/>
        </p:nvSpPr>
        <p:spPr>
          <a:xfrm>
            <a:off x="500040" y="4929120"/>
            <a:ext cx="0" cy="1143000"/>
          </a:xfrm>
          <a:prstGeom prst="line">
            <a:avLst/>
          </a:prstGeom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římá spojovací čára 30"/>
          <p:cNvSpPr/>
          <p:nvPr/>
        </p:nvSpPr>
        <p:spPr>
          <a:xfrm>
            <a:off x="500040" y="6072120"/>
            <a:ext cx="8143920" cy="0"/>
          </a:xfrm>
          <a:prstGeom prst="line">
            <a:avLst/>
          </a:prstGeom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6" name="Přímá spojovací šipka 34"/>
          <p:cNvCxnSpPr/>
          <p:nvPr/>
        </p:nvCxnSpPr>
        <p:spPr>
          <a:xfrm flipV="1">
            <a:off x="8642880" y="3999960"/>
            <a:ext cx="1080" cy="2073960"/>
          </a:xfrm>
          <a:prstGeom prst="straightConnector1">
            <a:avLst/>
          </a:prstGeom>
          <a:ln w="42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7" name="Zástupný symbol pro číslo snímku 10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C7C88-EFB6-4985-9F60-B6B84FA40441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Jak programovat v NXT-G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500040" y="1285560"/>
            <a:ext cx="8183520" cy="5000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ytvoření paralelní větve v program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aralelní větev nemusíte vytvářet jen ze „startovního bodu“, ale z jakéhokoliv místa „sekvenčního paprsku“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áte například takovéto uspořádání bloků a chcete vytvořit paralelní věte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stup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jeďte kurzorem myši na míst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značené v obrázku modře a šipk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e změní v oboustrannou šipk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tiskněte s držte klávesu Shi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boustranná šipka se změní ve „svazek drátu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likněte levým tlačítkem myši a dostanete se do režimu vytváření nového „sekvenčního paprsku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esuňte se na místo, které je na obrázku označeno červeně a tam klikněte, pusťte klávesu Shift a je hoto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0" name="Obrázek 4" descr="PrikladNaParalelniVetevVprogramu.png"/>
          <p:cNvPicPr/>
          <p:nvPr/>
        </p:nvPicPr>
        <p:blipFill>
          <a:blip r:embed="rId1"/>
          <a:stretch/>
        </p:blipFill>
        <p:spPr>
          <a:xfrm>
            <a:off x="5464080" y="2714760"/>
            <a:ext cx="3165480" cy="1785960"/>
          </a:xfrm>
          <a:prstGeom prst="rect">
            <a:avLst/>
          </a:prstGeom>
          <a:ln w="0">
            <a:noFill/>
          </a:ln>
        </p:spPr>
      </p:pic>
      <p:sp>
        <p:nvSpPr>
          <p:cNvPr id="431" name="Přímá spojovací čára 6"/>
          <p:cNvSpPr/>
          <p:nvPr/>
        </p:nvSpPr>
        <p:spPr>
          <a:xfrm>
            <a:off x="3429000" y="264312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Přímá spojovací šipka 8"/>
          <p:cNvCxnSpPr/>
          <p:nvPr/>
        </p:nvCxnSpPr>
        <p:spPr>
          <a:xfrm>
            <a:off x="3429000" y="3071880"/>
            <a:ext cx="2000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3" name="Zástupný symbol pro číslo snímku 7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41DE-8B1C-4341-ACC4-8A4B48DB625F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Jak programovat v NXT-G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500040" y="1285560"/>
            <a:ext cx="8183520" cy="5072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mazání bloku z programovací ploc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kud chcete blok odstranit z programovací plochy, tak postupujte následovně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likněte na příslušný blok nebo na něj jen najeďte kurzorem myši a po asi jedné sekundě bude vybrán – obvod bloku bude zvýrazněn modrou barvo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ak již stačí stisknout klávesu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Delete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 blok bude smazán z programovací ploch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řesun bloku po programovací ploš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stup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jeďte kurzorem myši na programovací blo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tiskněte a držte levé tlačítko myš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esuňte se na místo, kam chcete blok umístit a pusťte tlačítko myš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9C73A-BC9C-4B9D-BC29-69564A356450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Jak programovat v NXT-G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500040" y="1285560"/>
            <a:ext cx="8183520" cy="5072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Data hub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Data hub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e funkcionalita, s kterou přichází většina programovacích blok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stup na rozbalení </a:t>
            </a: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Data hub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abídk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. Umístěte blok na programovací ploch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2. Přesuňte kurzor myši na blok do místa, jako je uvede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 obrázku níže, aby se objevila oboustranná šipka 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likně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3. Rozbalí se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Data hub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bídka 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stupními zástrčkami na levé stran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 výstupními zástrčkam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9" name="Obrázek 4" descr="DataHubMisto.png"/>
          <p:cNvPicPr/>
          <p:nvPr/>
        </p:nvPicPr>
        <p:blipFill>
          <a:blip r:embed="rId1"/>
          <a:stretch/>
        </p:blipFill>
        <p:spPr>
          <a:xfrm>
            <a:off x="6429240" y="4000680"/>
            <a:ext cx="1695600" cy="1095120"/>
          </a:xfrm>
          <a:prstGeom prst="rect">
            <a:avLst/>
          </a:prstGeom>
          <a:ln w="0">
            <a:noFill/>
          </a:ln>
        </p:spPr>
      </p:pic>
      <p:sp>
        <p:nvSpPr>
          <p:cNvPr id="440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D6203-962B-4B2B-9A10-4321402A26A8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Jak programovat v NXT-G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500040" y="1285560"/>
            <a:ext cx="8183520" cy="5072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Data hub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akto například vypadá </a:t>
            </a: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Data hub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abídka </a:t>
            </a: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Move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blok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3" name="Obrázek 42" descr="DataHubNabidkaProMotorBlock.png"/>
          <p:cNvPicPr/>
          <p:nvPr/>
        </p:nvPicPr>
        <p:blipFill>
          <a:blip r:embed="rId1"/>
          <a:srcRect l="21451" t="5231" r="65831" b="54940"/>
          <a:stretch/>
        </p:blipFill>
        <p:spPr>
          <a:xfrm>
            <a:off x="2786040" y="2286000"/>
            <a:ext cx="1838520" cy="3238560"/>
          </a:xfrm>
          <a:prstGeom prst="rect">
            <a:avLst/>
          </a:prstGeom>
          <a:ln w="0">
            <a:noFill/>
          </a:ln>
        </p:spPr>
      </p:pic>
      <p:sp>
        <p:nvSpPr>
          <p:cNvPr id="444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85F5-11DF-41BF-AA73-9E75B79205BF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Jak programovat v NXT-G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500040" y="1285560"/>
            <a:ext cx="8183520" cy="5072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Data hubs –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ytváření datových spojen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kud najedete kurzorem myši nad zástrčku, tak se šipka změní ve „svazek drátu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 kliknutí přejdete do režimu vytváření datového spojení a můžete tak vytvořit spojení z výstupní zástrčky jednoho bloku do vstupní zástrčky druhého blok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atovým spojením lze přenášet informaci ve formě čísla, textu nebo logické hodno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právně vytvořené spojení je znázorněno plnou čaro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esprávně vytvořené spojení je znázorněno tečkovanou šedou čaro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Barvy ča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c000"/>
                </a:solidFill>
                <a:latin typeface="Verdana"/>
              </a:rPr>
              <a:t>Žlutá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– data ve formě čísl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6600"/>
                </a:solidFill>
                <a:latin typeface="Verdana"/>
              </a:rPr>
              <a:t>Oranžová</a:t>
            </a:r>
            <a:r>
              <a:rPr b="0" lang="cs-CZ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data ve formě text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92d050"/>
                </a:solidFill>
                <a:latin typeface="Verdana"/>
              </a:rPr>
              <a:t>Zelená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– data ve formě logických hodno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4517-A702-46A4-840B-C755FA3F76CC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Seznámení s programovacím prostředím - </a:t>
            </a:r>
            <a:r>
              <a:rPr b="1" i="1" lang="cs-CZ" sz="3200" spc="-1" strike="noStrike">
                <a:solidFill>
                  <a:srgbClr val="ff8d3e"/>
                </a:solidFill>
                <a:latin typeface="Verdana"/>
              </a:rPr>
              <a:t>Controller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0040" y="1428480"/>
            <a:ext cx="8183520" cy="4500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ed použitím jakéhokoliv tlačítka je nutné mít připojenou NXT kostku k PC pomocí USB kabelu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Obrázek 5" descr="ControllerPopis.png"/>
          <p:cNvPicPr/>
          <p:nvPr/>
        </p:nvPicPr>
        <p:blipFill>
          <a:blip r:embed="rId1"/>
          <a:stretch/>
        </p:blipFill>
        <p:spPr>
          <a:xfrm>
            <a:off x="2206800" y="1639800"/>
            <a:ext cx="4584600" cy="3084480"/>
          </a:xfrm>
          <a:prstGeom prst="rect">
            <a:avLst/>
          </a:prstGeom>
          <a:ln w="0">
            <a:noFill/>
          </a:ln>
        </p:spPr>
      </p:pic>
      <p:sp>
        <p:nvSpPr>
          <p:cNvPr id="238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365F-2C3C-4500-8B62-6FD73CE87493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Jak programovat v NXT-G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500040" y="1285560"/>
            <a:ext cx="8183520" cy="5072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hodnocen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Jednoduché a intuitivní ovládání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hodné pro úplné začátečníky v programování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Verdan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evhodné pro psaní rozsáhlejších programů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mplikované definování uživatelských proměnný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Chybějící datová struktura pole – arr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 displeji NXT kostky lze zobrazovat pouze celá čísla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3A91-C896-4DA4-A946-97B9CB4DA436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43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eznam zdrojů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99680" y="1214280"/>
            <a:ext cx="83581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Monografi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[1] KELLY, James Floyd. LEGO® MINDSTORMS® NXT – G Programming Guide. [s.l.] 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Apress, 2007. 196 s. ISBN 1590598717, ISBN-13: 978-1590598719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[2] ASTOLFO, Dave; FERRARI, Mario; FERRARI, Giulio. Bulding Robots With Lego®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indstorms® NXT. Burlington (Massachusetts) : Syngress, 2007. 448 s. ISBN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1597491527, ISBN-13: 978-1597491525.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[3] GASPERI, Michael; HURBAIN, Philippe E.; HURBAIN, Isabelle L. Extreme NXT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Extending the LEGO® MINDSTORMS® NXT to the Next Level. [s.l.] : Apress, 2007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312 s. ISBN 1590598180, ISBN-13: 978-1590598184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Bakalářské prác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[4] TROJÁNEK, Pavel. Využití robota LEGO MINDSTORMS při výuce. Praha, 2009. 94 s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Bakalářská práce. České vysoké učení technické v Praze, Fakulta elektrotechnická,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Katedra řídící technik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Internetové odkazy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] The NXT STEP - LEGO® MINDSTORMS® NXT blog : Home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online]. c2006 [cit. </a:t>
            </a: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2010-05-15].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Dostupn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é z WWW: &lt;</a:t>
            </a:r>
            <a:r>
              <a:rPr b="0" lang="cs-CZ" sz="12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thenxtstep.blogspot.com/2006/05/how-robocenter-works.html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] MINDSTORMS.LEGO.com : Home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online]. c2010 [cit. 2010-05-15]. Dostupn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 WWW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2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http://mindstorms.lego.com/en-us/whatisnxt/default.asp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D50F6-0298-41B0-AB77-F42AB8E7592B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152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eznam zdrojů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99680" y="1357200"/>
            <a:ext cx="83581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Internetové odkazy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] ORTOP – Oregon Robotics Tournament and Outreach Program [online]. c2010 [cit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2010-05-15].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Essentials. Dostupné z WWW: &lt;</a:t>
            </a:r>
            <a:r>
              <a:rPr b="0" lang="cs-CZ" sz="12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www.ortop.org/NXT_Tutorial/html/essentials.html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] National Instruments Corporatio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online]. c2010 [cit. 2010-05-15]. How LEGO®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DSTORMS® NXT Works. Dostupn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 WWW:&lt;</a:t>
            </a:r>
            <a:r>
              <a:rPr b="0" lang="cs-CZ" sz="12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http://www.ni.com/academic/mindstorms/works.htm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] Robot Magazine – The Latest in Hobby, Science and Consumer Robotic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online]. C20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cit. 2010-05-15]. Programming Solutions for the LEGO MINDSTORMS NX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Dostupn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é z WWW: &lt;</a:t>
            </a:r>
            <a:r>
              <a:rPr b="0" lang="cs-CZ" sz="1200" spc="-1" strike="noStrike" u="sng">
                <a:solidFill>
                  <a:srgbClr val="6b9f25"/>
                </a:solidFill>
                <a:uFillTx/>
                <a:latin typeface="Verdana"/>
                <a:hlinkClick r:id="rId3"/>
              </a:rPr>
              <a:t>http://www.botmag.com/articles/10-31-07_NXT.shtml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10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] Team Hassenplug [online]. c2007 [cit. 2010-05-15]. NXT Programming Softwar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Dostupné z WWW: &lt;</a:t>
            </a:r>
            <a:r>
              <a:rPr b="0" lang="cs-CZ" sz="1200" spc="-1" strike="noStrike" u="sng">
                <a:solidFill>
                  <a:srgbClr val="6b9f25"/>
                </a:solidFill>
                <a:uFillTx/>
                <a:latin typeface="Verdana"/>
                <a:hlinkClick r:id="rId4"/>
              </a:rPr>
              <a:t>http://www.teamhassenplug.org/NXT/NXTSoftware.html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Ostatní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[1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] LEGO® MINDSTORMS® Education. NXT 2.0 Programming Help,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[1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] LEGO® MINDSTORMS® Education. NXT 2.0 UserGuide, 2008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1D64-D5D2-43BD-B6AF-F04064E28595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Závě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stor na případné dotaz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bude příště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tavba robota TASKBOT a programování daného pohybu robota v NXT-G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Verdana"/>
              </a:rPr>
              <a:t>DĚKUJI ZA POZORNOST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2F0B-186B-4A09-B525-0288C8441D16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Seznámení s programovacím prostředím - </a:t>
            </a:r>
            <a:r>
              <a:rPr b="1" i="1" lang="cs-CZ" sz="3200" spc="-1" strike="noStrike">
                <a:solidFill>
                  <a:srgbClr val="ff8d3e"/>
                </a:solidFill>
                <a:latin typeface="Verdana"/>
              </a:rPr>
              <a:t>Controller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00040" y="164304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Obsahuje 5 tlačítek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NXT Window 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– otevře NXT okno s obecnými informacem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o NXT kostce, o paměti a komunikac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Download 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– stáhne program do NXT kostky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Download and run 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– stáhne program do NXT kostky a spustí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Download and run selected 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– stáhne a spustí jen část programového kódu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Stop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– zastaví běžící progra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6FD31-E8CA-4CCC-AE06-C14FBAF5EA5F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Seznámení s programovacím prostředím - </a:t>
            </a:r>
            <a:r>
              <a:rPr b="1" i="1" lang="cs-CZ" sz="3200" spc="-1" strike="noStrike">
                <a:solidFill>
                  <a:srgbClr val="ff8d3e"/>
                </a:solidFill>
                <a:latin typeface="Verdana"/>
              </a:rPr>
              <a:t>Controller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0040" y="1499760"/>
            <a:ext cx="8183520" cy="4429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74000"/>
          </a:bodyPr>
          <a:p>
            <a:pPr marL="195840" indent="-19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NXT Window - Communicatio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5840" indent="-1958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dává informaci o připojených zařízení k P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5840" indent="-19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5840" indent="-19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5840" indent="-19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5840" indent="-19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5840" indent="-19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5840" indent="-19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5840" indent="-19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5840" indent="-1958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 sekci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NXT Data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jdete tyto informac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05000" indent="-147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- Jméno NXT kostk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5000" indent="-147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- Stav nabití bateri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5000" indent="-147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- Velikost volného místa pamět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5000" indent="-147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- Verze Firmwar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95840" indent="-19584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05000" indent="-147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05000" indent="-147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05000" indent="-147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05000" indent="-147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6C40-6B91-42FC-AA47-BDEF8082D7CC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Obrázek 5" descr="CommunicationsTab.png"/>
          <p:cNvPicPr/>
          <p:nvPr/>
        </p:nvPicPr>
        <p:blipFill>
          <a:blip r:embed="rId1"/>
          <a:stretch/>
        </p:blipFill>
        <p:spPr>
          <a:xfrm>
            <a:off x="2000160" y="2357280"/>
            <a:ext cx="47865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Seznámení s programovacím prostředím - </a:t>
            </a:r>
            <a:r>
              <a:rPr b="1" i="1" lang="cs-CZ" sz="3200" spc="-1" strike="noStrike">
                <a:solidFill>
                  <a:srgbClr val="ff8d3e"/>
                </a:solidFill>
                <a:latin typeface="Verdana"/>
              </a:rPr>
              <a:t>Controller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00040" y="150012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NXT Window – Mem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 této záložce najdet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Grafický přehled o využité a volné části paměti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Tlačítko pro vymazání všech nahraných programů od uživatele a vyčištění NXT paměti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Tlačítko pro nahrání programu z NXT kostky do PC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Tlačítko pro nahrání programu z PC do NXT kostky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Tlačítko pro smazání vybraného souboru z NXT kostky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Seznam souborů v aktuálně označené kategorii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Zaškrtávací políčko pro zobrazení systémových souborů NXT kostky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062F-F189-4C6E-9E9A-56A468B9686F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Obrázek 5" descr="MemoryTab.png"/>
          <p:cNvPicPr/>
          <p:nvPr/>
        </p:nvPicPr>
        <p:blipFill>
          <a:blip r:embed="rId1"/>
          <a:stretch/>
        </p:blipFill>
        <p:spPr>
          <a:xfrm>
            <a:off x="2143080" y="4429080"/>
            <a:ext cx="46576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Vytvoření nového programu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1. Způsob – z úvodního ok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2" name="Obrázek 5" descr="VytvoreniProgramu1.png"/>
          <p:cNvPicPr/>
          <p:nvPr/>
        </p:nvPicPr>
        <p:blipFill>
          <a:blip r:embed="rId1"/>
          <a:stretch/>
        </p:blipFill>
        <p:spPr>
          <a:xfrm>
            <a:off x="1920960" y="1994040"/>
            <a:ext cx="4833720" cy="3443040"/>
          </a:xfrm>
          <a:prstGeom prst="rect">
            <a:avLst/>
          </a:prstGeom>
          <a:ln w="0">
            <a:noFill/>
          </a:ln>
        </p:spPr>
      </p:pic>
      <p:sp>
        <p:nvSpPr>
          <p:cNvPr id="253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D33C-18F7-46DA-BBAC-455B9A13EFD6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20:03:18Z</dcterms:created>
  <dc:creator>Jara</dc:creator>
  <dc:description/>
  <dc:language>en-US</dc:language>
  <cp:lastModifiedBy>DELL</cp:lastModifiedBy>
  <dcterms:modified xsi:type="dcterms:W3CDTF">2010-05-27T20:52:52Z</dcterms:modified>
  <cp:revision>377</cp:revision>
  <dc:subject/>
  <dc:title>Snímek 1</dc:title>
</cp:coreProperties>
</file>