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6850-6FFC-4166-8C22-185CD5EE4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763-DF4E-4FA2-A78A-954242760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47CF-76EA-4F41-ACCC-0BBB5FE54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28-F0E7-48AE-A873-2D0599AC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47E8F-8AAD-436F-B16B-04A2DDEB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A7B-969C-4D2E-94F1-0906E82E7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4FE0A-E95D-4FA1-97F0-28CB0B057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DDE9-76B0-4621-B559-901F6FF4C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9DA6-CD9F-456C-937D-F0F6EBEA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899E-AF8B-4EA3-985E-452B4ECEC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986E-A3EE-4A32-B309-3CD18524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1431-0632-44A2-ADDA-E8017B1FE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9F417-5D36-481B-89CC-5F1CAAC4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F01FA-0E90-4C12-AA84-2DA1D0DC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1897-E49D-4A64-8B38-28556DA9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09D4-FE7B-4701-B2CB-5E7C6DABB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38B7-ABD5-4F3F-884E-560E1D03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0144F-4497-4F34-8309-87E4EE4F9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28ACC-58EB-4BC1-A26C-0DFB4DB61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DB37D-E241-4CBC-A8D0-2FF73830D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FC5E6-5D2E-484D-B18B-1BECE1EE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D565D-1228-418E-9B54-CF0B4CFB2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3D3D-E825-463C-9808-223BD5330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5B5B5-7809-4BB6-8796-8DE44909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52EEC-AD9C-4DE6-AA0F-FC4B20597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80A6E-C0E0-44EC-ACE9-988302BA1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3FB328-4724-4040-A734-77C0F5888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D0F6-8EE2-460E-8EE3-440507384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41A44-EE23-44E7-A79F-10F8B10FD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42EA8-FEF3-4BAA-AD91-964C3FAB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07477-8DBA-487F-B8EB-339117CCB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B1963-1C2C-48B0-A537-77076DF2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FB156-BDD9-476C-884A-8E8BF80B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3EDF7-7963-4BE9-B853-B922C46C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15C04-7346-48E7-8AAE-9DB3272E8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EFEE50-B590-4A2E-959F-91F62E2E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029F8-5B9A-4761-814D-736E2FE00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C0970-26B0-447F-83CE-F627A4F0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AB665-DC07-47CF-8D7E-43F0D7A6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9BF10-94F0-46B3-B4AB-8F4DCE9B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2FB19-81AF-4760-B4E0-BCB858EB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7F715-0E57-422A-A45C-5B1F37A4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4AAB2-50FA-43DB-B4E9-0ED0B3C8F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C7D02-3877-4EA4-910D-276E18A52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A878-9D8E-44BA-A0C7-6E651B6E4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5C0BD-2B9D-41B7-8C04-7825822C0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81B8DA-5B82-4390-AE09-5B95AB7E5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0415D-B376-43B6-BC2C-F7510C12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146BE-D1BA-48E9-8FA9-4C65E9B1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B18E3-DDB8-49C3-9DF5-CE32E43D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25214-F45E-4057-83BE-9543923A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88260-1A99-4AA3-857C-E99DEFACD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53011E-3BD9-44AF-A670-AA9F2130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F68B41-A433-4266-BCFC-C4F9C56D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9EB42-BFB9-42D2-B050-C7FB0BD4F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A5B8-E0C5-4083-9B2B-120BD595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C5963-ED38-4885-A7EF-C05032E2F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9BEB-D97D-43E9-8FF5-CF5C87549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7874-715F-41B4-870D-53532E8C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1071-00E3-4964-ABAC-3D9309CC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8D273-47FE-45A7-AB1D-405738617A8B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844-B6F8-451F-BFFA-98D416A410C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ADA5-6017-4906-924F-ED0942A5CC2D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72158-259E-4B50-98EF-BF342C568F3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0036-D182-42C1-97F4-FB0CA6C767EE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6D25F-5B8C-4836-9B80-63A1939ADE0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23C7-E0A0-462F-9CA5-E8CFACBB4758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E819E-2B8D-44B8-8DA9-DC22C12B738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420F-3788-4DB5-A4B6-337275405E08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F46B7-081B-4D6B-B68E-62DA0D74A08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education.rec.ri.cmu.edu/previews/nxt_products/robotics_eng_vol_1/preview/content/reference/slideshows/taskbot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NavodNaTaskbot.pdf" TargetMode="External"/><Relationship Id="rId2" Type="http://schemas.openxmlformats.org/officeDocument/2006/relationships/hyperlink" Target="http://www.eduxe.cz/download/files/taskbot.pdf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3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  <p:sp>
        <p:nvSpPr>
          <p:cNvPr id="225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718B6-B9CA-4D9A-94BC-87F4A2C36ED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tavba robota TASKBO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gramování daného pohybu robota v NXT-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Obrázek 4" descr="Taskbot.png"/>
          <p:cNvPicPr/>
          <p:nvPr/>
        </p:nvPicPr>
        <p:blipFill>
          <a:blip r:embed="rId1"/>
          <a:stretch/>
        </p:blipFill>
        <p:spPr>
          <a:xfrm>
            <a:off x="3206880" y="1779480"/>
            <a:ext cx="3138480" cy="2925720"/>
          </a:xfrm>
          <a:prstGeom prst="rect">
            <a:avLst/>
          </a:prstGeom>
          <a:ln w="0">
            <a:noFill/>
          </a:ln>
        </p:spPr>
      </p:pic>
      <p:sp>
        <p:nvSpPr>
          <p:cNvPr id="22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157FC-7DEF-4190-ADC2-0632562ECFC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ek převzat z: </a:t>
            </a:r>
            <a:r>
              <a:rPr b="0" lang="pl-PL" sz="1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education.rec.ri.cmu.edu/previews/nxt_products/robotics_eng_vol_1/preview/content/reference/slideshows/taskbot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tavba robota TASKBOT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21392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následujícím PDFku je návod na sestavení robota TASKBO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NavodNaTaskbot.pd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ument obsahuje přehled součástek potřebných pro sestavení robota a obrazový návod jak postupovat krok po kroku při sestavování robo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vod byl převzat z webové stránk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eduxe.cz/download/files/taskbot.pd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A694-AF9E-4CFF-BAC9-E1D0BC0AB54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tavba robota TASKBOT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Úkol pro vá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estavte robota TASKBO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ž budete mít hotovo, tak budeme pokračovat dál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89B2C-13D6-4118-810C-12DBA88D4F5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Obrázek 5" descr="StavbaRobota_cekani.jpg"/>
          <p:cNvPicPr/>
          <p:nvPr/>
        </p:nvPicPr>
        <p:blipFill>
          <a:blip r:embed="rId1"/>
          <a:stretch/>
        </p:blipFill>
        <p:spPr>
          <a:xfrm>
            <a:off x="3352680" y="2779560"/>
            <a:ext cx="2078280" cy="2840040"/>
          </a:xfrm>
          <a:prstGeom prst="rect">
            <a:avLst/>
          </a:prstGeom>
          <a:ln w="0">
            <a:noFill/>
          </a:ln>
        </p:spPr>
      </p:pic>
      <p:sp>
        <p:nvSpPr>
          <p:cNvPr id="238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ek převzat z: http://czechfolks.files.wordpress.com/2008/09/working_overtime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rogramování pohybu robo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213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adání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Naprogramujte, aby se robot pohyboval ve čtverc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tom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Naprogramujte, aby se robot pohyboval po spirá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0FF4-A7DF-4048-9C8A-6CE28832DA5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Šipka ohnutá nahoru 5"/>
          <p:cNvSpPr/>
          <p:nvPr/>
        </p:nvSpPr>
        <p:spPr>
          <a:xfrm flipV="1">
            <a:off x="2571840" y="3285360"/>
            <a:ext cx="357120" cy="428760"/>
          </a:xfrm>
          <a:custGeom>
            <a:avLst/>
            <a:gdLst>
              <a:gd name="textAreaLeft" fmla="*/ 0 w 357120"/>
              <a:gd name="textAreaRight" fmla="*/ 312480 w 357120"/>
              <a:gd name="textAreaTop" fmla="*/ 339480 h 428760"/>
              <a:gd name="textAreaBottom" fmla="*/ 429120 h 428760"/>
            </a:gdLst>
            <a:ahLst/>
            <a:rect l="textAreaLeft" t="textAreaTop" r="textAreaRight" b="textAreaBottom"/>
            <a:pathLst>
              <a:path w="357188" h="428625">
                <a:moveTo>
                  <a:pt x="0" y="339328"/>
                </a:moveTo>
                <a:lnTo>
                  <a:pt x="223243" y="339328"/>
                </a:lnTo>
                <a:lnTo>
                  <a:pt x="223243" y="89297"/>
                </a:lnTo>
                <a:lnTo>
                  <a:pt x="178594" y="89297"/>
                </a:lnTo>
                <a:lnTo>
                  <a:pt x="267891" y="0"/>
                </a:lnTo>
                <a:lnTo>
                  <a:pt x="357188" y="89297"/>
                </a:lnTo>
                <a:lnTo>
                  <a:pt x="312540" y="89297"/>
                </a:lnTo>
                <a:lnTo>
                  <a:pt x="312540" y="428625"/>
                </a:lnTo>
                <a:lnTo>
                  <a:pt x="0" y="428625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840" bIns="42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áce s NXT (pohyb na dotek, zvuk, základní pohyby, využití ultrazvukového čidl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1CF-C883-406E-9E21-1D9F9172971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9T22:53:21Z</dcterms:created>
  <dc:creator>Jara</dc:creator>
  <dc:description/>
  <dc:language>en-US</dc:language>
  <cp:lastModifiedBy>Jara</cp:lastModifiedBy>
  <dcterms:modified xsi:type="dcterms:W3CDTF">2010-05-27T02:50:38Z</dcterms:modified>
  <cp:revision>81</cp:revision>
  <dc:subject/>
  <dc:title>Snímek 1</dc:title>
</cp:coreProperties>
</file>