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Jaroslav Mar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B7DB-29E0-491B-B5A4-086E1D049E00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5EE2-FC50-4785-B5FE-686597649EB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Zástupný symbol pro zápatí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aroslav Mar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Zástupný symbol pro zápatí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aroslav Mare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Zástupný symbol pro číslo snímku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5CB2-33D2-4FC8-8CAB-C6EAB683E0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6516-19E0-4E88-9FC2-C85B1AC4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0A67-C9D6-4898-A7DB-FAEB67A0A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5CB4-D313-4ADB-AADF-5D8808CF1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55DE-FB5F-4ECC-AA7F-CCD7D9A9F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1AD8-CBAE-4C27-B280-7260B8B72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01F9E-F45D-4D01-9FC9-533C8E1B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44D74-7E67-48FB-98B5-0F4AE9C06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244F0-9AB3-4C16-90AC-8121BEDBB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FAB38-136C-492C-A818-C9A9059F7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9AB7-833F-465B-9B4C-6632D53EC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F7B5-5BA8-4090-80A6-BA0D6690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521B-D1F8-4D72-9EF7-36931AC1C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25F4-BC47-4110-A088-E329DD00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E67B1-38A3-47B8-9615-26C1046B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2DBD-2158-42C4-AD36-12F7F537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BF36B-D88B-4818-A524-782CB3D77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8CB0-070D-40EC-BD04-522E83E98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D424E-D100-4A6C-ACEC-C7695F4AA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0443D-A433-4ABF-996E-F6376D62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C336-B0E6-4290-8CFD-F85E157C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EC15-77B2-4256-A67A-72B05F3D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CC61-E87F-4CF6-802C-F24703FA9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9D18-7789-4195-973B-8B24BC72F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5D7E1-616F-4690-B780-2428A6884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0BECBD-76F6-434D-9BD3-64A0FB6F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4E1FD-4AB5-4B33-93CD-AE520C52E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3A82E-3C46-4E25-8220-BF4E841F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EC3F2-C7EE-4E1B-AE8D-6CE02EBE9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29747-CA93-49A7-A286-D8BD05C3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E42A3-33E0-4290-B671-5C9E8E75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35DC5-7C25-4CB9-B559-C24C4A28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6DAF9-ACE1-48EC-9023-4B9B7A91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38310-8E0E-411B-934D-8450FA8E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C68E-E656-4415-B0F9-57EA6876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11DEA-740D-4A96-8D2B-1BA1FAACB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2C8C-CA9F-41C7-B0E3-CA869F3B3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2B9D6-9AFD-49F9-A67D-0CC82EC00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C2138-662F-45FE-AC2B-9594D94B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11289-E964-4B52-A7E4-BC4765C0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83DCE-AC05-4B66-829F-59285205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2126A-5B00-4F36-BF73-DB61D617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5BA55E-4EF5-4931-8CD8-B782C9205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623D-71A0-4DCB-94BE-00FFF4143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16425-062D-4DE6-8A63-87711E43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CA01-6ED8-4901-9541-ADD29C326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A9C723-F522-48EF-B911-239958EDC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2D214-8B65-4B54-AA7D-792DEEB5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48E96-24CB-4E14-8197-9DB50224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B4051-9F53-4831-9EEC-94DF423D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7211D5-5C76-4E7C-B414-D2D8544D1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6E57B-7AAC-4925-9CB5-B8DA955D5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C5E1E-3EC7-404B-A96E-68BD07F2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126770-37F9-480A-BF9F-BEC93B3BD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FABC2-83CD-40A3-9380-B34A251F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277E4-D279-49A9-B985-88030505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3ED4-22AB-4A77-87DA-56586336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1F5BD-7869-4228-9999-39AABB8DA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BECF-A3BE-4A19-BE59-AAB277C5C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C3F4-B81B-4127-B556-D9B96EE3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1035-0036-4D99-8E23-95056A12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2C93C-A332-4B75-9EBF-8B7A55CC9DC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BDE9D-3544-4919-932B-908C00B8B34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E225F-A839-4666-BB3E-A94E635F246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F382-FDE7-4287-A417-93CFE644FE6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127A-662B-4BE5-8EFE-D4E43842E11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hyperlink" Target="http://blog.electricbricks.com/en/2010/03/lego-mindstorms-nxt-sigue-lineas-proporcional/" TargetMode="External"/><Relationship Id="rId5" Type="http://schemas.openxmlformats.org/officeDocument/2006/relationships/hyperlink" Target="http://www.roboclub.arizona.edu/?p=5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CDA5-AA16-4566-8736-0E944DEF7A2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31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32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00040" y="121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áce s NXT (pohyb na dotek, zvuk, základní pohyby, využití ultrazvukového čidl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Řešení úlohy - sledování čáry - úvo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6AE1-555B-46BA-9017-F8AA37AF5A9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Obrázek 6" descr="LineFollowerUvodniObrazek.jpg"/>
          <p:cNvPicPr/>
          <p:nvPr/>
        </p:nvPicPr>
        <p:blipFill>
          <a:blip r:embed="rId1"/>
          <a:stretch/>
        </p:blipFill>
        <p:spPr>
          <a:xfrm>
            <a:off x="857160" y="3786120"/>
            <a:ext cx="2357640" cy="1886040"/>
          </a:xfrm>
          <a:prstGeom prst="rect">
            <a:avLst/>
          </a:prstGeom>
          <a:ln w="0">
            <a:noFill/>
          </a:ln>
        </p:spPr>
      </p:pic>
      <p:pic>
        <p:nvPicPr>
          <p:cNvPr id="237" name="Obrázek 7" descr="LineFollowerUvodniObrazek2.jpg"/>
          <p:cNvPicPr/>
          <p:nvPr/>
        </p:nvPicPr>
        <p:blipFill>
          <a:blip r:embed="rId2"/>
          <a:stretch/>
        </p:blipFill>
        <p:spPr>
          <a:xfrm>
            <a:off x="3500280" y="3786120"/>
            <a:ext cx="2476800" cy="1857600"/>
          </a:xfrm>
          <a:prstGeom prst="rect">
            <a:avLst/>
          </a:prstGeom>
          <a:ln w="0">
            <a:noFill/>
          </a:ln>
        </p:spPr>
      </p:pic>
      <p:pic>
        <p:nvPicPr>
          <p:cNvPr id="238" name="Obrázek 8" descr="LineFollowerUvodniObrazek3.jpg"/>
          <p:cNvPicPr/>
          <p:nvPr/>
        </p:nvPicPr>
        <p:blipFill>
          <a:blip r:embed="rId3"/>
          <a:stretch/>
        </p:blipFill>
        <p:spPr>
          <a:xfrm>
            <a:off x="6286680" y="3786120"/>
            <a:ext cx="2143080" cy="1889280"/>
          </a:xfrm>
          <a:prstGeom prst="rect">
            <a:avLst/>
          </a:prstGeom>
          <a:ln w="0">
            <a:noFill/>
          </a:ln>
        </p:spPr>
      </p:pic>
      <p:sp>
        <p:nvSpPr>
          <p:cNvPr id="239" name="Zástupný symbol pro zápatí 7"/>
          <p:cNvSpPr/>
          <p:nvPr/>
        </p:nvSpPr>
        <p:spPr>
          <a:xfrm>
            <a:off x="357120" y="5929200"/>
            <a:ext cx="7991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Obrázky převzaty z: </a:t>
            </a:r>
            <a:r>
              <a:rPr b="0" lang="pl-PL" sz="10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http://blog.electricbricks.com/en/2010/03/lego-mindstorms-nxt-sigue-lineas-proporcional/</a:t>
            </a: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, </a:t>
            </a:r>
            <a:r>
              <a:rPr b="0" lang="pl-PL" sz="1000" spc="-1" strike="noStrike" u="sng">
                <a:solidFill>
                  <a:srgbClr val="6b9f25"/>
                </a:solidFill>
                <a:uFillTx/>
                <a:latin typeface="Verdana"/>
                <a:hlinkClick r:id="rId5"/>
              </a:rPr>
              <a:t>http://www.roboclub.arizona.edu/?p=5</a:t>
            </a: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, http://letsmakerobots.com/taxonomy/term/8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ráce s NX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214280"/>
            <a:ext cx="8183520" cy="5072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pevněte na vašeho robota oba dotykové senzory tak, aby tlačítka směřovalo vzhůr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loha 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stisku touch detektoru 1 zrychli o 2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i stisku touch detektoru 2 zpomal o 2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obraz aktuální hodnotu displej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ajistit omezení na max 100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%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(eventuelně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5AD52-5456-4753-B39A-455CD2B5AEB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ráce s NX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214280"/>
            <a:ext cx="8183520" cy="50724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pevněte na vašeho robota ultrazvukový senz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Úloha 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obot se pohybuje vpř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narazí na překážku, tak se zastaví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točí se o 45° doleva a pokračuje dál v pohybu do další překáž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displeji se zobrazuje aktuální vzdálenost k překáž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6301-A283-430A-9957-F929DA2DDC2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úlohy – sledování čá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214280"/>
            <a:ext cx="818352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rinci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Úkolem je projet zadanou dráhu, která je nejčastěji představována černou čarou dané tloušťky na bílém podkladu nebo obráceně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 řešení této úlohy je klíčový světelný senz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obot svítí červenou LED diodou, která je umístěna na světelném senzoru, na dráhu a fotodiodou, která je na světelném senzoru pod LED diodou, snímá intenzitu světla odráženého od dráh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dle naměřené intenzity jsou ovládány motory pro směr pohyb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45441-BFFC-427C-A2D2-54111DC4BB7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úlohy – sledování čá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214280"/>
            <a:ext cx="818352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ipevněte na vašeho robota světelný senz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adá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Řešte zadanou úlohu v NXT-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693D-9767-4DF3-810B-3FF1143884C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ezkoušení ze znalostí programu NXT-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račování v řešení úlohy sledování čáry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ED4DD-C695-4ED0-A70F-8FB973739CD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1T21:06:44Z</dcterms:created>
  <dc:creator>Jara</dc:creator>
  <dc:description/>
  <dc:language>en-US</dc:language>
  <cp:lastModifiedBy>Jara</cp:lastModifiedBy>
  <dcterms:modified xsi:type="dcterms:W3CDTF">2010-05-27T01:19:11Z</dcterms:modified>
  <cp:revision>40</cp:revision>
  <dc:subject/>
  <dc:title>Robotický seminář</dc:title>
</cp:coreProperties>
</file>