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74D3-47E5-4EBF-8F62-D6E91E6E3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9769-5CCE-4283-A34E-7BC501291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B0583-DCC4-4BA8-94F6-7E3B6471C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0BC0-EF37-4E92-8D08-20AD9BE96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DD01-4576-41D9-8EEB-C20B9933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4BA2C-8A23-4E93-8EDC-D6093575C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FCA7-CEF4-4989-AE64-5BAA697B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3D725-E455-427C-9C7F-06D212639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DF0A-E99C-4614-8D94-A514B39E5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E54C-3D38-40D3-B10F-2F551901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E424-6B20-4829-8D0F-4F673F14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B6D0F-636A-4F90-AC6F-208D0F262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1003-E210-4957-8B15-CB7252B2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F0481-3AF0-4DCF-AF57-7967F5AF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CB4FC-98DD-4FBD-AE84-D9391C33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8FBBB-A0D0-45B0-8719-E54091942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AF77B-2214-4121-B281-1F7BA2AD3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7B0F0-28FF-4B3B-AF47-16547A5C8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883C8-C589-4D0E-BD03-66E0FD19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9A01C-69A3-4FF4-A62E-6006C304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95F12-2388-46C3-8933-61FF8C07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90045-497E-478B-AE92-040874221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631E-FB24-4FFF-B1B0-C0811060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FD400-8050-43C9-82D2-1D66241F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46A6ED-03F5-47DC-A6AF-72CFBD1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2E97E-97A4-45B8-B212-F4F47FCBF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6A323-84A8-4D59-A703-EF694169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16D72-1A93-49BA-A2E3-55C661C37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6BE532-CB6F-4196-90F6-A69579076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2BF7-01FC-406E-BC11-F55F7004A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8761C-6904-4FB0-A503-6B51001A4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316E9-0978-4D86-838F-FE4E7C33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1EC14-1C95-4E74-BE7D-80AA4BA2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0D1A-781F-46CA-BBC5-0BAA00150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E5C0-A72B-4A7C-B128-F0F8AFC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A24FC-4DB1-481F-8C13-D3336312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428F9-49BE-463B-9B17-258B372C2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781D1-FD0A-4004-B778-8959E7730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1AEA1-3C82-4547-9B7A-534BA11A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85213E-785D-4B0A-9EBE-D4A57647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4AAEC-8A4C-418B-A11E-89344D9E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21CDD-16D6-4C1D-865B-93ECD745F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A36C8-2ED7-419C-A00B-A0606DE6F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90E096-61F3-4300-9239-C3D5E26C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1DBC-AEBC-4C5C-9A5C-BBC54CB70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F4FB0-0421-40B7-BEEC-02D989A8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A1080-E03B-4DEF-9A01-1DF3A62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F2BCD-A44B-4F8A-A7AA-9E92A0B44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E39C9-4C55-475C-AD5E-463D96C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86ED8-4A86-48E6-93FD-364F59325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933779-90A2-4D13-BE0F-F0CEEF9A7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19A9-B15E-40FF-A591-1D01D738C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F08055-E57B-4156-994A-905B7C4B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AC52-0A1D-4858-BA8E-379BB942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3E265-40AB-407F-A847-8D712EFD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147F-032D-40DF-9AB1-DC40FC36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54860-C9F5-45E5-AB25-3756E0467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0C7A-8035-4A59-B95D-C551C8BD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A253-1BCD-4AB7-8A96-F1B631580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B13C-0C8A-4D3E-9DB2-7297A94DB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4F53-73CD-4ADA-B83F-E74428434B4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9F6BA-3A6D-4972-80C0-7B3780F941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884AF-9816-4635-84BF-1C0E3807A6D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952C3-F6E6-4DAC-8E7F-CF5F589EF89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B390-F116-4E9D-9013-D2FCC03AC70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9D7B2-8A00-446B-8F24-32107156095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řezkoušení ze znalostí programu NXT-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řešení úlohy sledování čáry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EDF0-0D2C-48AD-856F-5FE3B14B8E3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Obrázek 9" descr="HlavaTest.jpg"/>
          <p:cNvPicPr/>
          <p:nvPr/>
        </p:nvPicPr>
        <p:blipFill>
          <a:blip r:embed="rId1"/>
          <a:stretch/>
        </p:blipFill>
        <p:spPr>
          <a:xfrm>
            <a:off x="3571920" y="2000160"/>
            <a:ext cx="1571760" cy="1808280"/>
          </a:xfrm>
          <a:prstGeom prst="rect">
            <a:avLst/>
          </a:prstGeom>
          <a:ln w="0">
            <a:noFill/>
          </a:ln>
        </p:spPr>
      </p:pic>
      <p:sp>
        <p:nvSpPr>
          <p:cNvPr id="230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ek převzat z: http://affiliate.bloger.cz/stitek_?s=IQ+Te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řezkoušení ze znalostí programu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99680" y="150012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arianta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Na displeji se zobrazí bijící srdíčk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Robot řekne „Hell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Následně dvakrát opaku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. Se zpožděním 3s se robot pohybuje vpřed 3s se silou 5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. Na stis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ou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ktoru se v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átí do původní polo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. Na stisk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ouch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etektoru se otočí o 45° doleva a jed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3s vpře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. Otočí se o 45° doleva a jede 3s vza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. Řekne „Good Bye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943B-7312-418C-A59E-1C177BE80AA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řezkoušení ze znalostí programu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99680" y="150012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ariant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Na displeji se zobrazí vaše jmé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Robot řekne „Mindstorms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Následně 4x opaku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. Se zpožděním 5s se pohybuje vpřed 5s se silou 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. Na stis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ou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ktoru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90° dopr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. Otočí se 2 x po sobě o 360° dole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5. Řekne „Good Job“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0D7D-DAE8-4354-871E-05F093E481A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řezkoušení ze znalostí programu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99680" y="150012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arianta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Na displeji se zobrazí Olympijské kruh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Robot řekne „Hell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Následně 3x opakuj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. Se zpožděním 5s se pohybuje vpřed 5s se silou 2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. Na stis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ou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ktoru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60° dole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. Otočí se 2x po sobě o 360° dopr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5. Řekne „Have A Nice Da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5E7C-83F4-4BEC-A67A-6CE5552C3FD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řezkoušení ze znalostí programu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500120"/>
            <a:ext cx="842976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arianta 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Nakreslit na displeji jednoduchý domeč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Robot řekne „Morning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Následně 3x opaku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. Se zpožděním 5s se pohybuje vpřed  5s se silou 50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. Na stisk 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Touch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tektoru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60° dopr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. Otočí se 1x o 360° doprava a následně 2x po sobě o 360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le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5. Řekne „Good Job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88B3-3F07-4B9C-8402-DD57E41A6C4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řezkoušení ze znalostí programu NXT-G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99680" y="1500120"/>
            <a:ext cx="828684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arianta 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o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kne „Mindstorms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Otočí se o 45° dopr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Následně 2x opakuj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. Robot se pohybuje vpřed 5s se silou 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. Robot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45° dole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. Robot se pohybuje vpřed 5s se silou 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. Robot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4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 dole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. Robot se pohybuje vp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řed 5s se silou 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.  Robot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45° dole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g. Robot se pohybuje vpřed 5s se silou 75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. Robot se ot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í o 45° dolev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4. Otočí se 2x po sobě o 360° doprav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5. Řekne „Have A Nice Day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586-6975-41F4-B154-F642A5449AE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řešení úlohy sledování čáry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račujte v řešení úlohy sledování čá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67E81-C63D-42CD-8A37-07FF540DE5D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končení řešení úlohy sledování čáry pomocí NXT-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ezentace a vysvětlení programového prostředí NX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243C1-DB25-4C03-A1A7-1DD7D938049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22:53:15Z</dcterms:created>
  <dc:creator>Jara</dc:creator>
  <dc:description/>
  <dc:language>en-US</dc:language>
  <cp:lastModifiedBy>Jara</cp:lastModifiedBy>
  <dcterms:modified xsi:type="dcterms:W3CDTF">2010-05-27T01:29:37Z</dcterms:modified>
  <cp:revision>38</cp:revision>
  <dc:subject/>
  <dc:title>Snímek 1</dc:title>
</cp:coreProperties>
</file>