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5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7303-65D0-44B2-AE6C-25BF7C77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B6F1-6EE4-40BA-90BB-358C1AA1D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17F8-1132-480F-8FE1-877DF97B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C880-46A4-4F4C-8C82-2E50DDCF8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9DAC-785E-4CF0-8AEE-D69BD2BD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F6A0-3EEE-4D15-8105-7DB2939A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9EEA2-D837-4D44-B360-6CABE8B8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0C4D7-C016-44EE-99CE-353FB5BDA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CCF7C-5DAC-4D51-81A1-1715E8DD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6CAEF-A28A-4EBD-B052-C349B7B8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4DEB-7854-4132-815C-F90105B8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6FFE-3E53-44F4-B6F1-6E5EC8B0B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A2791-E605-4420-9AE7-A4DDD8D9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B2FD6-6A38-443C-88F1-72BBA342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BB89A-16B5-4B7D-90A9-3F1E285F1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26466-63A2-40FB-97FE-A762CAA11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00CCD-C4F8-4395-B671-16C2CA19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95D56-62CC-440B-B206-D356FA691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53375-62FD-4D91-AF33-6E64B894C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C6EF5-D9FC-460E-91E4-99E483C28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CC811-109B-4AE2-80A5-169E60CE7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6714F-522A-47B9-BEC9-9119965E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330-5C65-4638-9257-F37C4A80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4884C-C1C4-4A45-8217-149B5969C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5C190-F3A9-424E-B9BD-E0ED7ABF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DEE77-24CD-4CC1-B984-083B0F05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2DE168-F89F-4998-A664-7D9209C6E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BE5BA-F827-4558-BE65-0FDB7E647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0E12F-F939-4A5D-AFD8-F880EA1AF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20A9C-039F-4749-9339-8BDA653DF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70705-2C34-4F40-A700-0E27D2C6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A33D0-AC46-42FF-AD81-4287B02B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33532-B8DB-48C0-95E8-07908EB6C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C7D5-F4F3-40E8-8872-13867F55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07216-B23B-4B33-BD28-FDC1493D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200A7-D25C-4841-9123-8A2A9F81F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2BF95-7F6C-40D2-A5DE-EBDDFCEB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0C9BC9-9CF1-4A96-B036-1CAB916E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E00A9-EED8-4B97-A4B4-DDE480B2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68FCD-2A9F-450D-BD9C-F4FE9247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37C21A-B7DF-4B36-B68C-CE7E9137F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7AE982-3FDD-427B-9D98-9E18F36AE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D866F-2ECE-4DAE-9A96-A3C394953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F3B69-E8A1-4419-89D9-D0F44A02B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8725-EBB4-447F-A63C-A66B3C5FC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C8D3F-73BB-4686-9316-445AAC98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114EA-ACF3-4EAD-AC86-1414B95C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6BC6A-80CD-485F-B11E-0D909A66A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0A5390-80D0-45CC-AE19-48945658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5FC53F-36A6-43B5-A7F9-11FD5ECEB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EA4F1-BA1B-4C32-9B78-10B6E851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6C9BD-CDB0-4025-A76A-606FD207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8EAF8-78EC-41C1-8063-C6721897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04745-01C7-439C-8714-B9DF2757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836CA-EA70-4BBC-9BB8-80E97E733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D7D5-7F13-4D8B-BDCB-9A047A5E9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767DDF-99E2-4F1E-A302-71B6CD23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F77-508D-4ED2-8EAA-6FC20C8AF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0740-8756-47CA-9B8B-A76E00214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BB13-FB4D-43EF-BBAD-3B79852D3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élní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élník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Zaoblený obdélník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CADD6-CA3E-46B2-92F8-C6B703CE423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élník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5AE0E-4EB9-4317-98F9-DA349455AD4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élník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59C78-2A22-4B7C-B4AE-0512D20FAC7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70BF-3941-4852-BA80-C60C7A427D58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s jedním zakulaceným rohem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FC31-E4F5-4F7F-9F99-C318458C9EDE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blog.electricbricks.com/en/2010/03/lego-mindstorms-nxt-sigue-lineas-proporcional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bricxcc.sourceforge.net/nbc/nxcdoc/NXC_Guide.pdf" TargetMode="External"/><Relationship Id="rId2" Type="http://schemas.openxmlformats.org/officeDocument/2006/relationships/hyperlink" Target="http://bricxcc.sourceforge.net/nbc/nxcdoc/NXC_tutorial.pdf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s://ai.ia.agh.edu.pl/wiki/mindstorms:history" TargetMode="External"/><Relationship Id="rId2" Type="http://schemas.openxmlformats.org/officeDocument/2006/relationships/hyperlink" Target="http://digiredo.wordpress.com/2010/02/13/enterprise-2-0-not-if-but-when-do-you-start/" TargetMode="External"/><Relationship Id="rId3" Type="http://schemas.openxmlformats.org/officeDocument/2006/relationships/hyperlink" Target="http://gizmodo.com/168532/lego-mindstorms-nxt-software-going-open-source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Robotický seminář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Seminář čís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vyučující: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Ing. Martin Hlinovský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5F33-A551-4413-B4E0-C0D2A708F390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3" descr="UvodniSLide_robot.jpg"/>
          <p:cNvPicPr/>
          <p:nvPr/>
        </p:nvPicPr>
        <p:blipFill>
          <a:blip r:embed="rId1"/>
          <a:stretch/>
        </p:blipFill>
        <p:spPr>
          <a:xfrm>
            <a:off x="500040" y="3857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24" name="Obrázek 4" descr="UvodniObrazek_stir.jpg"/>
          <p:cNvPicPr/>
          <p:nvPr/>
        </p:nvPicPr>
        <p:blipFill>
          <a:blip r:embed="rId2"/>
          <a:stretch/>
        </p:blipFill>
        <p:spPr>
          <a:xfrm>
            <a:off x="3071880" y="3857760"/>
            <a:ext cx="2714400" cy="2579400"/>
          </a:xfrm>
          <a:prstGeom prst="rect">
            <a:avLst/>
          </a:prstGeom>
          <a:ln w="0">
            <a:noFill/>
          </a:ln>
        </p:spPr>
      </p:pic>
      <p:pic>
        <p:nvPicPr>
          <p:cNvPr id="225" name="Obrázek 5" descr="UvodniObrazek_ruka.jpg"/>
          <p:cNvPicPr/>
          <p:nvPr/>
        </p:nvPicPr>
        <p:blipFill>
          <a:blip r:embed="rId3"/>
          <a:stretch/>
        </p:blipFill>
        <p:spPr>
          <a:xfrm>
            <a:off x="5786280" y="3857760"/>
            <a:ext cx="30085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0040" y="1571400"/>
            <a:ext cx="818352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Lexikální pravid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Komentáře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Druhý typ komentářů podporovaný v NXC začíná „ // “ a pokračuje do konce aktuálního řádku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ekladač komentáře ignoruj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louží programátorovi k vytváření poznámek ve zdrojovém kódu, usnadňují orientaci v kódu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FC92F-28F4-424F-AF30-3785C1237A7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Obrázek 4" descr="Komentare2.png"/>
          <p:cNvPicPr/>
          <p:nvPr/>
        </p:nvPicPr>
        <p:blipFill>
          <a:blip r:embed="rId1"/>
          <a:stretch/>
        </p:blipFill>
        <p:spPr>
          <a:xfrm>
            <a:off x="3279600" y="3206880"/>
            <a:ext cx="2408400" cy="44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00040" y="1571400"/>
            <a:ext cx="818352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Lexikální pravid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rázdné mí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ázdné místo se skládá ze všech mezer, tabulátorů a nových řádk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louží k oddělení znaků a udělání programu více přehledný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kud jsou znaky rozlišitelné, tak přidání nebo odebráni mezery nemá žádný vliv na význam programu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ásledující kus kódu má stejný význam: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F48E-7250-4CF4-B9B4-B72F9A00C07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Obrázek 6" descr="Mezery.png"/>
          <p:cNvPicPr/>
          <p:nvPr/>
        </p:nvPicPr>
        <p:blipFill>
          <a:blip r:embed="rId1"/>
          <a:stretch/>
        </p:blipFill>
        <p:spPr>
          <a:xfrm>
            <a:off x="3638520" y="4638600"/>
            <a:ext cx="1354320" cy="8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00040" y="1571400"/>
            <a:ext cx="818352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Lexikální pravid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rázdné mís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ěkteré operátory se skládají z více znaků a nemůže se mezi nimi objevit mezer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 příkladu níže na prvním řádku je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o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žit operátor „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&gt;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ro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bitový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posun vpravo;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a druh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ém řádku je ale vložena mezera za znak „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“.  Znaky jsou pak interpretovány jako dva samostatné a překladač nahlásí chybu.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5688-92DC-4F2F-915F-B2A9A90D2D9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Obrázek 7" descr="MezeryOperatorPosunu.png"/>
          <p:cNvPicPr/>
          <p:nvPr/>
        </p:nvPicPr>
        <p:blipFill>
          <a:blip r:embed="rId1"/>
          <a:stretch/>
        </p:blipFill>
        <p:spPr>
          <a:xfrm>
            <a:off x="1706400" y="4352760"/>
            <a:ext cx="6370920" cy="10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99680" y="1571400"/>
            <a:ext cx="828684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Lexikální pravid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Číselné konstan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ohou být v decimální - desítkové nebo hexadecimální - šestnáctkové formě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esetinné konstanty se skládají z desetinné čárky a z jedné nebo více desetinných míst za desetinnou čárko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íselné konstanty v hexadecimální formě začínají „0x“  nebo „0X“ následované jednou nebo více šestnáctkovými číslicemi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37B1-E51B-49D3-A18E-5161DB7EDD14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Obrázek 6" descr="CiselneKonstanty.png"/>
          <p:cNvPicPr/>
          <p:nvPr/>
        </p:nvPicPr>
        <p:blipFill>
          <a:blip r:embed="rId1"/>
          <a:stretch/>
        </p:blipFill>
        <p:spPr>
          <a:xfrm>
            <a:off x="2352600" y="4492800"/>
            <a:ext cx="429732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99680" y="1571400"/>
            <a:ext cx="828684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Lexikální pravid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Textové řetězce a charakteristické konstan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nstanty ve formě textových řetězců jsou v NXC ohraničeny dvojitými uvozovkam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extové řetězce jsou na pozadí automaticky konvertovány do pole bytů, kde poslední byte v poli je nulový. Poslední bytová nula se obvykle označuje „null terminator“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příklad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harakteristické konstanty jsou v NXC ohraničeny jednoduchými uvozovkami a mohou obsahovat jeden znak ASCII. Hodnota charakteristické konstanty je číselná ASCII hodnota znaku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příklad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2199-7BA6-4923-AEDE-05A07BCE3B8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Obrázek 7" descr="StringConstants.png"/>
          <p:cNvPicPr/>
          <p:nvPr/>
        </p:nvPicPr>
        <p:blipFill>
          <a:blip r:embed="rId1"/>
          <a:stretch/>
        </p:blipFill>
        <p:spPr>
          <a:xfrm>
            <a:off x="2286000" y="4000680"/>
            <a:ext cx="5576760" cy="642600"/>
          </a:xfrm>
          <a:prstGeom prst="rect">
            <a:avLst/>
          </a:prstGeom>
          <a:ln w="0">
            <a:noFill/>
          </a:ln>
        </p:spPr>
      </p:pic>
      <p:pic>
        <p:nvPicPr>
          <p:cNvPr id="275" name="Obrázek 8" descr="CharConstants.png"/>
          <p:cNvPicPr/>
          <p:nvPr/>
        </p:nvPicPr>
        <p:blipFill>
          <a:blip r:embed="rId2"/>
          <a:stretch/>
        </p:blipFill>
        <p:spPr>
          <a:xfrm>
            <a:off x="2428920" y="5500800"/>
            <a:ext cx="254628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99680" y="1571400"/>
            <a:ext cx="828684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Lexikální pravid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Identifikátory a klíčová slo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Identifikátor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se používají jako jména pro proměnné, úkoly, funkce a podprogramy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vní znak identifikátoru musí být velké nebo malé písmeno nebo podtržítko „ _ “. Zbývající znaky mohou být písmena, čísla a podtržítka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Klíčová slova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sou vyhrazené skupiny znaků v jazyku NXC, které nemohou být použity jako identifikátory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pletní seznam klíčových slov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sm, bool, break, byte, case, char, const, continue, default, do, else, enum, false, float, for, goto, if, inline,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t, long, mutex, priority, repeat, return, safecall, short, start, stop,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tring, struct, sub, switch, task, true,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ypedef, unsigned, until, void, while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7C7B5-260C-4EA3-BDB3-EF5A35C30CC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99680" y="1571400"/>
            <a:ext cx="828684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ruktura progra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XC program se skl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ádá z kódových bloků a proměnných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Existují dva odlišné typy kódových bloků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Úloh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Funk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aždý typ kódového bloku má jedinečné vlastnosti, ale struktura je společná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aximální počet kódových bloků a funkcí může být 256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CA93-77D9-4CDA-BF85-4E6248D5415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99680" y="1571400"/>
            <a:ext cx="828684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ruktura progra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Úkoly - Ta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Úkol v jazyku NXC odpovídá jednomu vlákn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Úkoly jsou definovány pomocí klíčového slova „task“ a syntaxi můžete vidět na kódu níž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ázev úkolu může být jakýkoliv povolený identifiká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ogram musí mít vždy alespoň jeden úkol s názvem „main“, který se spustí při každém spuštění program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ělo úkolu se skládá ze seznamu příkazů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5FC66-1854-4CFB-B242-810A1FEE945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Obrázek 4" descr="Task.png"/>
          <p:cNvPicPr/>
          <p:nvPr/>
        </p:nvPicPr>
        <p:blipFill>
          <a:blip r:embed="rId1"/>
          <a:stretch/>
        </p:blipFill>
        <p:spPr>
          <a:xfrm>
            <a:off x="1494000" y="3492360"/>
            <a:ext cx="272412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99680" y="1571400"/>
            <a:ext cx="828684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ruktura progra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Úkoly - Task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Úkoly se nejčastěji spouští pomocí příkazu „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StartTask(jmeno ukolu)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Úkoly v řadě za sebou se spustí příkazem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„Follows(ukol_1, ukol_2,…, ukol_N)“ – následující úkol je spuštěn poté, co skončil předchozí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říkazem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Precedes(ukol_1, ukol_2,…, ukol_N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) se spustí úkoly současně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šechny aktuálně běžící úkoly se zastaví příkazem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StopTask(jméno úkolu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šechny úkoly se zastaví příkazem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StopAllTasks()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nezastaví se ale samotný program, to se provede příkazem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Stop(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říkazem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ExitTo(jmeno dalsiho ukolu)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e ukončí současný úkol a zároveň spustí definovaný úkol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Úkol se ukončí jednoduše automaticky dosažením konce těla úkolu  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85BF-C1D3-4A11-B2E1-F7C4521BAD6D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99680" y="1571400"/>
            <a:ext cx="828684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ruktura progra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Funkce - Fun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čas je potřebné skupinu příkazů sloučit do jediné funkce, kterou může váš kód volat podle potřeb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XC podporuje funkce se vstupními argumenty a návratovými hodnotami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o funkce můžeme pokaždé poslat jiné vstupní argumenty, takže se funkce může pokaždé chovat jina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yntaxe funkce je následující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Návratový typ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e typ proměnné, kterou funkce vrací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kud funkce nevrací žádnou hodnotu, tak používáme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void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ebo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sub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BFA0A-B4FE-4218-9F72-4FE7148A3DE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Obrázek 4" descr="Funkce.png"/>
          <p:cNvPicPr/>
          <p:nvPr/>
        </p:nvPicPr>
        <p:blipFill>
          <a:blip r:embed="rId1"/>
          <a:stretch/>
        </p:blipFill>
        <p:spPr>
          <a:xfrm>
            <a:off x="4500720" y="4357800"/>
            <a:ext cx="36367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bsah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končení řešení úlohy sledování čáry pomocí NXT-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ezentace a vysvětlení programového prostředí NXC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DEE6E-5179-4495-A87C-83BD5438CE2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Obrázek 6" descr="LineFollowerUvodniObrazek.jpg"/>
          <p:cNvPicPr/>
          <p:nvPr/>
        </p:nvPicPr>
        <p:blipFill>
          <a:blip r:embed="rId1"/>
          <a:stretch/>
        </p:blipFill>
        <p:spPr>
          <a:xfrm>
            <a:off x="3643200" y="2000160"/>
            <a:ext cx="2357640" cy="1886040"/>
          </a:xfrm>
          <a:prstGeom prst="rect">
            <a:avLst/>
          </a:prstGeom>
          <a:ln w="0">
            <a:noFill/>
          </a:ln>
        </p:spPr>
      </p:pic>
      <p:sp>
        <p:nvSpPr>
          <p:cNvPr id="230" name="Zástupný symbol pro zápatí 6"/>
          <p:cNvSpPr/>
          <p:nvPr/>
        </p:nvSpPr>
        <p:spPr>
          <a:xfrm>
            <a:off x="428760" y="6111720"/>
            <a:ext cx="7920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Obrázek převzat z: </a:t>
            </a:r>
            <a:r>
              <a:rPr b="0" lang="pl-PL" sz="10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blog.electricbricks.com/en/2010/03/lego-mindstorms-nxt-sigue-lineas-proporcional/</a:t>
            </a: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99680" y="1571400"/>
            <a:ext cx="828684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ruktura progra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Funkce - Fun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Seznam argumentů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ůže být prázdný nebo může obsahovat jeden a více argumentů, které jsou od sebe odděleny čárkou „ ,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rgument je představován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typem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jménem proměnn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oměnná může být typu bool, char, byte, int, short, long, unsigned int, float, strings, struct typy nebo arr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klad funkce, která nemá žádný vstup a výstupem je proměnná typu in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9336-CB80-497A-B19A-CAA52B994F98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Obrázek 6" descr="FunkcePriklad_bezVstupu.png"/>
          <p:cNvPicPr/>
          <p:nvPr/>
        </p:nvPicPr>
        <p:blipFill>
          <a:blip r:embed="rId1"/>
          <a:stretch/>
        </p:blipFill>
        <p:spPr>
          <a:xfrm>
            <a:off x="2500200" y="4429080"/>
            <a:ext cx="474372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99680" y="1571400"/>
            <a:ext cx="828684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ruktura progra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Funkce - Fun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klad funkce, která má dva vstupní argumenty a výstupem je proměnná typu int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5139D-2078-46A8-A1B8-B6293802949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Obrázek 7" descr="FunkcePriklad_seVstupy.png"/>
          <p:cNvPicPr/>
          <p:nvPr/>
        </p:nvPicPr>
        <p:blipFill>
          <a:blip r:embed="rId1"/>
          <a:stretch/>
        </p:blipFill>
        <p:spPr>
          <a:xfrm>
            <a:off x="1785960" y="3286080"/>
            <a:ext cx="5392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99680" y="1571400"/>
            <a:ext cx="828684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ruktura progra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Funkce - Func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klad funkce, která má dva vstupní argumenty a nemá žádnou návratovou hodnotu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7EDC-0908-48AC-80B5-84D315950D7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Obrázek 6" descr="FunkcePriklad_bezReturn.png"/>
          <p:cNvPicPr/>
          <p:nvPr/>
        </p:nvPicPr>
        <p:blipFill>
          <a:blip r:embed="rId1"/>
          <a:stretch/>
        </p:blipFill>
        <p:spPr>
          <a:xfrm>
            <a:off x="2071800" y="3286080"/>
            <a:ext cx="44971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99680" y="1571400"/>
            <a:ext cx="828684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5000"/>
          </a:bodyPr>
          <a:p>
            <a:pPr marL="225000" indent="-225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ruktura progra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roměnné - Varia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oměnné mohou být následujícího typu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oměnné jsou deklarovány pomocí klíčového slova proměnné a jména proměnné, deklarace je ukončena středníkem „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Tabulka převzata z: Bakalářské práce Ivana Moce, studenta 3. ročníku ČVUT, FEL - 2010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25000" indent="-2250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59B52-2CF4-46D4-9A3B-2E28A814691E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Obrázek 8" descr="PromenneTabulka.png"/>
          <p:cNvPicPr/>
          <p:nvPr/>
        </p:nvPicPr>
        <p:blipFill>
          <a:blip r:embed="rId1"/>
          <a:stretch/>
        </p:blipFill>
        <p:spPr>
          <a:xfrm>
            <a:off x="2357280" y="2857680"/>
            <a:ext cx="4648320" cy="25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99680" y="1571400"/>
            <a:ext cx="835812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ruktura progra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lob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ální a lokální proměnn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Globální proměnné jsou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eklarovány mimo jakýkoliv kódový blo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edna deklarace může být použita ve všech úkolech, funkcích nebo podprograme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ejí rozsah působnosti začíná v místě deklarace a končí s koncem program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Lokální proměnné jsou deklarovány v úkolech a funkcí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sou přístupné jen v rámci kódového bloku, ve kterém jsou deklarován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ejich rozsah platnosti začíná v místě jejich deklarace a končí s koncem bloku, kde jsou deklarován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ložený příkaz ohraničený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ymboly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{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a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}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“ je považována také za blok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4C074-5FDF-4AC9-9F38-FAF10CE485E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99680" y="1571400"/>
            <a:ext cx="835812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ruktura progra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lob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ální a lokální proměnn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klady deklarací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32C6-E84A-48B6-9892-3887F8ADF67D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Obrázek 4" descr="PromenneGlobalniLokalni.png"/>
          <p:cNvPicPr/>
          <p:nvPr/>
        </p:nvPicPr>
        <p:blipFill>
          <a:blip r:embed="rId1"/>
          <a:stretch/>
        </p:blipFill>
        <p:spPr>
          <a:xfrm>
            <a:off x="2500200" y="3000240"/>
            <a:ext cx="3390840" cy="27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99680" y="1571400"/>
            <a:ext cx="835812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ruktura progra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truktur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y - structu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užívají se pro sdružení proměnných, které mají něco společnéh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platní se ve složitějších programe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kázka na příkladu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 vytvoření  struktury můžeme přistupovat na její proměnné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 proměnným struktury přistupujeme pomocí jména proměnné-struktury, tečky a jména proměnné uvnitř struktu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4AD0F-699E-4528-9AD3-32C6D65E271D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Obrázek 6" descr="Struktura1.png"/>
          <p:cNvPicPr/>
          <p:nvPr/>
        </p:nvPicPr>
        <p:blipFill>
          <a:blip r:embed="rId1"/>
          <a:stretch/>
        </p:blipFill>
        <p:spPr>
          <a:xfrm>
            <a:off x="1000080" y="3643200"/>
            <a:ext cx="3524400" cy="1086120"/>
          </a:xfrm>
          <a:prstGeom prst="rect">
            <a:avLst/>
          </a:prstGeom>
          <a:ln w="0">
            <a:noFill/>
          </a:ln>
        </p:spPr>
      </p:pic>
      <p:pic>
        <p:nvPicPr>
          <p:cNvPr id="320" name="Obrázek 7" descr="Struktura2.png"/>
          <p:cNvPicPr/>
          <p:nvPr/>
        </p:nvPicPr>
        <p:blipFill>
          <a:blip r:embed="rId2"/>
          <a:stretch/>
        </p:blipFill>
        <p:spPr>
          <a:xfrm>
            <a:off x="5000760" y="3714840"/>
            <a:ext cx="34765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99680" y="1571400"/>
            <a:ext cx="835812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0000"/>
          </a:bodyPr>
          <a:p>
            <a:pPr marL="238320" indent="-238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ruktura progra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ole – Arr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eklarují se stejným způsobem jako běžné proměnné, ale ještě je třeba doplnit hranaté závorky 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]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Uk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ázka deklarac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Lze vytvořit i vícedimenzionální pole přidáním dalšího páru hranatých závorek – max. počet v NXC je 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kázka deklarace: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vky pole jsou číslovány od nuly – první prvek je na pozici s indexem 0, druhý prvek je na pozici s indexem 1 a tak dá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38320" indent="-2383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9A983-A18E-4198-BEE9-713AB0D6424A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Obrázek 7" descr="PoleDeklarace2dimenze.png"/>
          <p:cNvPicPr/>
          <p:nvPr/>
        </p:nvPicPr>
        <p:blipFill>
          <a:blip r:embed="rId1"/>
          <a:stretch/>
        </p:blipFill>
        <p:spPr>
          <a:xfrm>
            <a:off x="3357720" y="4572000"/>
            <a:ext cx="4143240" cy="200160"/>
          </a:xfrm>
          <a:prstGeom prst="rect">
            <a:avLst/>
          </a:prstGeom>
          <a:ln w="0">
            <a:noFill/>
          </a:ln>
        </p:spPr>
      </p:pic>
      <p:pic>
        <p:nvPicPr>
          <p:cNvPr id="325" name="Obrázek 8" descr="PoleDeklarace.png"/>
          <p:cNvPicPr/>
          <p:nvPr/>
        </p:nvPicPr>
        <p:blipFill>
          <a:blip r:embed="rId2"/>
          <a:stretch/>
        </p:blipFill>
        <p:spPr>
          <a:xfrm>
            <a:off x="3357720" y="3357720"/>
            <a:ext cx="3609720" cy="1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99680" y="1571400"/>
            <a:ext cx="835812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ruktura progra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ole – Arr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kázky deklarací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kud vytváříme prázdné pole, tak před použitím ho musíme inicializovat funkcí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ArrayIni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a určit jeho velikos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B19C-4F03-4D68-9CC6-4129DDF9505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Obrázek 6" descr="DeklaracePoleRuzne.png"/>
          <p:cNvPicPr/>
          <p:nvPr/>
        </p:nvPicPr>
        <p:blipFill>
          <a:blip r:embed="rId1"/>
          <a:stretch/>
        </p:blipFill>
        <p:spPr>
          <a:xfrm>
            <a:off x="928800" y="2857680"/>
            <a:ext cx="4914720" cy="1761840"/>
          </a:xfrm>
          <a:prstGeom prst="rect">
            <a:avLst/>
          </a:prstGeom>
          <a:ln w="0">
            <a:noFill/>
          </a:ln>
        </p:spPr>
      </p:pic>
      <p:pic>
        <p:nvPicPr>
          <p:cNvPr id="330" name="Obrázek 9" descr="DeklaracePoleArrayInit.png"/>
          <p:cNvPicPr/>
          <p:nvPr/>
        </p:nvPicPr>
        <p:blipFill>
          <a:blip r:embed="rId2"/>
          <a:stretch/>
        </p:blipFill>
        <p:spPr>
          <a:xfrm>
            <a:off x="1000080" y="5429160"/>
            <a:ext cx="51246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99680" y="1571400"/>
            <a:ext cx="835812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6000"/>
          </a:bodyPr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Tvrze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řiřazení a další operace s proměnný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osud jsme se setkali s nejpoužívanějším operátorem pro přiřazení hodnoty výrazu do proměnné – „ =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istuj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alší operátory, které modifikují hodnotu proměnné jinými způsoby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4160" indent="-2541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8318-76CF-44B3-8F53-A7638BE9D3A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143080" y="3571920"/>
          <a:ext cx="6357960" cy="2498760"/>
        </p:xfrm>
        <a:graphic>
          <a:graphicData uri="http://schemas.openxmlformats.org/drawingml/2006/table">
            <a:tbl>
              <a:tblPr/>
              <a:tblGrid>
                <a:gridCol w="1714680"/>
                <a:gridCol w="46432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perá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k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řiřazení výrazu do proměn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řičtení výrazu k proměn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5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dečtení výrazu od proměn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*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násobení proměnné výraz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5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ydělení proměnné výraz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%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bytek po dělení proměnné výraz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Dokončení řešení úlohy sledování čáry pomocí NXT-G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0040" y="150012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kračujte v řešení úlohy sledování čáry…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972E-2330-4D5F-B824-FBB20ED5E064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99680" y="1571400"/>
            <a:ext cx="835812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kračování tabulky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0C5BB-7EFE-4436-9763-DC57DEB0F72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714240" y="2000160"/>
          <a:ext cx="7786800" cy="3627360"/>
        </p:xfrm>
        <a:graphic>
          <a:graphicData uri="http://schemas.openxmlformats.org/drawingml/2006/table">
            <a:tbl>
              <a:tblPr/>
              <a:tblGrid>
                <a:gridCol w="2100240"/>
                <a:gridCol w="5686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perá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k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amp;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tový AND výrazu a proměn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|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tový OR výrazu a proměn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^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tový XOR výrazu a proměnn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||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olutní hodnota výraz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-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o proměnné nastaví signum výrazu (-1,0,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&gt;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tový posun doprava o počet bitů určených výraz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&lt;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itový posun doprava o počet bitů určených výraze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+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výšení hodnoty proměnné o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-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nížení hodnoty proměnné o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99680" y="1571400"/>
            <a:ext cx="835812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íklad: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E05A-57F2-4C73-9940-A3B09B4F5E78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Obrázek 6" descr="OperatoryUkazka.png"/>
          <p:cNvPicPr/>
          <p:nvPr/>
        </p:nvPicPr>
        <p:blipFill>
          <a:blip r:embed="rId1"/>
          <a:stretch/>
        </p:blipFill>
        <p:spPr>
          <a:xfrm>
            <a:off x="1214280" y="2143080"/>
            <a:ext cx="37530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99680" y="1571400"/>
            <a:ext cx="835812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4000"/>
          </a:bodyPr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Tvrze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perátory pro porovnávání proměnných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F2F0-4266-43BE-9CD8-B6BD5FD08B2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1357200" y="2500200"/>
          <a:ext cx="6096240" cy="4079880"/>
        </p:xfrm>
        <a:graphic>
          <a:graphicData uri="http://schemas.openxmlformats.org/drawingml/2006/table">
            <a:tbl>
              <a:tblPr/>
              <a:tblGrid>
                <a:gridCol w="1928880"/>
                <a:gridCol w="4167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Operá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unk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 rov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 menš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 větš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lt;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 men</a:t>
                      </a: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ší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nebo rov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gt;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 větší nebo rov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!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=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ní rov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avda (an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al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pravda (n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&amp;&amp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 zárove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||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b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99680" y="1571400"/>
            <a:ext cx="835812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3000"/>
          </a:bodyPr>
          <a:p>
            <a:pPr marL="246240" indent="-24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repro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XC obsahuje preprocesor, který je modelovaný podle preprocesoru jazyka 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eprocesor je část programu, která se zpracovává ještě před samotným překladem kód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louží k implementaci externích knihoven, definování maker nebo proměnný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dlišnosti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09040" indent="-18576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euvádíme typ proměnné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09040" indent="-18576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říkaz není ukončen středníke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09040" indent="-18576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Hodnota proměnné nejde během běhu programu měnit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kázka deklarac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46240" indent="-2462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0DBCD-6E7C-4775-B421-AF632F23CF4A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Obrázek 7" descr="Preprocesor.png"/>
          <p:cNvPicPr/>
          <p:nvPr/>
        </p:nvPicPr>
        <p:blipFill>
          <a:blip r:embed="rId1"/>
          <a:stretch/>
        </p:blipFill>
        <p:spPr>
          <a:xfrm>
            <a:off x="3357720" y="5143680"/>
            <a:ext cx="363852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499680" y="1571400"/>
            <a:ext cx="835812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eznam zdrojů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1] HANSEN, John. NXC Programmer’s Guide [online]. 2010-05-30 [cit. 2010-05-23]. The NXC Guide. Dostupn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é z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WW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en-US" sz="1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bricxcc.sourceforge.net/nbc/nxcdoc/NXC_Guide.pd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] MOC, Ivan. Využití robota LEGO MINDSTORMS – návrh a realizace úloh, návod na programování v NXC. Praha, 2010. 64 s. Bakalářská práce. České vysoké učení technické v Praze, Fakulta elektrotechnická, Katedra řídící technik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3] BENEDETTELLI, Daniele. Programming LEGO NXT Robots using NXC [online]. 2007-06-07 [cit. 2010-05-23]. The NXC Tutorial. Dostupn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é z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W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WW: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lt;</a:t>
            </a:r>
            <a:r>
              <a:rPr b="0" lang="cs-CZ" sz="18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bricxcc.sourceforge.net/nbc/nxcdoc/NXC_tutorial.pdf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57F9-61DC-4E0F-902B-B2741C57506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Závě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00040" y="1285560"/>
            <a:ext cx="8183520" cy="4786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stor na případné dotaz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bude příště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kračování v prezentaci o NXC a jeho výhod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íklady řešené v tomto prostřed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DĚKUJI ZA POZORNO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brázky z úvodního slidu převzaty z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s://ai.ia.agh.edu.pl/wiki/mindstorms:hi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digiredo.wordpress.com/2010/02/13/enterprise-2-0-not-if-but-when-do-you-start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http://gizmodo.com/168532/lego-mindstorms-nxt-software-going-open-sou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8F3D5-1F7B-432D-8335-B1A4D96FF3C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0040" y="150012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v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alší jazyk, který je možno použít pro programování NXT kostky je NXC –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t e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tly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 rozdíl od jazyku NXT-G, kde jsme vytvářeli program pomocí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grafických prvků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– přesněji řečeno pomocí programovacích bloků, tak jazyk NXC využívá instrukce v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textové podobě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azyk NXC je velmi podobný jazyku C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gramy budete vytvářet v programovacím prostředí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ricx Command Center - BricxC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5F59-78F7-4BB2-98A3-E6028E9EB27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0040" y="1499760"/>
            <a:ext cx="8183520" cy="4643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Bricx Command Ce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i každém spuštění BricxCC se objeví okno pro identifikaci připojené NXT kostk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 roletovém menu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Port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volte buď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Automatic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ebo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usb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    v sekci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Brick Type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volte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NXT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 v sekci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rmware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berte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tandar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liknutím na tlačítko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ejdete k programovacím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střed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kud programovací kost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ení připojena nebo špatn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volíte parametry, tak se objev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hybová hlášk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B0DF3-33D7-492F-8799-5D2D388BD5B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Obrázek 4" descr="FindBrickOkno.png"/>
          <p:cNvPicPr/>
          <p:nvPr/>
        </p:nvPicPr>
        <p:blipFill>
          <a:blip r:embed="rId1"/>
          <a:stretch/>
        </p:blipFill>
        <p:spPr>
          <a:xfrm>
            <a:off x="5072040" y="3286080"/>
            <a:ext cx="3571920" cy="22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00040" y="1571760"/>
            <a:ext cx="8183520" cy="435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Bricx Command Cent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kud programovací kostku připojíte později a chcete ji inicializovat, tak okno pro inicializace vyvoláte následujícím postupem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1. Klikněte na roletovou nabídku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2. Vyberte volbu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Find Bric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59F03-6806-4351-B83A-B0AAB5D07D34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Obrázek 6" descr="BricxCC_popis.png"/>
          <p:cNvPicPr/>
          <p:nvPr/>
        </p:nvPicPr>
        <p:blipFill>
          <a:blip r:embed="rId1"/>
          <a:stretch/>
        </p:blipFill>
        <p:spPr>
          <a:xfrm>
            <a:off x="1928880" y="2071800"/>
            <a:ext cx="544176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00040" y="1571400"/>
            <a:ext cx="818352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Obecné informace o NX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XT kostka má byte-kódový interpr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který slouží k vykonávání program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XC překladač překládá zdrojový program do NXT byte-kódu, který potom může být vykoná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azyk NXC vychází z jazyka C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XC není obecný programovací jazyk =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Existuje mnoho omezení, které vyplývají z omezení byte-kódového interpre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u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NXT kostk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FBF9-5C3A-4E09-B266-A77E7C90AB2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0040" y="1571400"/>
            <a:ext cx="818352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Obecné informace o NX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XC je jazyk „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ase-sensitiv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“, jako jazyk C nebo C++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 rozlišují se velká a malá písmen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př. : „AbC“ není stejné jako „abc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aždá deklarace je zakončena středník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aždá struktura je uzavřena dvojicí složených závorek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9693-4019-4657-B5AF-66A99453EA1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rezentace a vysvětlení programového prostředí NXC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0040" y="1571400"/>
            <a:ext cx="8183520" cy="48574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Lexikální pravid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edná se o souhrn pravidel, které popisují, jak má vypadat struktura zdrojového kódu – jak psát komentáře, manipulovat s mezerami, nebo jaké jsou povolené znaky pro identifikát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Komentáře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Existují dvě podoby komentář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Klasický „Céčkovský“ komentář – začíná „ /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“ a končí „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*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/ “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Tento typ dovoluje vytvářet víceřádkové komentáře, ale nemohou být do sebe vnořeny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3987-DAF9-4163-8B43-29F52E391AE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Obrázek 6" descr="Komentare.png"/>
          <p:cNvPicPr/>
          <p:nvPr/>
        </p:nvPicPr>
        <p:blipFill>
          <a:blip r:embed="rId1"/>
          <a:stretch/>
        </p:blipFill>
        <p:spPr>
          <a:xfrm>
            <a:off x="3352680" y="4492800"/>
            <a:ext cx="3706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14:53:53Z</dcterms:created>
  <dc:creator>Jara</dc:creator>
  <dc:description/>
  <dc:language>en-US</dc:language>
  <cp:lastModifiedBy>Jara</cp:lastModifiedBy>
  <dcterms:modified xsi:type="dcterms:W3CDTF">2010-05-28T00:38:53Z</dcterms:modified>
  <cp:revision>255</cp:revision>
  <dc:subject/>
  <dc:title>Robotický seminář</dc:title>
</cp:coreProperties>
</file>