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5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AB49-D458-4054-B7EA-BBC4D8E34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DA4E-791C-4EFA-B51F-5DF40451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F9B0-9FEF-4B9E-8771-70F6B532C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399C-C685-4700-A196-44E1114F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08B3-3A5F-4570-8E50-81D0664B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CDF6-FF67-41AF-8116-53E9171FF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6FB59-3D27-4CEF-BBAD-1C3C6A10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E9FE-B7FE-4B0A-B801-C425652E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2040-3D9D-4950-B1F2-3B8855F07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C78F-9037-47E9-AF7C-01A08AD12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63866-3265-4B78-A927-9FC64824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271F-7D30-4946-95CF-C7BEB7311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1AE68-BFC6-4072-9569-533CCFB3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7408-4E8E-4F9F-9248-5EA2B9B8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58D18-C12A-4255-B981-EFC99490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5ABF-A082-4C29-B105-E28D40549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199A-CCC7-4041-8FE6-0A73FE90E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0EEC6-7A05-482C-9256-EFE9A9450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18A6B-B87D-4728-820A-D095D362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038D-9468-4246-9605-0D63266E9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2FD17-5E8E-4370-93A5-35F4643B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F622B-E0D2-489E-86A1-32CBD4DD5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99FF-ABED-43DA-AC50-08C9DB50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E7E7F-0A19-48B1-98E3-4981562A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685BD-3B23-4F48-9883-1B9F2C17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16C6B-FDAB-4B8C-BA80-840710DDC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7EC0B-389E-4C01-9D4C-6BF95EFB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75EE8C-B51C-4A27-BDD3-210215AD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8111A-9075-4EDD-89E2-B39E7359F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294F-8D03-486B-8488-3B9122B8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31CAE-E186-4F0D-AF09-844F5D83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2747E-B46B-4BA5-81D1-07511F9BF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861B7-96FA-46D8-9138-E4CE28D8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F7D2-683C-4F87-BC5F-06014C07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59C64-A7C0-49B2-AEE6-47DA932E9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0FC7E-E26C-445C-9E19-51F0A622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2668B-F737-4B4A-9A76-0928064D7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2756C-089A-4633-B2F5-50D4CD52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E4C01-F65D-4079-BFC2-F5F601A7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94435-4438-495D-9191-4080935E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34BF1D-1A6D-40A6-9359-0A113995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9DA69-EA70-45AF-9FAA-815C06D74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E0A94-9C19-4ED5-BD26-C4F4B76A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23E687-A9DD-4A0E-A290-EE553628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D233-C1E7-4D83-B130-921182C6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CA6AB-5096-4C75-8D27-F165C201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527BD1-90BE-4C6D-AECD-61D4D56E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7BD4F-5803-49D4-8F70-684D6158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547E1-3588-4D30-82D4-2C54423B4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AABBE-BAC2-4F8B-82CC-F7F0AB46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2F9CBC-D7C0-4732-A822-FC7DBC6BB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20490-3577-49EB-8106-542DBB5C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1AC66-0EA7-4B0D-97FD-73F984BD9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F23A1-FFBE-4D15-A8CC-60C499EF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F3FD8-DAEA-4274-B085-B30DC10AF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6BA1-54C1-4954-8215-7DBED35EE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8EDAA-8656-4AD1-AD50-95CE1557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5B768-D48B-4AF1-AA80-44901380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BAA-88F1-4839-9DC2-0A36941D2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448E-3B39-4B20-8528-6199CB15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CD4D-7BF2-4488-AC86-D609302C536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C8D74-85F0-4678-820D-DFF3F6B5CD2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E4FE-8DDA-48D0-8D8F-23193DABEBF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1145-A66C-452E-9DA4-BDE960C8E8E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10A9-8E46-4B60-958B-363AAC61C41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0C4FD-E173-442D-A2F2-2A4F82A5E60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prezentaci o NXC a jeho výhod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99680" y="142884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Řídicí strukt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Funkce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go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možňuje programu skok do specifického místa v kó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píše než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got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by jste měli používat klasické cykly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for, whil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nebo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které jsou z hlediska přehlednosti kódu vhodnější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klad nekonečné smyčky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05DDA-9973-4E76-99BA-28F9500E8D8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Obrázek 6" descr="Goto.png"/>
          <p:cNvPicPr/>
          <p:nvPr/>
        </p:nvPicPr>
        <p:blipFill>
          <a:blip r:embed="rId1"/>
          <a:stretch/>
        </p:blipFill>
        <p:spPr>
          <a:xfrm>
            <a:off x="1928880" y="3714840"/>
            <a:ext cx="553392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prezentaci o NXC a jeho výhod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99680" y="142884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Řídicí strukt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Funkce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unt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okud není splněna podmínka v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until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tak program čeká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elmi užitečná funkce ve spojení se senz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příklad, dokud není stisknut dotykový senzor, tak robot pojede rovně a po stisknutí se zastaví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9483-F3BE-4BAB-A4C3-85E6C9997A5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prezentaci o NXC a jeho výhod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99680" y="142884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Časové funk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ddálí vykonání dalších příkaz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 dispozici je funkce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Wait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čas v ms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příklad chceme, aby robot jel rovně 5s a pak se zastavil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Kód převzat a mírně modifikován z Bakalářské práce Ivane Moce – student 3. ročníku ČVUT,  FEL, 2010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6A33-E1B4-44F5-8BD3-A594DDC0F1B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Obrázek 4" descr="WaitKod.png"/>
          <p:cNvPicPr/>
          <p:nvPr/>
        </p:nvPicPr>
        <p:blipFill>
          <a:blip r:embed="rId1"/>
          <a:stretch/>
        </p:blipFill>
        <p:spPr>
          <a:xfrm>
            <a:off x="2357280" y="3143160"/>
            <a:ext cx="44769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prezentaci o NXC a jeho výhod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99680" y="1428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Ovládání servomotor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o NXT kostky lze zapojit maximálně 3 servomo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aždý výstup výstupní port má svou identifikační proměnnou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OUT_A, OUT_B a OUT_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stupy lze mezi sebou kombinova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OUT_AB, OUT_AC, OUT_BC, OUT_AB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Základní pohyb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unkce pro pohyb vpřed: 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</a:rPr>
              <a:t>OnFwd(výstup, výk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ýkon je v rozsahu -100 až 100 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motor se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ůže otáčet na obě stran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Z hlediska přehlednosti se doporučuje používat pouze kladných hod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unkce pro pohyb vzad: 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</a:rPr>
              <a:t>OnRev(výstup, výkon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unkce pro zastavení motoru: 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</a:rPr>
              <a:t>Off(výstup)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motor je zastaven pomocí brzdy – robot se okamžitě zastaví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unkce pro zastavení motoru: 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</a:rPr>
              <a:t>Float(výstup)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motor je pouze odpojen od napájení a ten se zastaví setrvačností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871C-6D66-4EDF-9BC7-43099454EC7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prezentaci o NXC a jeho výhod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99680" y="1428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Ovládání servomotor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okročilé metody pohyb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otační senzor v servomotoru umožňuje přesné řízení rychlosti a polohy pomocí PID (proporcionálně-integračně-derivačního) reguláto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unkce pro řízení motoru vpřed podle módu regulátoru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</a:rPr>
              <a:t>OnFwdReg(výstupy, výkon, mód regulátor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ódy regulátoru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OUT_REGMODE_IDLE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- regulátor je nečinný =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gt; motor se chov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á stejně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jako při použití funkce 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OnFwd(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OUT_REGMODE_SPEED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- reguluje rychlosti motorů tak, aby se točily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stejně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OUT_REGMODE_SYNC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– synchronizuje otáčky motorů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unkce pro řízení motoru vzad podle módu regulátoru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</a:rPr>
              <a:t>OnRevReg(výstupy, výkon, mód regulátoru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DB069-0CCD-41A4-B19E-FA784E9B7C9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prezentaci o NXC a jeho výhod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99680" y="1428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Ovládání servomotor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okročilé metody pohyb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unkce pro otočení motoru o požadovaný úhel(ve stupních)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</a:rPr>
              <a:t>RotateMotor(výstup, výkon, úhel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unkce pro otočení motoru o požadovaný úhel pomocí PID regulátoru: </a:t>
            </a:r>
            <a:r>
              <a:rPr b="1" i="1" lang="cs-CZ" sz="1800" spc="-1" strike="noStrike">
                <a:solidFill>
                  <a:srgbClr val="000000"/>
                </a:solidFill>
                <a:latin typeface="Verdana"/>
              </a:rPr>
              <a:t>RotateMotorPID(výstup, tah, úhel, P, I, D)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onstanty P – proporcionální, I – integrační a D – derivační určují charakter regulace – doba ustálení, překmit a další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1A0CF-DCDB-4149-B051-D30C01378A6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Obrázek 4" descr="RotateMotor.png"/>
          <p:cNvPicPr/>
          <p:nvPr/>
        </p:nvPicPr>
        <p:blipFill>
          <a:blip r:embed="rId1"/>
          <a:stretch/>
        </p:blipFill>
        <p:spPr>
          <a:xfrm>
            <a:off x="1428840" y="3071880"/>
            <a:ext cx="5072040" cy="41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prezentaci o NXC a jeho výhod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00040" y="142884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Zhodnocen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ní potřeba nahrát speciální firmware do NXT kostk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reewarová aplika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elmi podobné jazyku C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tížnější debugován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31B22-8BAA-4EEA-B6CC-D5311191C97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152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eznam zdrojů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99680" y="114300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1] HANSEN, John. NXC Programmer’s Guide [online]. 2010-05-30 [cit. 2010-05-23]. The NXC Guide. Dostup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é z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WW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http://bricxcc.sourceforge.net/nbc/nxcdoc/NXC_Guide.pdf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] MOC, Ivan. Využití robota LEGO MINDSTORMS – návrh a realizace úloh, návod na programování v NXC. Praha, 2010. 64 s. Bakalářská práce. České vysoké učení technické v Praze, Fakulta elektrotechnická, Katedra řídící technik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3] BENEDETTELLI, Daniele. Programming LEGO NXT Robots using NXC [online]. 2007-06-07 [cit. 2010-05-23]. The NXC Tutorial. Dostup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é z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WW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ttp://bricxcc.sourceforge.net/nbc/nxcdoc/NXC_tutorial.pd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0DF6-8DA4-4707-A84C-8A8BA9F1A67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00040" y="128592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okončení výkladu programového prostředí NX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Řešení jednoduchých úloh v NX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F330-BFDB-4EE2-8B1B-EDB04A3CE49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račování v prezentaci o NXC a jeho výhod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íklady řešené v tomto prostřed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8B969-FDC0-4995-B1D4-0FE2A701564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prezentaci o NXC a jeho výhod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99680" y="1428840"/>
            <a:ext cx="8286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Řídicí strukt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ají klíčovou roli při budování složitějších ovládacích struktur kó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slušná část kódu bude vykonána za předpokladu, že je splněna podmínka a pokud se jedná o cykly, tak ty umožňují periodické opakování  kó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odmínka if a 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nstrukce vypadá následovně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dmínka může být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tru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nebo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kud je podmínka splněna - je pravdivá -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tru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tak se vykoná tvrzení za podmínkou (důsledek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líčové slovo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els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dává možnost alternativní volby 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 bude v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o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áno alternativní tvrzení, pokud není podmínka splněna – nepravda –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fal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vrzení musí být vždy ukončeno středník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39BD-4700-4073-AE8C-ED56850FF09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Obrázek 6" descr="PodminkaObecneDeklarace.png"/>
          <p:cNvPicPr/>
          <p:nvPr/>
        </p:nvPicPr>
        <p:blipFill>
          <a:blip r:embed="rId1"/>
          <a:stretch/>
        </p:blipFill>
        <p:spPr>
          <a:xfrm>
            <a:off x="4714920" y="3429000"/>
            <a:ext cx="34891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prezentaci o NXC a jeho výhod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0040" y="142884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Řídicí strukt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odmínka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if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příklad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kud chceme za podmínku dát více tvrzení, tak musíme použít složené závorky 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{ }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Lze definovat i více než jednu podmínku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CDEA1-79CA-44C9-ADCA-0F10E419F86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Obrázek 7" descr="PodminkaObecneDeklarace1.png"/>
          <p:cNvPicPr/>
          <p:nvPr/>
        </p:nvPicPr>
        <p:blipFill>
          <a:blip r:embed="rId1"/>
          <a:stretch/>
        </p:blipFill>
        <p:spPr>
          <a:xfrm>
            <a:off x="2286000" y="2500200"/>
            <a:ext cx="5391000" cy="571680"/>
          </a:xfrm>
          <a:prstGeom prst="rect">
            <a:avLst/>
          </a:prstGeom>
          <a:ln w="0">
            <a:noFill/>
          </a:ln>
        </p:spPr>
      </p:pic>
      <p:pic>
        <p:nvPicPr>
          <p:cNvPr id="237" name="Obrázek 8" descr="PodminkaObecneDeklarace2.png"/>
          <p:cNvPicPr/>
          <p:nvPr/>
        </p:nvPicPr>
        <p:blipFill>
          <a:blip r:embed="rId2"/>
          <a:stretch/>
        </p:blipFill>
        <p:spPr>
          <a:xfrm>
            <a:off x="3714840" y="3500280"/>
            <a:ext cx="4071960" cy="298440"/>
          </a:xfrm>
          <a:prstGeom prst="rect">
            <a:avLst/>
          </a:prstGeom>
          <a:ln w="0">
            <a:noFill/>
          </a:ln>
        </p:spPr>
      </p:pic>
      <p:pic>
        <p:nvPicPr>
          <p:cNvPr id="238" name="Obrázek 9" descr="PodminkaObecneDeklarace3.png"/>
          <p:cNvPicPr/>
          <p:nvPr/>
        </p:nvPicPr>
        <p:blipFill>
          <a:blip r:embed="rId3"/>
          <a:stretch/>
        </p:blipFill>
        <p:spPr>
          <a:xfrm>
            <a:off x="2071800" y="4357800"/>
            <a:ext cx="538632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prezentaci o NXC a jeho výhod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0040" y="142884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Řídicí strukt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Cyklus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while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do-w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While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e používá pro konstrukci podmíněné smyčk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ecná deklarac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dmínka je vyhodnocena a pokud je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tru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tak se vykoná kód v těle smyčky, potom se znovu testuje podmínk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kud se jako podmínka použije slovo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tru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tak se vytvoří nekonečná smyčka, z které je možno vyskočit například příkazem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break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klad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09951-E5FD-408B-AB5E-425ADD7111B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Obrázek 10" descr="While1.png"/>
          <p:cNvPicPr/>
          <p:nvPr/>
        </p:nvPicPr>
        <p:blipFill>
          <a:blip r:embed="rId1"/>
          <a:stretch/>
        </p:blipFill>
        <p:spPr>
          <a:xfrm>
            <a:off x="3143160" y="2928960"/>
            <a:ext cx="2795760" cy="285840"/>
          </a:xfrm>
          <a:prstGeom prst="rect">
            <a:avLst/>
          </a:prstGeom>
          <a:ln w="0">
            <a:noFill/>
          </a:ln>
        </p:spPr>
      </p:pic>
      <p:pic>
        <p:nvPicPr>
          <p:cNvPr id="243" name="Obrázek 11" descr="While2.png"/>
          <p:cNvPicPr/>
          <p:nvPr/>
        </p:nvPicPr>
        <p:blipFill>
          <a:blip r:embed="rId2"/>
          <a:stretch/>
        </p:blipFill>
        <p:spPr>
          <a:xfrm>
            <a:off x="2071800" y="5000760"/>
            <a:ext cx="490356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prezentaci o NXC a jeho výhod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0040" y="142884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Řídicí strukt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Cyklus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while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do-whil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dobná je konstrukce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o-whil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, která umožní to, že tělo smyčky je vykonáno vždy alespoň jednou nezávisle na podmínce, která se kontroluje až po prvním průcho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ecná deklarac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Cyklus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ecná deklarac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i běhu programu se nejprve vykoná tvrzeníA, vyhodnotí se podmínka a pokud je splněna, tak se vykoná tělo smyčky a nakonec se vykoná tvrzeníB  -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yklus skončí a probíhá to znov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ápis pomocí cyklu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while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y vypadal takto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2271-D819-401B-BA39-B2FFE557DC8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Obrázek 6" descr="While3.png"/>
          <p:cNvPicPr/>
          <p:nvPr/>
        </p:nvPicPr>
        <p:blipFill>
          <a:blip r:embed="rId1"/>
          <a:stretch/>
        </p:blipFill>
        <p:spPr>
          <a:xfrm>
            <a:off x="3286080" y="3429000"/>
            <a:ext cx="2857680" cy="285840"/>
          </a:xfrm>
          <a:prstGeom prst="rect">
            <a:avLst/>
          </a:prstGeom>
          <a:ln w="0">
            <a:noFill/>
          </a:ln>
        </p:spPr>
      </p:pic>
      <p:pic>
        <p:nvPicPr>
          <p:cNvPr id="248" name="Obrázek 7" descr="For1.png"/>
          <p:cNvPicPr/>
          <p:nvPr/>
        </p:nvPicPr>
        <p:blipFill>
          <a:blip r:embed="rId2"/>
          <a:stretch/>
        </p:blipFill>
        <p:spPr>
          <a:xfrm>
            <a:off x="3214800" y="4286160"/>
            <a:ext cx="4286160" cy="270000"/>
          </a:xfrm>
          <a:prstGeom prst="rect">
            <a:avLst/>
          </a:prstGeom>
          <a:ln w="0">
            <a:noFill/>
          </a:ln>
        </p:spPr>
      </p:pic>
      <p:pic>
        <p:nvPicPr>
          <p:cNvPr id="249" name="Obrázek 8" descr="For2While.png"/>
          <p:cNvPicPr/>
          <p:nvPr/>
        </p:nvPicPr>
        <p:blipFill>
          <a:blip r:embed="rId3"/>
          <a:stretch/>
        </p:blipFill>
        <p:spPr>
          <a:xfrm>
            <a:off x="6286680" y="5429160"/>
            <a:ext cx="1214280" cy="104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prezentaci o NXC a jeho výhod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99680" y="142884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Řídicí strukt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Cyklus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klad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Cyklus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repe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ato řídící struktura nepatří mezi standardní řídící struktury jazyka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XC ji zdědila od NQ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ecná deklarac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raz představuje číslo, které říká, kolikrát bude tělo smyčky vykonán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raz je vyhodnocen pouze jednou a pak je tělo smyčky vykonáno tolikrát, kolikrát určuje výraz 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 odli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šnost oproti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while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 do-whi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příklad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C811-A2EF-43BD-A18F-EE288B60F89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Obrázek 9" descr="For3.png"/>
          <p:cNvPicPr/>
          <p:nvPr/>
        </p:nvPicPr>
        <p:blipFill>
          <a:blip r:embed="rId1"/>
          <a:stretch/>
        </p:blipFill>
        <p:spPr>
          <a:xfrm>
            <a:off x="2000160" y="2500200"/>
            <a:ext cx="3745080" cy="428760"/>
          </a:xfrm>
          <a:prstGeom prst="rect">
            <a:avLst/>
          </a:prstGeom>
          <a:ln w="0">
            <a:noFill/>
          </a:ln>
        </p:spPr>
      </p:pic>
      <p:pic>
        <p:nvPicPr>
          <p:cNvPr id="254" name="Obrázek 10" descr="Repeat.png"/>
          <p:cNvPicPr/>
          <p:nvPr/>
        </p:nvPicPr>
        <p:blipFill>
          <a:blip r:embed="rId2"/>
          <a:stretch/>
        </p:blipFill>
        <p:spPr>
          <a:xfrm>
            <a:off x="3214800" y="4500720"/>
            <a:ext cx="2352600" cy="285480"/>
          </a:xfrm>
          <a:prstGeom prst="rect">
            <a:avLst/>
          </a:prstGeom>
          <a:ln w="0">
            <a:noFill/>
          </a:ln>
        </p:spPr>
      </p:pic>
      <p:pic>
        <p:nvPicPr>
          <p:cNvPr id="255" name="Obrázek 11" descr="Repeat2.png"/>
          <p:cNvPicPr/>
          <p:nvPr/>
        </p:nvPicPr>
        <p:blipFill>
          <a:blip r:embed="rId3"/>
          <a:stretch/>
        </p:blipFill>
        <p:spPr>
          <a:xfrm>
            <a:off x="2286000" y="6000840"/>
            <a:ext cx="387972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prezentaci o NXC a jeho výhod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99680" y="142884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Řídicí strukt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řepínač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switch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ykoná jednu z několika sekcí kódu, která závisí na hodnotě výrazu ve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switch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 příkazu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switch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následuje výčet případů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case 1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ž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case 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aždý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case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usí být konstantní a unikátní v rámci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switch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Switch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vyhodnotí výraz a pak hledá odpovídající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case -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yh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nocuje se tvrzení následující za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casem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dokud se neobjeví výraz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break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bo není dosažen konec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switch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ůže být použit i případ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efault,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dy tvrzení za ním bude vykonáno, pouze pokud vyhodnocenému výrazu neodpovídal žádný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ca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Case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efaul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nejsou žádná tvrzení. Jsou to pouze popisky předcházející tvrzení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1C73A-CF06-4900-8C89-9918059D44D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prezentaci o NXC a jeho výhod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99680" y="142884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Řídicí struktu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řepínač </a:t>
            </a: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swit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ypický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switch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ypadá například takto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32FF-A864-49BC-8826-DC703F87A12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Obrázek 4" descr="Switch.png"/>
          <p:cNvPicPr/>
          <p:nvPr/>
        </p:nvPicPr>
        <p:blipFill>
          <a:blip r:embed="rId1"/>
          <a:stretch/>
        </p:blipFill>
        <p:spPr>
          <a:xfrm>
            <a:off x="2000160" y="2857680"/>
            <a:ext cx="3648240" cy="20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9:35:46Z</dcterms:created>
  <dc:creator>Jara</dc:creator>
  <dc:description/>
  <dc:language>en-US</dc:language>
  <cp:lastModifiedBy>Jara</cp:lastModifiedBy>
  <dcterms:modified xsi:type="dcterms:W3CDTF">2010-05-27T01:42:17Z</dcterms:modified>
  <cp:revision>179</cp:revision>
  <dc:subject/>
  <dc:title>Robotický seminář</dc:title>
</cp:coreProperties>
</file>