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13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494-66E1-4324-9DA0-3BEBFD75D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1490-E56C-4BE3-A275-D02406F6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7F3-6959-47AC-918E-6B03DA3C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A33-607D-47D1-AA3A-074800E7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C51AF-2830-4F6F-A108-3E7338B76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FE94-A2B2-43B9-AB06-BC6966207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490F-B1AE-4E16-A0AB-D9041CF3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D8B4-259A-4463-AA8C-C9A8E60D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16C2-DDF8-46C6-ADDC-A276C093D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002F1-742E-4F9B-B8C9-103E46B88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AA7D-5A17-43F0-81B1-3709DEE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42B-A412-4FF7-B619-963F653C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4410-A8FB-4CC7-AC49-1FC974BA2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B2B0-1E6C-420F-B001-8C2BC7A6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E379-65F0-42FC-AD81-E6055CDD9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0778-0248-4A79-BDC1-410029C8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2AC6A-F86E-4607-8B2F-1B3C3477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B4382-850B-4C43-96BE-38A7CDF6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2C84-F520-420C-ADFB-16B5E265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07268-982D-49B0-A75D-5D8CDC8F8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DB08C-2E6F-485B-8545-1D1F0CAF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71BDC-54DD-43FE-A9B1-3E93997E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1C96-071A-435A-99AD-D04DF594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3ED5A-BAF3-4EFD-859B-51BE0F1B1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40681-8ADF-46F4-A755-C610EA88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2395C-E7B5-4571-BF3E-BACB0FD2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BBDFA-5D68-470B-BD9F-D226C9DE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8C573-708E-45D8-B80D-771E6F053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42E57-8DE2-4115-AE14-D7CED1F18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EE0B0-EABB-42C9-BA51-E42396DBA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BF90-1FD4-49A9-9263-D32D6B22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CC6D9-AF8B-4E73-8565-3D55AA75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BEDB5-48A6-42FA-95BF-3EB2AF0A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6A6-80AF-41F5-B0D0-069C46121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5B8D8-66E2-4DB4-B7A7-9E99D597C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F9851-3768-4CE7-ABEE-2BB3C547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7BC23-99F4-488C-8DB8-DCE752D3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3ED72-A97A-4D3E-BC9F-9356E379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491D92-67F1-44B3-B071-59F089C2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2EE34-6139-4405-ADEA-88065C4C2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F82843-490B-47B6-80C4-4E7022E50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46DB67-C764-417A-A62B-7F904DBDE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3B252-3CAC-4FEC-A425-A9AB1A172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3B54D-4AB8-4B36-94DE-1BCE05089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E7A0-835B-447E-A26C-FBE834B05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683A74-B774-4EC9-A6A1-CE593896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FEA65-8D28-43D0-98EF-AA4C5AA73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99B0B9-2447-418F-9233-7E2F61B36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F6ED-C569-4892-B157-4A1A0D0F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81F00-837B-4744-B1A7-F86283B0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F3977-FCC0-40CA-AB2E-6072EE6C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AD429-E9C4-4B0E-9513-96FE7045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F7C38-BA95-4093-B4B5-1C53EEA9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6928D1-97A4-4F5A-B330-6FF3F742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D25C8-22B8-4DCA-A410-60A97C52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C63C-22AF-4DDC-9CE0-876ECC5E6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580397-8B36-4C70-982E-C1155458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CDA4-B7CB-477E-9C0C-EC413553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CE94-B710-4A83-A21A-8DE6A5F56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0995-6424-483F-9316-E0EE62A9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CC7D8-6831-423B-92AF-6772AC93967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393B-3635-4B56-97AB-316919B5DFB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8609-EDFD-4F39-AA57-E436FCDDDB6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EC93-B098-4237-A0EC-A2FEEA28C43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3426-EFD6-44FF-A29E-F4EE6FD0CD4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57A44-E130-4CDD-9EB0-E098C1329AB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okončení výkladu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isplej NXT kost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displeji lze zobrazit text, čísla nebo jednoduchou grafi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 použití kreslící funkce se zadávají souřadnice, kam má být text nebo grafika umístě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 snadný výpis je displej rozdělen na osm textových řádků označených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LCD_LINE1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ž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LCD_LINE8 –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užívají se místo y souřadni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ouřadnice (0,0) odpovídá levému spodnímu rohu disple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ymaže obsah displeje: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ClearScreen(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ypíše hodnotu proměnné na souřadnice (x,z)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NumOut(x,y,proměnná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doba funkce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NumOut()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ro výpis text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TextOut(x,y,text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ytvoření úsečky  bodu (x1,y1) do bodu (x2,y2)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LineOut(x1,y1,x2,y2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ružnice se středem v  bodě (x,y) a poloměrem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CircleOut(x,y,poloměr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Bod na souřadnicích (x,y)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PointOut(x,y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Funkce pro resetování displeje do výchozího stavu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ResetScreen(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44D8-9809-480C-AE07-EC7B9146022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Řešení jednoduchých úloh v NXC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99680" y="1213920"/>
            <a:ext cx="8358120" cy="46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loha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 řešení můžete použít svého robota nebo robota TASKBO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pevněte oba dotykové senzory (jeden na pravou stranu, druhý na levou stranu robota) tak, aby se dali ze shora stiskn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d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30800" indent="-1695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avý stisk 1x zrychlí o +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30800" indent="-16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ý stisk 1x zpomalí o -2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30800" indent="-1695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v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ý stisk 2x toč doprava o 90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30800" indent="-16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evý stisk 2x toč doleva o 90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6BD4E-8EDE-4A06-85DE-549E2EBD59F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Řešení jednoduchých úloh v NXC 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9680" y="1213920"/>
            <a:ext cx="8358120" cy="46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loha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 řešení můžete použít svého robota nebo robota TASKBOT – na čelní straně je potřeba mít upevněný ultrazvukový senzo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d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1749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 zakřičení se robot rozjed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1749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detekuje překážku, tak se zastaví a couv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1749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točí se o 45° a rozjede 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1749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de tak dlouho, dokud nenarazí na další překážku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54200" indent="-17496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F9CC-B6FA-44D1-A9F8-9E1FE83FDD5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99680" y="100008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[1] MOC, Ivan. Využití robota LEGO MINDSTORMS – návrh a realizace úloh, návod na programování v NXC. Praha, 2010. 64 s. Bakalářská práce. České vysoké učení technické v Praze, Fakulta elektrotechnická, Katedra řídící technik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] HANSEN, John. NXC Programmer’s Guide [online]. 2010-05-30 [cit. 2010-05-23]. The NXC Guide. Dostup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é z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W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http://bricxcc.sourceforge.net/nbc/nxcdoc/NXC_Guide.pdf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3] BENEDETTELLI, Daniele. Programming LEGO NXT Robots using NXC [online]. 2007-06-07 [cit. 2010-05-23]. The NXC Tutorial. Dostup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é z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W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bricxcc.sourceforge.net/nbc/nxcdoc/NXC_tutorial.pd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2985-4647-471E-B3A7-1A527828C0F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šení soutěžní úlohy „sledování čáry s křížením“        (projekt č. 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412E-C66E-4911-AE48-9CDF54E5D40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ončení výkladu programového prostředí NX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Řešení jednoduchých úloh v NXC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0C85B-ECE3-4EEF-BE75-6EF54399FF9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okončení výkladu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ráce se senz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kostka má 4 vstupní porty číslované od 1 do 4 pro přípojení  senzor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 určení portu se používají proměnné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IN_1, IN_2, IN_3, IN_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bo konstanty portů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1, S2, S3, S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měnné určující hodnotu senzoru: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ENSOR_1, SENSOR_2, SENSOR_3, SENSOR_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čtení hodnoty analogového senzoru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čtení hodnoty z digitální ultrazvukového senzor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vymazání hodnoty ze senzorů (má smysl jen u senzorů, které inkrementují hodnoty)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5BC03-2322-4EDC-851D-3940F981C94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rázek 8" descr="Sensor1.png"/>
          <p:cNvPicPr/>
          <p:nvPr/>
        </p:nvPicPr>
        <p:blipFill>
          <a:blip r:embed="rId1"/>
          <a:stretch/>
        </p:blipFill>
        <p:spPr>
          <a:xfrm>
            <a:off x="2643120" y="4214880"/>
            <a:ext cx="4724640" cy="495360"/>
          </a:xfrm>
          <a:prstGeom prst="rect">
            <a:avLst/>
          </a:prstGeom>
          <a:ln w="0">
            <a:noFill/>
          </a:ln>
        </p:spPr>
      </p:pic>
      <p:pic>
        <p:nvPicPr>
          <p:cNvPr id="233" name="Obrázek 9" descr="Sensor2.png"/>
          <p:cNvPicPr/>
          <p:nvPr/>
        </p:nvPicPr>
        <p:blipFill>
          <a:blip r:embed="rId2"/>
          <a:stretch/>
        </p:blipFill>
        <p:spPr>
          <a:xfrm>
            <a:off x="2643120" y="5143680"/>
            <a:ext cx="4353120" cy="371160"/>
          </a:xfrm>
          <a:prstGeom prst="rect">
            <a:avLst/>
          </a:prstGeom>
          <a:ln w="0">
            <a:noFill/>
          </a:ln>
        </p:spPr>
      </p:pic>
      <p:pic>
        <p:nvPicPr>
          <p:cNvPr id="234" name="Obrázek 10" descr="SensorClear.png"/>
          <p:cNvPicPr/>
          <p:nvPr/>
        </p:nvPicPr>
        <p:blipFill>
          <a:blip r:embed="rId3"/>
          <a:stretch/>
        </p:blipFill>
        <p:spPr>
          <a:xfrm>
            <a:off x="4357800" y="5857920"/>
            <a:ext cx="4419360" cy="3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okončení výkladu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ypy a módy senzor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nalogové senzory – dotykový, zvukový, světelný a rotační v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otore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igitální senzor – ultrazvukový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d použitím senzoru je nejprve nutná jeho identifikace pomocí funkce: 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SetSensorType(port, typ senzoru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rt je proměnná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IN_1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ž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IN_4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rčující, do jakého portu NXT kostky je připoje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ypy senzoru jsou následující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tykový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TYPE_TOU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ptický s aktivním osvětlováním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TYPE_LIGHT_AC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ptický bez aktivního osvětlování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TYPE_LIGHT_INACTI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vukový (dB)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TYPE_SOUND_D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vukový (dBA)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TYPE_SOUND_DB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ltrazvukový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TYPE_LOWSPEED_9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C961-A23A-438E-A868-B4347595FD3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okončení výkladu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ypy a módy senzor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nastavení chování senzoru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SetSensorMode(port, mó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ěkteré módy mají smysl jen pro určité senz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ypy módů jsou následující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odnota od 0 do 1023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MODE_RAW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epnuto ano/ne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MODE_BOO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čet sepnutí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MODE_EDG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čet sepnutí a rozepnutí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MODE_PULS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odnota od 0 do 100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NSOR_MODE_PERCEN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íklad mód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PERCENT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 výchozí pro světelný a zvukový senzor a funguje nad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RAW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módem, ze kterého převádí hodnotu na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.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yto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působy nastavování jsou velmi zdlouhavé, v NXC existují samostatné funkce pro každý senzo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68BA-3ABC-4ECD-8684-498A65799BA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okončení výkladu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Dotykový sen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a jednoduchého použití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enzor pracuje ve výchozím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BOOL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žim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tSensor(IN_1, SENSOR_TYPE_TOUCH)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e dá nahradit funkcí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etSensorTouch(IN_1)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- zápis funguje obdobně i u ostatních senzorů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071E-EE91-4F1E-AF2A-B91247376AD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ázek 6" descr="TouchExample.png"/>
          <p:cNvPicPr/>
          <p:nvPr/>
        </p:nvPicPr>
        <p:blipFill>
          <a:blip r:embed="rId1"/>
          <a:stretch/>
        </p:blipFill>
        <p:spPr>
          <a:xfrm>
            <a:off x="1571760" y="2428920"/>
            <a:ext cx="5252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větelný sen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ůže pracovat ve dvou módec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e zapnutou červenou LED diodou – snímá množství  odraženého světl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 vypnutou LED diodou – snímá množství okolního světla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a jednoduchého použití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tenzita odraženého světla závisí na odrazivosti materiálu, okolním osvětlení a vzdálenosti čidla od snímaného obj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ždy je potřeba předem zjistit v jakých mezích se pohybuje intenzita odraženého světla v daném prostředí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D8A72-986C-40DB-B0A0-EE28B71DA8D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Obrázek 7" descr="LightExample.png"/>
          <p:cNvPicPr/>
          <p:nvPr/>
        </p:nvPicPr>
        <p:blipFill>
          <a:blip r:embed="rId1"/>
          <a:stretch/>
        </p:blipFill>
        <p:spPr>
          <a:xfrm>
            <a:off x="1214280" y="3214800"/>
            <a:ext cx="5143680" cy="130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vukový sen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ování je velmi podobné jako u zvukového senz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a jednoduchého použití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D56D-C04E-4124-AFEF-29A7DB70420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Obrázek 6" descr="SoundExample.png"/>
          <p:cNvPicPr/>
          <p:nvPr/>
        </p:nvPicPr>
        <p:blipFill>
          <a:blip r:embed="rId1"/>
          <a:stretch/>
        </p:blipFill>
        <p:spPr>
          <a:xfrm>
            <a:off x="1071720" y="2786040"/>
            <a:ext cx="53895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okončení výkladu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Ultrazvukový sen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dná se o digitální senz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 schopen měřit vzdálenost v rozsahu 0 až 255cm s přesností   +/- 3c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a jednoduchého použití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423D8-DAD5-4EF8-BD5A-54C108AA734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Obrázek 7" descr="UltrazvukExample.png"/>
          <p:cNvPicPr/>
          <p:nvPr/>
        </p:nvPicPr>
        <p:blipFill>
          <a:blip r:embed="rId1"/>
          <a:stretch/>
        </p:blipFill>
        <p:spPr>
          <a:xfrm>
            <a:off x="1285920" y="3357720"/>
            <a:ext cx="55371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5T23:12:54Z</dcterms:created>
  <dc:creator>Jara</dc:creator>
  <dc:description/>
  <dc:language>en-US</dc:language>
  <cp:lastModifiedBy>DELL</cp:lastModifiedBy>
  <dcterms:modified xsi:type="dcterms:W3CDTF">2010-05-27T21:27:52Z</dcterms:modified>
  <cp:revision>32</cp:revision>
  <dc:subject/>
  <dc:title>Robotický seminář</dc:title>
</cp:coreProperties>
</file>