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04FC-A017-4C77-880B-668FB3F28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2C72-B9BB-4239-9078-22F5F0A4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1AE6-E6A1-4C50-9972-20747471D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D1C2-0EDE-40E0-9D4C-56509C5F3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CFA73-B103-475A-B423-957F87AAD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91831-5AEB-4DEC-8AD5-62F7EC3C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CB9F-A961-4161-AE97-341AD2B36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0C04-8C0C-4587-A78C-609E7FCA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19E6-804A-4EC7-80AC-11CC3715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9203-3B4B-4274-8ABE-CB1DA9BBB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4BBF4-AC46-43DF-9332-8C9189B74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4A24-9427-4B01-8506-8F2646E8C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56B2-3347-4624-A52D-F28285E0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0E91-CACD-4B45-92F8-3FBE91A69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0ADB-E4C3-4E50-8A6E-87DB7904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D1B3-1A75-4456-8578-032C71CD1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B9C0-02BB-4AF9-899B-3521C6ECC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33755-DF53-4DDF-91C0-C113E81B0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7D534-6E2C-4262-ACEC-65919BA9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7E668-5024-4E46-8F36-2C68C58B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80C83-88F9-4C96-8276-3B63AC5CE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B1D6C-E85A-45E2-BBE3-3A6ABC56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4258-E049-487A-ADE8-64F2F836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A2736-84E0-4867-B70F-4D09E7D48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663DA-F24D-4E9F-9C45-18DAEDFD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06046-238A-4837-AB9D-AFFE5CAAF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4434C-0750-4143-9357-ABA5A500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06200-7FB3-40D6-9777-79BAD8876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B5C6D-13CA-4E6E-8C53-B79B079EF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50C85-84E9-4B67-8E52-8150AE9D4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37BFE2-1C6A-4C91-AC73-17D572EC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0D917-AEFC-4654-BA51-AC7B6CA0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B78C17-A6AA-4F8A-AD35-F9F1401FF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D9F5-A9C4-4281-A090-5074C5D9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380D8-B8BC-4E6E-BB02-E68A30A7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EDBF24-936D-4BAA-87A2-E85DF007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32342-FD05-4738-BEFA-A30CE7031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19C59-B450-4C7B-A00B-B7D42F3E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934B7-4FEF-4AEE-BA1A-48D26C26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5579BE-8576-4FC2-A056-C42C36AF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A7C36-3681-4655-8D03-FD31295A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CFFB6-4F54-4BE6-809F-8759CFBF6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6E93E-616E-4049-B13F-B887CE085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8C31C-DEFE-4A00-AC9C-FE9556204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DCA5-0B5F-4C73-8516-FD44D617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3A1475-D77F-4F71-8E34-9E233EDCC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244F2-0C5E-4DB9-B7C0-EB69FBADB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36588F-1FBC-49F1-8349-DB3398B0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E1449-4BDC-46B1-92C2-E9EF38347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E2BCE6-02AE-4895-BA44-12C39C11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93F93-F508-4545-B058-82C08F2A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47716-ADE0-43B4-9D9B-6C5C433B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C983C-FE30-41DC-A59E-2E2DB366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76E8A-62B8-430C-8CA8-98160E329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34389-DA50-44E4-B4DB-F3296F90B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3E99-45C6-4E71-9A35-F3C803F3F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7D990-334A-4F0E-8307-74F89808D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DBE9-F453-4D44-B764-10FE06F25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36A2-6A67-4A12-B619-E2F40038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3815-D5B3-4F4E-9D05-2D968F9C9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aoblený obdélník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Zaoblený obdélník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Zaoblený obdélník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D924-0FE4-4189-B9E7-343401175CC6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Zaoblený obdélník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Zaoblený obdélník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45918-7501-4A51-B188-B32935FCEBF1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Zaoblený obdélník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Zaoblený obdélník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3F2E-CDFF-4D35-8613-144B202D7863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43A1-24C2-4372-ADE1-20FEAF5C957A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délník s jedním zakulaceným rohem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E09C-3379-4B0C-A5F3-C4DC59A959BF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85880" y="57168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8d3e"/>
                </a:solidFill>
                <a:latin typeface="Verdana"/>
              </a:rPr>
              <a:t>Robotický seminář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500040" y="1642680"/>
            <a:ext cx="8072640" cy="17859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9766f"/>
                </a:solidFill>
                <a:latin typeface="Verdana"/>
              </a:rPr>
              <a:t>Seminář čísl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9766f"/>
                </a:solidFill>
                <a:latin typeface="Verdana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vyučující:</a:t>
            </a: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Ing. Martin Hlinovský, Ph.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Zástupný symbol pro číslo snímku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809F4-96BD-4108-999F-89F2339570E2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Obrázek 3" descr="UvodniSLide_robot.jpg"/>
          <p:cNvPicPr/>
          <p:nvPr/>
        </p:nvPicPr>
        <p:blipFill>
          <a:blip r:embed="rId1"/>
          <a:stretch/>
        </p:blipFill>
        <p:spPr>
          <a:xfrm>
            <a:off x="500040" y="385776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224" name="Obrázek 4" descr="UvodniObrazek_stir.jpg"/>
          <p:cNvPicPr/>
          <p:nvPr/>
        </p:nvPicPr>
        <p:blipFill>
          <a:blip r:embed="rId2"/>
          <a:stretch/>
        </p:blipFill>
        <p:spPr>
          <a:xfrm>
            <a:off x="3071880" y="3857760"/>
            <a:ext cx="2714400" cy="2579400"/>
          </a:xfrm>
          <a:prstGeom prst="rect">
            <a:avLst/>
          </a:prstGeom>
          <a:ln w="0">
            <a:noFill/>
          </a:ln>
        </p:spPr>
      </p:pic>
      <p:pic>
        <p:nvPicPr>
          <p:cNvPr id="225" name="Obrázek 5" descr="UvodniObrazek_ruka.jpg"/>
          <p:cNvPicPr/>
          <p:nvPr/>
        </p:nvPicPr>
        <p:blipFill>
          <a:blip r:embed="rId3"/>
          <a:stretch/>
        </p:blipFill>
        <p:spPr>
          <a:xfrm>
            <a:off x="5786280" y="3857760"/>
            <a:ext cx="30085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Seznam zdrojů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99680" y="1000080"/>
            <a:ext cx="83581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[1] MARTINEC, Dan. Využití robota LEGO MINDSTORMS při výuce předmětu A3B99RO Roboti. Praha, 2010. 70 s. Bakalářská práce. České vysoké učení technické v Praze, Fakulta elektrotechnická, Katedra řídící technik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A915-157C-465E-814F-D3BC3A158066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Závěr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00040" y="1285560"/>
            <a:ext cx="8183520" cy="5143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rostor na případné dotaz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Co bude příště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okračování v řešení soutěžní úlohy „Sledování čáry s křížením“ (projekt č. 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Dvoukolová soutěž v úloze „Sledování čáry s křížením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Verdana"/>
              </a:rPr>
              <a:t>DĚKUJI ZA POZORNOST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Obrázky z úvodního slidu převzaty z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https://ai.ia.agh.edu.pl/wiki/mindstorms:histo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Verdana"/>
              </a:rPr>
              <a:t>http://digiredo.wordpress.com/2010/02/13/enterprise-2-0-not-if-but-when-do-you-start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Verdana"/>
              </a:rPr>
              <a:t>http://gizmodo.com/168532/lego-mindstorms-nxt-software-going-open-sou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57765-9653-4B03-B486-02ED067618CA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Obsah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0040" y="1214280"/>
            <a:ext cx="81835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Řešení soutěžní úlohy „Sledování čáry s křížením“ (projekt č. 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4CC3-496B-4DBA-93E7-F971E960C3E8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Úvod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00040" y="1214280"/>
            <a:ext cx="8215200" cy="5214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 minulém roce byla jako projekt č. 1 soutěžní úloha „Sledování čáry“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yhrál tým, jehož robot projel za co nejkratší dobu stanovenou dráh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ro tento rok nese první soutěžní úloha název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ledování čáry s křížením“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Poznámka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ásledující informace o soutěžní úloze převzaty z Bakalářské práce Dana Martince, studenta 3. ročníku ČVUT, FEL , Praha, 2010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2D4C-3CF4-4879-BBC6-CA40F4A07DC9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 „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Sledování čáry s křížením“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00040" y="1214280"/>
            <a:ext cx="8183520" cy="5214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Cíl úloh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Robot musí samostatně a co nejrychleji ujet dvě kola po vyznačené dráze, aniž by se střetl s robotem soupeř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Technické prostředk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ro každý tým je k dispozic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Základní souprava LEGO® MINDSTORSM® Education (9797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ouprava doplňkových technických dílů (9648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íťový adaptér (9833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Robota lze sestrojit libovolným způsobem, ale pouze pomocí součástek ze zapůjčených souprav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Zákaz vypůjčování součástek od jiných týmů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ři vlastní soutěži je možné použít pouze akumulátor nebo baterie, nikoliv síťový adapté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7851-3A90-47EA-94EA-D4E57ECB3412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 „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Sledování čáry s křížením“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00040" y="1214280"/>
            <a:ext cx="8183520" cy="5143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Pravidla pro průjezd dráh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Do startovní pozice lze robota položit ručně, dále musí pokračovat sám bez jakékoliv pomoc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Robot musí ujet dvě kola na dráze – jedno kolo vnitřní drahou, jedno kolo vnější drahou =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&gt;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cílová pozice stejná jako startovní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Robot při průjezdu nesmí přesáhnout žádnou svojí částí hranici své dráhy – vyznačena žlutou čaro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rostor křížení je vyznačen žlutou čarou – robot, který jako první překročí tuto čáru, má na křižovatce přednost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 případě kolize bude posouzena míra zavinění a v dané rozjížďce diskvalifikován ten robot, který porušil pravidl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okud je viník kolize nejasný, může se zopakovat rozjížďka s prohozenými startovními pozicemi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okud by se měla třikrát opakovat, bude závod ukončen jako nerozhodnutý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ři porušení jakéhokoliv pravidla je robot v příslušné rozjížďce diskvalifikován – druhý robot musí ale jízdu dokonči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Diskvalifikace obou robotů je brána jako nerozhodný výslede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EBC17-C5D2-411C-93A8-C434F5511F1C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 „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Sledování čáry s křížením“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99680" y="1214280"/>
            <a:ext cx="8286840" cy="5143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Podrobnosti o soutěžní dráz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odící čáru představují dvě souběžně vedené černé čáry s tloušťkou cca 10 m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zdálenost mezi nimi je cca 20 m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Rovný úsek dráhy je dlouhý 1000 m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oloměr vnějšího oblouku 560mm – délka 1759 m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oloměr vnitřního oblouku je 200 mm – délka 628 mm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Na rovném úseku je žlutou čarou vyznačen startovní prostor – čtverec o straně 350 mm, jehož středem prochází vodící čár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Robot musí být při startu celý v tomto prostor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tart je vyznačen 155 mm od první zatáčk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rostor křížení začíná 155 mm za první zatáčkou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oloměr zatáčky realizované v křížení je 200 mm – délka dráhy je 157 m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Délka rovného úseku je 343 m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Hranice dráhy, ve které se smí robot pohybovat je široká 350 mm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Celková dráha, kterou robot musí ujet – obě dvě kola – 9036 mm  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DE24-3F19-469C-8D59-F396F0951F47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 „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Sledování čáry s křížením“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99680" y="1214280"/>
            <a:ext cx="8286840" cy="5143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Podrobnosti o soutěžní dráz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D002E-B3D7-4A37-8C46-F5A7A49658FA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Obrázek 4" descr="Draha.png"/>
          <p:cNvPicPr/>
          <p:nvPr/>
        </p:nvPicPr>
        <p:blipFill>
          <a:blip r:embed="rId1"/>
          <a:stretch/>
        </p:blipFill>
        <p:spPr>
          <a:xfrm>
            <a:off x="1352520" y="1852560"/>
            <a:ext cx="6407280" cy="3902040"/>
          </a:xfrm>
          <a:prstGeom prst="rect">
            <a:avLst/>
          </a:prstGeom>
          <a:ln w="0">
            <a:noFill/>
          </a:ln>
        </p:spPr>
      </p:pic>
      <p:sp>
        <p:nvSpPr>
          <p:cNvPr id="245" name="Zástupný symbol pro zápatí 6"/>
          <p:cNvSpPr/>
          <p:nvPr/>
        </p:nvSpPr>
        <p:spPr>
          <a:xfrm>
            <a:off x="428760" y="6111720"/>
            <a:ext cx="7920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Obrázek převzat z: Bakalářská práce, Využití robota LEGO MINDSTORMS při výuce předmětu A3B99RO Roboti, Dan Martinec, ČVUT, FEL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 „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Sledování čáry s křížením“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99680" y="1214280"/>
            <a:ext cx="8286840" cy="5143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Ukázka vyřešené úloh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Takto vypadá řešení Dana Marti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Aby vám video fungovalo, tak je potřeba mít nastavený jako defaultní přehrávač Windows Media Playe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A29BF-B0FA-4FF0-9304-ECDC8D490A46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NXT Zig-Zag Double Line Follower With Crossroad Race_by_DanMartinec.avi" descr=""/>
          <p:cNvPicPr/>
          <p:nvPr/>
        </p:nvPicPr>
        <p:blipFill>
          <a:blip r:embed="rId1"/>
          <a:stretch/>
        </p:blipFill>
        <p:spPr>
          <a:xfrm>
            <a:off x="2071800" y="2071800"/>
            <a:ext cx="4786200" cy="3589200"/>
          </a:xfrm>
          <a:prstGeom prst="rect">
            <a:avLst/>
          </a:prstGeom>
          <a:ln w="0">
            <a:noFill/>
          </a:ln>
        </p:spPr>
      </p:pic>
      <p:sp>
        <p:nvSpPr>
          <p:cNvPr id="250" name="Zástupný symbol pro zápatí 6"/>
          <p:cNvSpPr/>
          <p:nvPr/>
        </p:nvSpPr>
        <p:spPr>
          <a:xfrm>
            <a:off x="428760" y="6111720"/>
            <a:ext cx="7920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Video převzato z: http://www.youtube.com/watch?v=3MyySutVGH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 „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Sledování čáry s křížením“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99680" y="1214280"/>
            <a:ext cx="8286840" cy="5143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eď už je to jen na každém týmu, jakou zvolí taktiku a metodu řešení úlohy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Hodně zdaru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DD6C-8808-4ABF-AEE5-3D168FF0658E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00:58:43Z</dcterms:created>
  <dc:creator>Jara</dc:creator>
  <dc:description/>
  <dc:language>en-US</dc:language>
  <cp:lastModifiedBy>Jara</cp:lastModifiedBy>
  <dcterms:modified xsi:type="dcterms:W3CDTF">2010-05-28T00:43:03Z</dcterms:modified>
  <cp:revision>60</cp:revision>
  <dc:subject/>
  <dc:title>Robotický seminář</dc:title>
</cp:coreProperties>
</file>